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B0A-66A5-4B2B-AAD2-DA9E680B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63E-E352-4F5A-9649-39A24487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806-489A-446A-827D-AB48AD1B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1EB-9A24-48E8-B55F-5EBBFBC8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183-7656-4764-8502-D1C5C90F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027-4BD7-4CD9-8C0F-0955F6EA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E1B-745B-47CF-9588-8572A12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E63-9FB8-472E-AD27-7C7AEE1A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AFD-452D-43C2-9246-2BDD08D8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6B9-8514-4A02-BD7B-9E331BDD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329-AB69-4DDD-9676-88938AC0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B2C-ED5A-4E16-AE83-E6FDB672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D758D-D4C7-4ACF-86E2-70D8A3184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51080" y="1847880"/>
            <a:ext cx="5657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4:32:33Z</dcterms:created>
  <dc:creator/>
  <dc:description/>
  <dc:language>en-US</dc:language>
  <cp:lastModifiedBy>Leandro Rossi Sampaio</cp:lastModifiedBy>
  <dcterms:modified xsi:type="dcterms:W3CDTF">2010-08-30T14:35:31Z</dcterms:modified>
  <cp:revision>3</cp:revision>
  <dc:subject/>
  <dc:title/>
</cp:coreProperties>
</file>