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20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8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46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3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60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161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  <p:sldId id="408" r:id="rId155"/>
    <p:sldId id="409" r:id="rId156"/>
    <p:sldId id="410" r:id="rId157"/>
    <p:sldId id="411" r:id="rId158"/>
    <p:sldId id="412" r:id="rId159"/>
    <p:sldId id="413" r:id="rId160"/>
    <p:sldId id="414" r:id="rId161"/>
    <p:sldId id="415" r:id="rId162"/>
    <p:sldId id="416" r:id="rId163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slide" Target="slides/slide153.xml"/><Relationship Id="rId156" Type="http://schemas.openxmlformats.org/officeDocument/2006/relationships/slide" Target="slides/slide154.xml"/><Relationship Id="rId157" Type="http://schemas.openxmlformats.org/officeDocument/2006/relationships/slide" Target="slides/slide155.xml"/><Relationship Id="rId158" Type="http://schemas.openxmlformats.org/officeDocument/2006/relationships/slide" Target="slides/slide156.xml"/><Relationship Id="rId159" Type="http://schemas.openxmlformats.org/officeDocument/2006/relationships/slide" Target="slides/slide157.xml"/><Relationship Id="rId160" Type="http://schemas.openxmlformats.org/officeDocument/2006/relationships/slide" Target="slides/slide158.xml"/><Relationship Id="rId161" Type="http://schemas.openxmlformats.org/officeDocument/2006/relationships/slide" Target="slides/slide159.xml"/><Relationship Id="rId162" Type="http://schemas.openxmlformats.org/officeDocument/2006/relationships/slide" Target="slides/slide160.xml"/><Relationship Id="rId163" Type="http://schemas.openxmlformats.org/officeDocument/2006/relationships/slide" Target="slides/slide161.xml"/><Relationship Id="rId1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81598-00D2-4820-AA71-D7E104DBF8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9480" y="3292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4F27C-F550-4D39-8EEC-896B00FD51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216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29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92160" y="329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FCD25-DDF5-4629-847B-E70E152C60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7480" y="1143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65120" y="1143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09480" y="3292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7480" y="3292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65120" y="3292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8A96E-1894-460D-96E0-C5BB7A892A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60852-55D5-476A-AF7A-E23B108F8F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34FEA-05E4-4179-A7FD-0A69746BC7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92160" y="1143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C015D-4294-40F9-903F-5872F37B02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CC9EF-E6B7-4E1A-8DD0-DAB1DDF461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3CF34-88D1-4E64-94A9-D4B9C7A319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92160" y="1143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09480" y="329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70AC3-11CB-4979-8AC8-C27ECE9583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9216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92160" y="329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050E9-D103-489C-9C73-9F73436BE9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216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9480" y="3292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4F60C-12F5-4C0F-AFAF-8F2F212827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0" y="6629400"/>
            <a:ext cx="9144000" cy="763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90000" rIns="90000" tIns="29520" bIns="2952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648E3-2471-4003-8C21-D65EB5CBA8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9.xml"/><Relationship Id="rId3" Type="http://schemas.openxmlformats.org/officeDocument/2006/relationships/slide" Target="slide96.xml"/><Relationship Id="rId4" Type="http://schemas.openxmlformats.org/officeDocument/2006/relationships/slide" Target="slide66.xml"/><Relationship Id="rId5" Type="http://schemas.openxmlformats.org/officeDocument/2006/relationships/slide" Target="slide82.xml"/><Relationship Id="rId6" Type="http://schemas.openxmlformats.org/officeDocument/2006/relationships/slide" Target="slide140.xml"/><Relationship Id="rId7" Type="http://schemas.openxmlformats.org/officeDocument/2006/relationships/slide" Target="slide147.xml"/><Relationship Id="rId8" Type="http://schemas.openxmlformats.org/officeDocument/2006/relationships/slide" Target="slide71.xml"/><Relationship Id="rId9" Type="http://schemas.openxmlformats.org/officeDocument/2006/relationships/slide" Target="slide75.xml"/><Relationship Id="rId10" Type="http://schemas.openxmlformats.org/officeDocument/2006/relationships/slide" Target="slide79.xml"/><Relationship Id="rId11" Type="http://schemas.openxmlformats.org/officeDocument/2006/relationships/slide" Target="slide86.xml"/><Relationship Id="rId12" Type="http://schemas.openxmlformats.org/officeDocument/2006/relationships/slide" Target="slide90.xml"/><Relationship Id="rId13" Type="http://schemas.openxmlformats.org/officeDocument/2006/relationships/slide" Target="slide92.xml"/><Relationship Id="rId14" Type="http://schemas.openxmlformats.org/officeDocument/2006/relationships/slide" Target="slide23.xml"/><Relationship Id="rId15" Type="http://schemas.openxmlformats.org/officeDocument/2006/relationships/slide" Target="slide33.xml"/><Relationship Id="rId16" Type="http://schemas.openxmlformats.org/officeDocument/2006/relationships/slide" Target="slide47.xml"/><Relationship Id="rId17" Type="http://schemas.openxmlformats.org/officeDocument/2006/relationships/slide" Target="slide60.xml"/><Relationship Id="rId18" Type="http://schemas.openxmlformats.org/officeDocument/2006/relationships/slide" Target="slide63.xml"/><Relationship Id="rId1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52280" y="213336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ESTRUTURA ORGANIZACIONA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CREA-S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Novembro / 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1600"/>
            <a:ext cx="9144000" cy="763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3733560" cy="85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C165C-5BF5-4B16-A8C0-1223AF9AE7C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pel principal da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dade Administrativa do Gabinete da Presidê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" y="2198520"/>
            <a:ext cx="8610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lanejar, organizar, coordenar, revisar e orientar a execução das atividades afetas ao Gabinete da Presidência, com rigoroso cumprimento das mesmas, para atender as demandas do Presidente, como também do Chefe de Gabinete e Diret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A3DBD-1273-49E2-A8CF-A81B22EBBEC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ribuições da Superintendência Oper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04920" y="1295280"/>
            <a:ext cx="85341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8800" indent="-388800" algn="just">
              <a:lnSpc>
                <a:spcPct val="13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valiar os procedimentos da Superintendência Operacional, assim como fazer cumprir eventuais determinações oriundas de análises de auditoria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3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por revisão, atualizar e divulgar novos procedimentos ou regimentos na esfera da Superintendência Operacion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3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por e implementar ações de racionalização na tramitação de processos de todas as ordens, exceto os de ordem “L”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3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articipar do Planejamento Estratégico do Crea-SP, assim como da proposição, coordenação, execução, acompanhamento e cooperação para as metas definid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7356F-DC36-4980-BDF3-4793C2EB79F3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pel principal dos Departamentos Region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152280" y="1066320"/>
            <a:ext cx="87631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8800" indent="-388800" algn="just">
              <a:lnSpc>
                <a:spcPct val="130000"/>
              </a:lnSpc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r e acompanhar o planejamento anual das ações de fiscalizaçã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30000"/>
              </a:lnSpc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iscalizar o exercício profissional na região sob sua jurisdiçã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30000"/>
              </a:lnSpc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stabelecer parcerias com órgãos da comunidade pública e ONG’s para melhorar tanto o papel exercido como a representatividade do Crea-S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30000"/>
              </a:lnSpc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r e submeter à gerência regional, cronograma físico-financeiro das atividades relativas aos deslocamentos para o exercício de sua função, assim como a apresentação de resultados internos e externos das unidade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30000"/>
              </a:lnSpc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rientar os usuários do sistema sobre as legislações pertinentes à área tecnológic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30000"/>
              </a:lnSpc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tender e prestar serviços ao público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010280" y="6172200"/>
            <a:ext cx="1143000" cy="38088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4780" h="21600">
                <a:moveTo>
                  <a:pt x="0" y="0"/>
                </a:moveTo>
                <a:lnTo>
                  <a:pt x="64780" y="0"/>
                </a:lnTo>
                <a:lnTo>
                  <a:pt x="64780" y="21600"/>
                </a:lnTo>
                <a:lnTo>
                  <a:pt x="0" y="21600"/>
                </a:lnTo>
                <a:close/>
              </a:path>
              <a:path fill="lightenLess" w="64780" h="21600">
                <a:moveTo>
                  <a:pt x="0" y="0"/>
                </a:moveTo>
                <a:lnTo>
                  <a:pt x="64780" y="0"/>
                </a:lnTo>
                <a:lnTo>
                  <a:pt x="63380" y="1400"/>
                </a:lnTo>
                <a:lnTo>
                  <a:pt x="1400" y="1400"/>
                </a:lnTo>
                <a:close/>
              </a:path>
              <a:path fill="darken" w="64780" h="21600">
                <a:moveTo>
                  <a:pt x="64780" y="0"/>
                </a:moveTo>
                <a:lnTo>
                  <a:pt x="64780" y="21600"/>
                </a:lnTo>
                <a:lnTo>
                  <a:pt x="63380" y="20200"/>
                </a:lnTo>
                <a:lnTo>
                  <a:pt x="63380" y="1400"/>
                </a:lnTo>
                <a:close/>
              </a:path>
              <a:path fill="darkenLess" w="64780" h="21600">
                <a:moveTo>
                  <a:pt x="64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80" y="20200"/>
                </a:lnTo>
                <a:close/>
              </a:path>
              <a:path fill="lighten" w="64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oltar ao sumá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84E27-CA1F-49BA-B9A0-ABA2C963E147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ribuições dos Departamentos Regionais e 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dades de Gestão e Operacionais de Inspeto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52280" y="2235240"/>
            <a:ext cx="8839440" cy="39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just">
              <a:lnSpc>
                <a:spcPct val="100000"/>
              </a:lnSpc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ssessorar o presidente e a diretoria quando em visita na região de sua jurisdiçã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r roteiro mensal de fiscalizaçã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erificar e controlar o cumprimento do roteiro de fiscalizaçã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er a fiscalizaçã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lo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e emitir notificações e/ou multa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por parcerias e acordos de atuação conjunta de fiscalização com outros órgãos e entidades locai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icar obras e empreendimentos; profissionais ou empresas atuando de forma irregular quanto ao exercício profission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/>
          </p:nvPr>
        </p:nvSpPr>
        <p:spPr>
          <a:xfrm>
            <a:off x="152280" y="10666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Aft>
                <a:spcPts val="2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atividades destacadas com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*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ão desenvolvidas também pelas Unidades de Postos de Serviç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27B77-5268-41CC-89D5-D4443EA47D37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ribuições dos Departamentos Regionais e 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dades de Gestão e Operacionais de Inspeto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04920" y="3429000"/>
            <a:ext cx="853416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8800" indent="-388800" algn="just">
              <a:lnSpc>
                <a:spcPct val="100000"/>
              </a:lnSpc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/>
          </p:nvPr>
        </p:nvSpPr>
        <p:spPr>
          <a:xfrm>
            <a:off x="152280" y="12189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just">
              <a:lnSpc>
                <a:spcPct val="100000"/>
              </a:lnSpc>
              <a:spcAft>
                <a:spcPts val="23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Ministrar palestras para divulgar a legislação do Sistema Confea/Creas nas entidades e instituições da área tecnológica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Aft>
                <a:spcPts val="23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Submeter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processos às CAFs - Comissão Auxiliar de Fiscalização regionais, às câmaras especializadas e ao plenário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Aft>
                <a:spcPts val="23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Participar,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acompanhar e analisar os resultados das reuniões das </a:t>
            </a:r>
            <a:br>
              <a:rPr sz="1900"/>
            </a:b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CAFs e seus resultados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Aft>
                <a:spcPts val="23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Receber, protocolizar, analisar os documentos e dar prosseguimento no assunto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Aft>
                <a:spcPts val="23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Abrir e instruir processos de todas as ordens, exceto os de ordem “L”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Aft>
                <a:spcPts val="23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Controlar o fluxo e tramitação dos processos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Aft>
                <a:spcPts val="23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Cumprir as decisões das câmaras especializadas e do plenário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C732E-85BB-4802-AD7C-6E8DEE61EE3A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ribuições dos Departamentos Regionais e 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dades de Gestão e Operacionais de Inspeto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04920" y="3429000"/>
            <a:ext cx="853416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8800" indent="-388800" algn="just">
              <a:lnSpc>
                <a:spcPct val="100000"/>
              </a:lnSpc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28600" y="990720"/>
            <a:ext cx="868680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just">
              <a:lnSpc>
                <a:spcPct val="100000"/>
              </a:lnSpc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icar formandos nas instituições de ensino para registro de novos profissionai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orte administrativo aos conselheiros, inspetores e outros representantes do Crea-SP quando no exercício de atribuições da competência dos mesm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enciar contrato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 cessão de uso e espaço das entidades em que 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-SP mantém sede, e também os de reforma, construção de sede e convênios, assim como os demais contratos referentes a atos/resoluçõe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1125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borar NERP’s – Notas de Empenho de Ressarcimento e Pagamento e NEC’s – Notas de Empenho de Compra/Serviço e encaminhá-las a sede do Crea-SP para as providências necessária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28600" y="4952880"/>
            <a:ext cx="8686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 algn="just">
              <a:lnSpc>
                <a:spcPct val="100000"/>
              </a:lnSpc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videnciar o registro de profissionais, empresas e instituições de ensin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 algn="just">
              <a:lnSpc>
                <a:spcPct val="100000"/>
              </a:lnSpc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mitir vistos de pessoa física e jurídica, anotações, revalidação e reabilitação de registro, anotações de alteração de pessoa jurídica; pedidos de segunda via de carteira; acervo técnic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457A9-3554-474B-8618-C650973324A0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ribuições dos Departamentos Regionais e 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dades de Gestão e Operacionais de Inspeto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66680" y="1447920"/>
            <a:ext cx="53341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52280" y="1143000"/>
            <a:ext cx="8610840" cy="52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3040" indent="-473040" algn="just">
              <a:lnSpc>
                <a:spcPct val="100000"/>
              </a:lnSpc>
              <a:spcAft>
                <a:spcPts val="33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Manter atualizado o cadastro de registro de profissionais e empresa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73040" algn="just">
              <a:lnSpc>
                <a:spcPct val="100000"/>
              </a:lnSpc>
              <a:spcAft>
                <a:spcPts val="33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Emitir certidões, ofícios, boletos de anuidade e de prestação de serviç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73040" algn="just">
              <a:lnSpc>
                <a:spcPct val="100000"/>
              </a:lnSpc>
              <a:spcAft>
                <a:spcPts val="33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tender profissionais, empresas, entidades e demais usuários para prestar esclarecimentos do papel e a legislação de assuntos afetos ao Crea-SP, assim como andamento de process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73040" algn="just">
              <a:lnSpc>
                <a:spcPct val="10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colher as denúncias de falta ética e informações de sinistros. Pesquisar a documentação existente no Crea-SP e buscar informações adicionais para subsidiar a abertura e/ou exame do process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73040" algn="just">
              <a:lnSpc>
                <a:spcPct val="10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Dar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oio logístico no processo eleitoral do Sistema Confea/Creas para os cargos de presidentes e conselheir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73040" algn="just">
              <a:lnSpc>
                <a:spcPct val="100000"/>
              </a:lnSpc>
              <a:spcAft>
                <a:spcPts val="33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eparar e despachar o malote via corre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CBB24-F5CE-4F5E-8C48-6D04346ADA55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pel principal do Departamento de Controle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retrizes de Fiscaliz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/>
          </p:nvPr>
        </p:nvSpPr>
        <p:spPr>
          <a:xfrm>
            <a:off x="304920" y="838080"/>
            <a:ext cx="85341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8800" indent="-388800" algn="just">
              <a:lnSpc>
                <a:spcPct val="13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senvolver planos ou projetos de fiscalização especial e, quando necessário, coordenar e supervisionar as ações fiscais de campo abrangentes dos departamentos regionais do Estado ou em municípios localizados sob sua jurisdiçã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3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eparar e ministrar treinamentos e promover reuniões regionalizadas para uniformizar os procedimentos de ações fiscais em todas as unidades da Superintendência Operacional; em consonância com as resoluções do Confea, atos normativos e diretrizes emanadas das câmaras especializadas do Crea-S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3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ceber, compilar e analisar os dados constantes dos relatórios de atividades da fiscalização executadas pelos departamentos regionais, e encaminhar às câmaras especializadas e à diretoria para conhecimento e/ou para direcionar as ações a serem desencadeadas pelos agentes fisca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2DF79-B962-4D25-BFF7-B1FCA7067B1A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ribuições do Departamento de Controle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retrizes de Fiscaliz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8800" indent="-388800" algn="just">
              <a:lnSpc>
                <a:spcPct val="13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envolver estudos, análises e apresentar proposituras relativas a assuntos direta ou indiretamente vinculados à área da fiscalizaçã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3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ender às consultas relacionadas à área da fiscalização formuladas pelos públicos interno e extern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3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ssorar a Superintendência Operacional na elaboração de estudos, planos e apresentação de proposituras para a consecução do SEFISC -Seminário Anual de Fiscalização, assim como nos demais assuntos relativos á área da fiscalizaçã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3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envolver planos e/ou projetos de ações de fiscalização especial e realizar treinamentos para a sua implementaçã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F35CD-C76E-448D-B99B-5AE0FDDBA62A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ribuições do Departamento de Controle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retrizes de Fiscaliz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/>
          </p:nvPr>
        </p:nvSpPr>
        <p:spPr>
          <a:xfrm>
            <a:off x="228600" y="9907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8800" indent="-388800" algn="just">
              <a:lnSpc>
                <a:spcPct val="100000"/>
              </a:lnSpc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lanejar, organizar e supervisionar em campo as ações das fiscalizações especiai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nalisar os relatórios de atividades da fiscalização dos departamentos regionais para direcionar as ações a serem desencadeada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formar ao Departamento de Informática as necessidades e os requisitos voltados para o desenvolvimento de programas e/ou sistemas de fiscalizaçã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laborar o projeto PRODAFISC – Programa de Desenvolvimento e Aperfeiçoamento da Fiscalização ou outros projetos de fiscalização, que contemplam treinamento e aquisição de equipamentos necessários para a fiscalizaçã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sessorar as câmaras especializadas e os grupos técnicos de trabalho para desenvolver projetos e execução de ação de fiscalização específic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nter interfaceamento com as demais áreas para tratar de assuntos inerentes à fiscalizaçã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2A7D9-BA6B-45BD-94C6-52B0794B6A0D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pel principal do Departament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role e Diretrizes de Registro e Instrução de Proces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/>
          </p:nvPr>
        </p:nvSpPr>
        <p:spPr>
          <a:xfrm>
            <a:off x="228240" y="91404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80880" indent="-380880" algn="just">
              <a:lnSpc>
                <a:spcPct val="120000"/>
              </a:lnSpc>
              <a:spcAft>
                <a:spcPts val="29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ejar, organizar, dirigir e controlar a execução das atividades inerentes a sua área de atuaçã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20000"/>
              </a:lnSpc>
              <a:spcAft>
                <a:spcPts val="29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elecer as diretrizes básicas para instrução de processo de registro, cadastro e fiscalização de empresa, profissional, instituição de ensino, recolhimento de ART e concessão de acervo técnico, de acordo com os parâmetros estabelecidos pela área institucional do Crea-S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20000"/>
              </a:lnSpc>
              <a:spcAft>
                <a:spcPts val="29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r ações de melhoria nos serviços prestados pelas unidades subordinadas à SUPOPE - Superintendência Operacion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20000"/>
              </a:lnSpc>
              <a:spcAft>
                <a:spcPts val="29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ar e ministrar treinamentos e realizar reuniões regionalizadas para uniformizar os procedimentos administrativos em todas as unidades da Superintendência Operacio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B4444-174F-43DC-A11C-E1C01F2BC1D8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tribuições da Unidade Administrativa do Gabinete da Presidênc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06668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3000" indent="-11430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1378080"/>
            <a:ext cx="8763120" cy="45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just">
              <a:lnSpc>
                <a:spcPct val="10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Assessorar o Presidente em suas representações administrativas, para tanto, organizar e coordenar as tarefas do Gabinete da Presidênci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Acompanhar e assessorar o Presidente em eventos, solenidades e reuniõe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Coordenar o atendimento direto aos Diretores, Inspetores, Conselheiros e Presidentes de Entidades e Instituições de Ensino ligados ao Sistema Confea/Crea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Manter contato com o públicos interno e externo para tratar de assuntos afetos ao Crea-SP e/ou para viabilizar encontros com o President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Agendar encontros, reuniões, visitas e viagens para o Presidente tratar de assuntos afetos ao Crea-S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0B4B9-204A-4932-A27A-1449B7EFBB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ribuições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 Departament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role e Diretrizes de Registro e Instrução de Proces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8800" indent="-388800" algn="just">
              <a:lnSpc>
                <a:spcPct val="100000"/>
              </a:lnSpc>
              <a:spcAft>
                <a:spcPts val="29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tabelecer, auditar, assegurar e propor ações e instrução de processos para cumprir as metas pretendidas. Otimizar e padronizar os procedimentos praticados em todas as unidades da SUPOP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29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rientar as atividades de instrução de processos desenvolvidas nas unidades da SUPOPE, em razão das atualizações dos sistemas informatizados (SIC – Sistema de Informações Cadastrais, 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reaDoc, Gerenciador Eletrônico de Documentos e Protocolos, Sistema de ART – Anotação de Responsabilidade Técnica e 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T – Certidão de Acervo Técnico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29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nalisar os assuntos de registro e cadastro e apresentar os resultados e fundamentações legais pertinent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29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presentar planos organizacionais para registro e cadastro; elaborar gráficos, roteiros e manuais de procediment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9515E-752C-4008-BB95-2BDF9CEFFB25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ribuições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 Departament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role e Diretrizes de Registro e Instrução de Proces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/>
          </p:nvPr>
        </p:nvSpPr>
        <p:spPr>
          <a:xfrm>
            <a:off x="228600" y="9903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8800" indent="-388800" algn="just">
              <a:lnSpc>
                <a:spcPct val="100000"/>
              </a:lnSpc>
              <a:spcAft>
                <a:spcPts val="31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por e elaborar Normas e POPs - Procedimentos Operacionais Padronizados para disciplinar a execução dos serviços praticados nas unidades e aprimorar os métodos de trabalh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31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por e implementar ações de racionalização na tramitação de processos ligados ao registro e cadastro de profissional, empresa, fiscalização e acervo técnic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31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clarecer dúvidas das Unidades de Gestão e Operacionais de Inspetorias com relação à coleta de assinatura digital, geração de guia de malotes e distribuição das carteiras por meio de contato telefônico ou por correio eletrônic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31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nter contato com o Confea e com a empresa contratada para digitalização e impressão das carteiras;  para sanar dúvidas e resolver problema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31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dentificar dificuldades/falhas operacionais nas regionais e propor medidas corretiva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EEC6B-707C-4618-A4FB-24B62F744FAC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ribuições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 Departament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role e Diretrizes de Registro e Instrução de Proces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/>
          </p:nvPr>
        </p:nvSpPr>
        <p:spPr>
          <a:xfrm>
            <a:off x="228240" y="9140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8800" indent="-388800" algn="just">
              <a:lnSpc>
                <a:spcPct val="100000"/>
              </a:lnSpc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companhar equipes de trabalho de auditoria e de treinamento e avaliar os resultad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mover a integração entre o Confea/Mútua e Associações de Classe e o Crea-S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nalisar as deliberações da presidência e/ou diretoria e determinar a adoção das providências pertinente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sessorar o Superintendente Operacional nos assuntos relativos à área de instrução de processos de registro e cadastro, assim como elaborar estudos/planos e apresentar proposituras para a consecução de treinamento na área funcion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trolar as atividades ligadas à instrução de processos para avaliar a performance da rotina e demanda das atividades desenvolvidas nas gerências regionai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ceber, conferir, pesquisar, analisar e providenciar os trâmites de documentos e responder as consultas, quando pertinente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0FA47-D192-4C9D-8226-9B9A4D9EA8C8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ribuições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 Departament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role e Diretrizes de Registro e Instrução de Proces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/>
          </p:nvPr>
        </p:nvSpPr>
        <p:spPr>
          <a:xfrm>
            <a:off x="228600" y="9907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8800" indent="-388800" algn="just">
              <a:lnSpc>
                <a:spcPct val="100000"/>
              </a:lnSpc>
              <a:spcAft>
                <a:spcPts val="27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laborar e analisar relatórios, planilhas, gráficos com os indicadores das atividades executadas para direcionar as ações a serem desencadeada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27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ceber, organizar e controlar os documentos protocolados, assim como as carteiras nacionais emitidas pelo Sistema SIC e distribuí-las às unidades operacionais UGIs/UOP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27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ceber, separar, protocolizar e organizar os documentos recebidos do Correio e distribuí-los às UGIs/UOPs 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27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ceber, separar, validar e controlar os protocolos recebidos das unidades. Enviar à empresa contratada para digitalização ou devolver às unidades para as devidas correçõe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27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ceber, verificar, analisar e propor orientações às UGIs/UOPs de assuntos inerentes à aplicação dos procedimentos administrativos, com base nas instruções normativas, como: resoluções, decisões de câmaras especializadas e instruçõ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2145B-1093-4CF0-8D34-B79DC3B8AEF2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pel principal da Unidade de Atendimento ao Usuá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/>
          </p:nvPr>
        </p:nvSpPr>
        <p:spPr>
          <a:xfrm>
            <a:off x="304560" y="175212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50000"/>
              </a:lnSpc>
              <a:spcAft>
                <a:spcPts val="45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estar esclarecimentos e informações, via telefone 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e-mai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aos usuários (profissionais, empresas, órgãos públicos, entidades de classe e sociedade em geral), sobre o papel do Crea-SP e a legislação pertinente ao Sistema Confea/Creas, e também sobre o andamento de processos e protocol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B21D3-A08F-4C7F-B97C-3E40A3ECC3F9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ribuições da Unidade de Atendimento ao Usuá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228600" y="11430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estar orientações em tempo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tualizar o cadastro de profissionais e empresa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por melhorias no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sit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e atualizar perguntas e respostas disponíveis no menu “Dúvidas Frequentes”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ceber e responder via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e-mail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e em prazo pré-fixado consultas diversas encaminhadas pelo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site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r meio do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“fale conosco” e protocolizadas no sistema “CreaDoc”; sobre os questionamentos que dependam exclusivamente da Unidade de Atendimento ao Usuári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ceber, analisar e encaminhar para exame e parecer de departamento específico de conformidade com as instruções vigentes, as consultas técnicas que embora pertinentes ao Crea-SP, não sejam atribuições da Unidade de Atendimento ao Usuári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54465-BA56-4A48-B2A9-FF98B5AC0081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ribuições da Unidade de Atendimento ao Usuá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3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terfacear com outras áreas do Crea-SP para solucionar problemas dos usuários referentes ao andamento de protocolos, utilização dos serviços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on-line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 regularização de situação cadastr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mitir e enviar boletos de anuidades dos profissionais e empresas, e providenciar o envio dos mesmos aos solicitante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ceber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fac-símile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sobre pagamento de anuidades de profissionais e empresas registrados tanto no Crea-SP como nos demais estados. Triagem e encaminhamento dos documentos às Unidades responsáveis para proceder baixa no siste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8F500-5C8F-4B97-8185-322D291D5D2A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pel principal do Departamento de Informá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/>
          </p:nvPr>
        </p:nvSpPr>
        <p:spPr>
          <a:xfrm>
            <a:off x="304920" y="1752480"/>
            <a:ext cx="85341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50000"/>
              </a:lnSpc>
              <a:spcAft>
                <a:spcPts val="41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nejar, propor e implementar a aplicação de soluções da tecnologia da informação, que envolvam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oftware, hardwar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 processos para atender os objetivos estratégicos, táticos e operacionais do Crea-SP, e habilitá-lo a honrar  seus compromissos institucionais perante a sociedad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086600" y="6095880"/>
            <a:ext cx="1143000" cy="38124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64718" h="21600">
                <a:moveTo>
                  <a:pt x="0" y="0"/>
                </a:moveTo>
                <a:lnTo>
                  <a:pt x="64718" y="0"/>
                </a:lnTo>
                <a:lnTo>
                  <a:pt x="64718" y="21600"/>
                </a:lnTo>
                <a:lnTo>
                  <a:pt x="0" y="21600"/>
                </a:lnTo>
                <a:close/>
              </a:path>
              <a:path fill="lightenLess" w="64718" h="21600">
                <a:moveTo>
                  <a:pt x="0" y="0"/>
                </a:moveTo>
                <a:lnTo>
                  <a:pt x="64718" y="0"/>
                </a:lnTo>
                <a:lnTo>
                  <a:pt x="63319" y="1400"/>
                </a:lnTo>
                <a:lnTo>
                  <a:pt x="1400" y="1400"/>
                </a:lnTo>
                <a:close/>
              </a:path>
              <a:path fill="darken" w="64718" h="21600">
                <a:moveTo>
                  <a:pt x="64718" y="0"/>
                </a:moveTo>
                <a:lnTo>
                  <a:pt x="64718" y="21600"/>
                </a:lnTo>
                <a:lnTo>
                  <a:pt x="63319" y="20200"/>
                </a:lnTo>
                <a:lnTo>
                  <a:pt x="63319" y="1400"/>
                </a:lnTo>
                <a:close/>
              </a:path>
              <a:path fill="darkenLess" w="64718" h="21600">
                <a:moveTo>
                  <a:pt x="64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19" y="20200"/>
                </a:lnTo>
                <a:close/>
              </a:path>
              <a:path fill="lighten" w="64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oltar ao sumá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1DF45-8342-42FB-B2E6-9F4EB4279188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ribuições do Departamento de Informá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/>
          </p:nvPr>
        </p:nvSpPr>
        <p:spPr>
          <a:xfrm>
            <a:off x="228600" y="9907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72960" indent="-372960" algn="just">
              <a:lnSpc>
                <a:spcPct val="90000"/>
              </a:lnSpc>
              <a:spcAft>
                <a:spcPts val="27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borar o PDTI - Plano Diretor de Tecnologia da Informação, revisá-lo periodicamente e acompanhar a execução de suas açõe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>
              <a:lnSpc>
                <a:spcPct val="90000"/>
              </a:lnSpc>
              <a:spcAft>
                <a:spcPts val="27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por, implementar e administrar soluções de comunicação e transmissão de dados para as demais área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>
              <a:lnSpc>
                <a:spcPct val="90000"/>
              </a:lnSpc>
              <a:spcAft>
                <a:spcPts val="27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por soluções de automaçã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>
              <a:lnSpc>
                <a:spcPct val="90000"/>
              </a:lnSpc>
              <a:spcAft>
                <a:spcPts val="27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por políticas e procedimentos relacionados aos recursos de informática, abrangend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rdwar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e process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>
              <a:lnSpc>
                <a:spcPct val="90000"/>
              </a:lnSpc>
              <a:spcAft>
                <a:spcPts val="27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rir as solicitações relacionadas à tecnologia de informação. Planejar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squisar, especificar e solicitar as aquisições de bens e serviços de informática para atender as necessidades do Crea-S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>
              <a:lnSpc>
                <a:spcPct val="90000"/>
              </a:lnSpc>
              <a:spcAft>
                <a:spcPts val="27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nejar, acompanhar, controlar, gerenciar a comunicação, a negociação e aferir os resultados referentes aos projetos de tecnologia da informaçã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>
              <a:lnSpc>
                <a:spcPct val="90000"/>
              </a:lnSpc>
              <a:spcAft>
                <a:spcPts val="27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scar a melhoria contínua nos processos e ações do Departamento de Informática e o alinhamento com os objetivos estratégicos do Crea-S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8D434-BEFD-4B4A-9C13-D4EFB9BBE81E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pel principal da Unidade de Desenvolv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28600" y="144792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 algn="just">
              <a:lnSpc>
                <a:spcPct val="100000"/>
              </a:lnSpc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ropor, planejar, analisar, desenvolver e implantar soluções de sistemas de informação com o intuito de proporcionar um ambiente de TI -Tecnologia da Informação aderente aos procedimentos do 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Crea-S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Assegurar que as informações produzidas e armazenadas nas bases de dados estejam consistentes e acessíveis de acordo com as demandas interna e/ou extern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Desenvolver aplicações de apoio aos níveis estratégico, tático e operacion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Atualizar as aplicações para se adequar às normas, instruções e procedimentos do sistema Confea/Cre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53721-A0D6-476D-A6BD-8C392FEAF28C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tribuições da Unidade Administrativa do Gabinete da Presidênc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06668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3000" indent="-11430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1131840"/>
            <a:ext cx="8686800" cy="51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just">
              <a:lnSpc>
                <a:spcPct val="10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Gerir as atividades desenvolvidas na Unidade e acompanhar o cumprimento dos prazos estabelecidos para conclusão do assunt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Organizar o expediente geral do Gabinete da Presidência, viabilizar a fluidez dos trabalhos e garantir a respectiva execução com eficiênci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Receber, conferir, analisar e protocolizar documentos e encaminhá-los com agilidade às áreas responsáveis para adoção das providências necessária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Analisar, dar andamento e sugerir providências em documentos e assuntos enviados à Unidade para que sejam tomadas medidas para agilizar a resolução dos mesm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Analisar e acompanhar consultas recebidas em processo, por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e-mail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, telefone,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fac-simil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, elaborar respostas e/ou enviar às Unidades competentes para prosseguimento de acordo com a legislação vigent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A486F-87D9-4889-B53D-CA6CE28BF7C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ribuições da Unidade de Desenvolv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8800" indent="-388800" algn="just">
              <a:lnSpc>
                <a:spcPct val="90000"/>
              </a:lnSpc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Analisar os requisitos fundamentais para o desenvolvimento de sistemas informatizad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90000"/>
              </a:lnSpc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Modelar conceitual e logicamente os sistemas a serem desenvolvidos ou mantid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90000"/>
              </a:lnSpc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Desenvolver e/ou adquirir sistemas informatizados para utilização pelos públicos interno e extern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90000"/>
              </a:lnSpc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Ministrar treinamentos para capacitação técnica dos usuários sobre os sistemas desenvolvidos internamente ou adquiridos junto a terceir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90000"/>
              </a:lnSpc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Elaborar manuais técnicos de operação sobre os sistemas informatizad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90000"/>
              </a:lnSpc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Estruturar e manter os bancos de dados referentes aos profissionais, empresas, ARTs, instituições de ensino, cursos, processos e protocolos para prover informações e apoio a todos os órgãos e usuários do Crea-S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90000"/>
              </a:lnSpc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otar as providências necessárias para garantir a integridade, segurança e inviolabilidade nos sistemas e dados do Crea-SP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C2EAB-0058-4B36-95E2-17CA7B8330F5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pel principal da Unidade de Su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04920" y="1889280"/>
            <a:ext cx="845820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 algn="just">
              <a:lnSpc>
                <a:spcPct val="100000"/>
              </a:lnSpc>
              <a:spcAft>
                <a:spcPts val="41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Gerenciar a infraestrutura de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hardware e softwar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que suporta os sistemas informatizados do Crea-SP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41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xecutar ações relacionadas ao planejamento e aquisição de recursos tecnológicos, administração de redes e bancos de dados, manutenções preventivas e corretivas nos equipamentos e sistema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41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restar serviço de suporte ao usuário final na utilização dos diversos recursos de informátic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FAEEE-640E-4DE8-9C48-08C2D0CA092C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ribuições da Unidade de Su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8800" indent="-388800" algn="just">
              <a:lnSpc>
                <a:spcPct val="10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Projetar, propor, instalar, manter e operar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as redes ou sistemas isolados de microcomputadores e particularmente os seus servidores centralizados ou nã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Supervisionar do ponto de vista operacional as redes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intranet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 e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extranet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. Monitoramento dos aspectos de estabilidade, sincronismo e velocidade de resposta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Monitorar os arquivos e bases de dados quanto à sua integridade e limites de expansão para manter a confiabilidade das informações e continuidade dos serviços (espaço ocupado, área disponível, eficiência do banco, tempo de resposta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Operar, manter e controlar todas as unidades principais e periféricas de grande, médio e pequeno porte de processamento eletrônico de dados conforme os padrões e normas vigente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12D48-D239-4BA8-8509-80B56BCBC36E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ribuições da Unidade de Su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28600" y="114300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8800" indent="-388800" algn="just">
              <a:lnSpc>
                <a:spcPct val="13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ministrar as redes de microcomputadores, como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ndows, AIX, Linu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/>
          </p:nvPr>
        </p:nvSpPr>
        <p:spPr>
          <a:xfrm>
            <a:off x="685440" y="18288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Instalação, configuração e manutenção do próprio sistema operacional, de seus subsistemas e sub-rotina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Manutenção das contas de usuári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Manutenção do site da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intranet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(Monitoramento dos serviços do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II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e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Apach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Manutenção dos direitos de acesso aos recursos da red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Serviços de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firewa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Serviços de FTP -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File Transfer Protocol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Serviços de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e-mail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, mensagem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on-lin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DF5F0-96A1-45CF-BB0D-C449A89C6985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ribuições da Unidade de Su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8800" indent="-388800" algn="just">
              <a:lnSpc>
                <a:spcPct val="9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Acompanhar a execução dos processamentos,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verificar</a:t>
            </a:r>
            <a:r>
              <a:rPr b="0" lang="pt-PT" sz="1800" spc="-1" strike="noStrike">
                <a:solidFill>
                  <a:srgbClr val="ff6600"/>
                </a:solidFill>
                <a:latin typeface="Arial"/>
                <a:ea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possíveis falhas ou erros de operação e providenciar ações corretiva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9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Otimizar a utilização de todo o sistema computacional do ponto de vista operacional, e propor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novos esquemas de operação e produçã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9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Implantar e controlar políticas e rotinas de segurança de informação e acesso aos sistemas por meio de senhas ou outras formas de preservação e inviolabilidade dos sistemas disponibilizad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9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Instalar ou desinstalar novos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s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 ou sistemas operacionais e reconfigurar  bancos de dados, que ocasionalmente serão realizados mediante acordo tácito entre as Unidades de Desenvolvimento e Suport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9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Controlar licenças de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9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nter atualizados os manuais de produção;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C3327-617A-4F52-8043-563483D36CD2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304920" y="1066680"/>
            <a:ext cx="85341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8800" indent="-388800" algn="just">
              <a:lnSpc>
                <a:spcPct val="100000"/>
              </a:lnSpc>
              <a:spcAft>
                <a:spcPts val="31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Monitorar e acompanhar o desempenho das linhas de teleprocessamento e demais componentes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da rede com seus equipamentos intermediários e terminai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31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Atualizar e disponibilizar aos usuários todos os bancos de dados, sistemas de cadastramento e controles, e sistemas de informação e consulta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31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Executar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backups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 e mantê-los em local apropriado e segur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31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Planejar e programar todas as rotinas de processamento e definir prioridades, sejam para fins de produção, supervisão ou manutenção dos sistema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31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Controlar, supervisionar, revisar e manter todo o sistema de alimentação dos equipamentos centralizad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31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Praticar a manutenção preventiva e executar as manutenções corretivas nos sistemas isolados e interligad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ribuições da Unidade de Su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85F38-601E-4285-9C7C-A59052A3388B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/>
          </p:nvPr>
        </p:nvSpPr>
        <p:spPr>
          <a:xfrm>
            <a:off x="304920" y="99036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8800" indent="-388800" algn="just">
              <a:lnSpc>
                <a:spcPct val="100000"/>
              </a:lnSpc>
              <a:spcAft>
                <a:spcPts val="31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Emitir relatórios e listagens conforme rotina estabelecida ou mediante solicitação superio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31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Administrar e controlar o envio de CD’s, disquetes, fitas magnéticas, relatórios, equipamentos e demais acessórios que deverão transitar devidamente documentad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31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Controlar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as rotinas de segurança e de acesso aos sistemas e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site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na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por meio dos microcomputadores da rede sob o ponto de vista leg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31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Instruir e orientar, por escrito, quanto ao uso dos equipamentos descentralizados, inclusive quanto à infraestrutura física, como: elétrica, mobiliário, </a:t>
            </a:r>
            <a:r>
              <a:rPr b="0" i="1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layout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 e cabeamento de dad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31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estar apoio, atender chamados, corrigir falhas e orientar usuários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quando se tratar de problemas lógicos, físicos ou de desempenho das redes, de sistema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e de utilização de equipamentos, sistemas operacionais e aplicativos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atendimento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 chamados de suporte);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ribuições da Unidade de Su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91201-157C-4FC6-BC93-C2E6BF283B8C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304920" y="914040"/>
            <a:ext cx="8534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8800" indent="-388800" algn="just">
              <a:lnSpc>
                <a:spcPct val="13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Dar suporte na criação e manutenção do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sit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3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Controlar a manutenção e utilização adequada dos equipamentos de informática instalados nas áreas usuárias locais e remota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3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Controlar os ativos de informação e ambientes informatizad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3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Dimensionar as necessidades dos usuários quanto a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hardware e softwar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3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Definir e especificar para fins de aquisição: equipamentos, sistemas e acessórios necessários à operação ou readequação dos sistemas de acordo com as necessidades dos usuários e do Crea-S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Normatizar, controlar e divulgar aos usuários as versões e atualizações de sistemas em microcomputadore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ribuições da Unidade de Su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E0578-865F-4920-86EB-D98DCFF5C3CE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8800" indent="-388800" algn="just">
              <a:lnSpc>
                <a:spcPct val="100000"/>
              </a:lnSpc>
              <a:spcAft>
                <a:spcPts val="31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ticipar ativamente na definição e padronização dos bancos de dad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31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borar estudos para implementação de novas tecnologias de desenvolvimento de sistema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31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tar solicitantes de serviços, providenciar busca, empacotamento e postagem para a entrega do material solicitad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31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feccionar relatórios e estatísticas que fogem das possibilidades fornecidas pelo equipamento centr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31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feccionar a montagem de relatórios/gráficos em complemento das listagens resultantes de processament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31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nipular arquivos para montagem de banco de dados a serem fornecidos para atender as solicitações extern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ribuições da Unidade de Su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A1228-9957-4B2F-9253-24FB9014A2D3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STRUTURA ORGANIZ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/>
          </p:nvPr>
        </p:nvSpPr>
        <p:spPr>
          <a:xfrm>
            <a:off x="304920" y="1752120"/>
            <a:ext cx="86104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Times New Roman"/>
              </a:rPr>
              <a:t>SUPERINTENDÊNCI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6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Times New Roman"/>
              </a:rPr>
              <a:t>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6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Times New Roman"/>
              </a:rPr>
              <a:t>RELAÇÕES INSTITUCIONA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010280" y="6095880"/>
            <a:ext cx="1143000" cy="38124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64718" h="21600">
                <a:moveTo>
                  <a:pt x="0" y="0"/>
                </a:moveTo>
                <a:lnTo>
                  <a:pt x="64718" y="0"/>
                </a:lnTo>
                <a:lnTo>
                  <a:pt x="64718" y="21600"/>
                </a:lnTo>
                <a:lnTo>
                  <a:pt x="0" y="21600"/>
                </a:lnTo>
                <a:close/>
              </a:path>
              <a:path fill="lightenLess" w="64718" h="21600">
                <a:moveTo>
                  <a:pt x="0" y="0"/>
                </a:moveTo>
                <a:lnTo>
                  <a:pt x="64718" y="0"/>
                </a:lnTo>
                <a:lnTo>
                  <a:pt x="63319" y="1400"/>
                </a:lnTo>
                <a:lnTo>
                  <a:pt x="1400" y="1400"/>
                </a:lnTo>
                <a:close/>
              </a:path>
              <a:path fill="darken" w="64718" h="21600">
                <a:moveTo>
                  <a:pt x="64718" y="0"/>
                </a:moveTo>
                <a:lnTo>
                  <a:pt x="64718" y="21600"/>
                </a:lnTo>
                <a:lnTo>
                  <a:pt x="63319" y="20200"/>
                </a:lnTo>
                <a:lnTo>
                  <a:pt x="63319" y="1400"/>
                </a:lnTo>
                <a:close/>
              </a:path>
              <a:path fill="darkenLess" w="64718" h="21600">
                <a:moveTo>
                  <a:pt x="64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19" y="20200"/>
                </a:lnTo>
                <a:close/>
              </a:path>
              <a:path fill="lighten" w="64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oltar ao sumá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5F519-0B70-412D-9B2D-5525737F7200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tribuições da Unidade Administrativa do Gabinete da Presidênc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106668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3000" indent="-11430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1317600"/>
            <a:ext cx="868680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just">
              <a:lnSpc>
                <a:spcPct val="10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ceber, analisar e instruir processos encaminhados pelas demais áreas, com a complementação de informações para subsidiar a tomada de decisões, quando necessári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iciar processos de assuntos referentes à “Missão no Exterior” e cumprir o determinado na instrução específic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ntar documentos, instruir processos sob a guarda da Unidade e providenciar o seu prosseguiment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borar Nota de Empenho de Ressarcimento/Pagamento e Nota de Empenho de Compra/Serviço e Nota de Atesto do Presidente, Diretores, Chefe de Gabinete, Chefe de Relações Institucionais, Assessores e funcionários da Unidade de acordo com as instruções vigentes, e dar prosseguimento no assunt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E090B-4F92-4FBA-B806-0ED94133C88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rutura Organizacional da SUPR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Aft>
                <a:spcPts val="45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Superintendência de Relações Institucionais é composta por 2 Departamentos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33520" y="2895480"/>
            <a:ext cx="8153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Aft>
                <a:spcPts val="3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   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partamento de Relações Institucionais Inter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3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I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 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partamento de Relações Institucionais Exter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ACD74-D8A1-4193-B901-E73EA13CFCD0}" type="slidenum">
              <a:t>1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pel principal 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perintendência de Relações Institucion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04920" y="1371600"/>
            <a:ext cx="85341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Planejar, organizar, supervisionar, controlar, coordenar e avaliar as atividades afetas à superintendência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Participar com o Superintendente Operacional na elaboração dos programas de fiscalização e análise dos respectivos resultado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Participar com as demais superintendências da elaboração de planos, programas e projetos pertinentes à área de atuação do Crea-SP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Manter interfaceamento com as Entidades de Classe, Sindicatos, Inspetores e Representantes de Entidades de Ensin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DB0B1-D898-425B-A562-34608E3C9723}" type="slidenum">
              <a:t>1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ribuições da Superintendência de Relações Institucion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6108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Aft>
                <a:spcPts val="2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laborar estudos para subsidiar a tomada de decisão por parte da presidência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dministrar os respectivos assunto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ontratos e convênios firmados com as Entidades de Clas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laboração de manuais de procedimentos ou regimentos para inspetorias, representações locais e comissões auxiliares de fiscalização do Crea-SP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nstalação, construção e reforma das unidades de inspetoria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laboração e atualização do quadro de inspetore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58F15-6A1A-4213-B0FD-327B50B12E88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ribuições da Superintendência de Relações Institucion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/>
          </p:nvPr>
        </p:nvSpPr>
        <p:spPr>
          <a:xfrm>
            <a:off x="22824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8800" indent="-388800" algn="just">
              <a:lnSpc>
                <a:spcPct val="100000"/>
              </a:lnSpc>
              <a:spcAft>
                <a:spcPts val="2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Em parceria com o Superintendente Operacional avaliar o desempenho dos gestores (gerentes regionais e chefes) referentes aos Contratos e Convênios de responsabilidade da SUPRIN, e adotar medidas corretivas, se for o caso;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2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Manter interfaceamento com todas as unidades administrativas básicas do Crea-SP a fim de obter um fluxo contínuo de informações para facilitar a coordenação do processo de tomada de decisõe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2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Participar na elaboração do Planejamento Estratégico, com propostas para atingir os objetivos e metas do </a:t>
            </a:r>
            <a:br>
              <a:rPr sz="2200"/>
            </a:b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Crea-SP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03E46-6B4C-453E-B5D1-71B75F8A463F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pel principal 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partamento 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lações Institucionais Interna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/>
          </p:nvPr>
        </p:nvSpPr>
        <p:spPr>
          <a:xfrm>
            <a:off x="304920" y="2057400"/>
            <a:ext cx="85341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8800" indent="-388800" algn="just">
              <a:lnSpc>
                <a:spcPct val="130000"/>
              </a:lnSpc>
              <a:spcAft>
                <a:spcPts val="45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ejar, coordenar, organizar, dirigir e supervisionar os trabalhos afetos ao departament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30000"/>
              </a:lnSpc>
              <a:spcAft>
                <a:spcPts val="45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alisar e sugerir celebração de convênios institucionais intern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7010280" y="6095880"/>
            <a:ext cx="1143000" cy="38124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64718" h="21600">
                <a:moveTo>
                  <a:pt x="0" y="0"/>
                </a:moveTo>
                <a:lnTo>
                  <a:pt x="64718" y="0"/>
                </a:lnTo>
                <a:lnTo>
                  <a:pt x="64718" y="21600"/>
                </a:lnTo>
                <a:lnTo>
                  <a:pt x="0" y="21600"/>
                </a:lnTo>
                <a:close/>
              </a:path>
              <a:path fill="lightenLess" w="64718" h="21600">
                <a:moveTo>
                  <a:pt x="0" y="0"/>
                </a:moveTo>
                <a:lnTo>
                  <a:pt x="64718" y="0"/>
                </a:lnTo>
                <a:lnTo>
                  <a:pt x="63319" y="1400"/>
                </a:lnTo>
                <a:lnTo>
                  <a:pt x="1400" y="1400"/>
                </a:lnTo>
                <a:close/>
              </a:path>
              <a:path fill="darken" w="64718" h="21600">
                <a:moveTo>
                  <a:pt x="64718" y="0"/>
                </a:moveTo>
                <a:lnTo>
                  <a:pt x="64718" y="21600"/>
                </a:lnTo>
                <a:lnTo>
                  <a:pt x="63319" y="20200"/>
                </a:lnTo>
                <a:lnTo>
                  <a:pt x="63319" y="1400"/>
                </a:lnTo>
                <a:close/>
              </a:path>
              <a:path fill="darkenLess" w="64718" h="21600">
                <a:moveTo>
                  <a:pt x="64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19" y="20200"/>
                </a:lnTo>
                <a:close/>
              </a:path>
              <a:path fill="lighten" w="64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oltar ao sumá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85D69-854D-440D-A9CC-2DE3879A384E}" type="slidenum">
              <a:t>1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ribuições 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partamento 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lações Institucionais Interna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8800" indent="-388800" algn="just">
              <a:lnSpc>
                <a:spcPct val="100000"/>
              </a:lnSpc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ssessorar a comissão especial de parcerias e convêni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isar a prestação de contas referente aos convênios firmados com as entidades de classe, e encaminhar para aprovação do President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ceber e encaminhar para aprovação do superior hierárquico os processos de registro de tabela de honorários referentes às entidades de clas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borar edital de chamamento público para convênios institucionais intern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companhar o processo de convênio e seus desdobramentos, referente à solicitação de apoio financeiro por parte das Entidades, nos termos do Ato Administrativo nº 10/2007 e da Resolução 456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mpanhar e analisar os processos de revisão de registro das entidades de classe para renovação do terç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52F1F-0807-4B38-B162-26683E57A4CA}" type="slidenum">
              <a:t>1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ribuições 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partamento 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lações Institucionais Interna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88394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76920" indent="-376920" algn="just">
              <a:lnSpc>
                <a:spcPct val="90000"/>
              </a:lnSpc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mpanhar e controlar processos de contratos de construção de sed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-376920" algn="just">
              <a:lnSpc>
                <a:spcPct val="90000"/>
              </a:lnSpc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r suporte administrativo aos gestores dos convêni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-376920" algn="just">
              <a:lnSpc>
                <a:spcPct val="90000"/>
              </a:lnSpc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ceber, conferir, analisar e protocolizar documentos e dar prosseguimento no assunt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-376920" algn="just">
              <a:lnSpc>
                <a:spcPct val="90000"/>
              </a:lnSpc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rir, instruir e acompanhar a tramitação de processos de ordem “C” de assuntos afetos ao departament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-376920" algn="just">
              <a:lnSpc>
                <a:spcPct val="90000"/>
              </a:lnSpc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erificar validade e legalidade de todos os documentos apresentados pelas Entidades de Clas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-376920" algn="just">
              <a:lnSpc>
                <a:spcPct val="90000"/>
              </a:lnSpc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ceber e conferir a prestação de contas atestadas pelos respectivos gestores e submeter à aprovação da CPOTC – Comissão Permanente de Orçamento e Tomada de Contas, e do Plenário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-376920" algn="just">
              <a:lnSpc>
                <a:spcPct val="90000"/>
              </a:lnSpc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istrar treinamento para novos funcionários do departament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-376920" algn="just">
              <a:lnSpc>
                <a:spcPct val="90000"/>
              </a:lnSpc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ientar e supervisionar os procedimentos executados no departamento, e adotar medidas corretivas, se for o cas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1CF2A-F2E9-45FB-9051-CF0E26E63EE7}" type="slidenum">
              <a:t>1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pel principal 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partamento 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lações Institucionais Externa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/>
          </p:nvPr>
        </p:nvSpPr>
        <p:spPr>
          <a:xfrm>
            <a:off x="304920" y="12949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8800" indent="-388800" algn="just">
              <a:lnSpc>
                <a:spcPct val="130000"/>
              </a:lnSpc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lanejar, organizar, coordenar e supervisionar a execução das atividades afetas a sua área de atuação: convênios institucionais externos para estabelecer parcerias e convênios com empresas do mercado que possam beneficiar os profissionais e as empresas registrados no Crea-S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30000"/>
              </a:lnSpc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nter contato com representantes dos Governos na esfera Federal, Estadual e Municipal, Organizações não Governamentais e Empresas Privadas para buscar o incremento de parcerias e convênios em prol da melhoria e eficácia da fiscalização e valorização profissional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086600" y="6095880"/>
            <a:ext cx="1143000" cy="38124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64718" h="21600">
                <a:moveTo>
                  <a:pt x="0" y="0"/>
                </a:moveTo>
                <a:lnTo>
                  <a:pt x="64718" y="0"/>
                </a:lnTo>
                <a:lnTo>
                  <a:pt x="64718" y="21600"/>
                </a:lnTo>
                <a:lnTo>
                  <a:pt x="0" y="21600"/>
                </a:lnTo>
                <a:close/>
              </a:path>
              <a:path fill="lightenLess" w="64718" h="21600">
                <a:moveTo>
                  <a:pt x="0" y="0"/>
                </a:moveTo>
                <a:lnTo>
                  <a:pt x="64718" y="0"/>
                </a:lnTo>
                <a:lnTo>
                  <a:pt x="63319" y="1400"/>
                </a:lnTo>
                <a:lnTo>
                  <a:pt x="1400" y="1400"/>
                </a:lnTo>
                <a:close/>
              </a:path>
              <a:path fill="darken" w="64718" h="21600">
                <a:moveTo>
                  <a:pt x="64718" y="0"/>
                </a:moveTo>
                <a:lnTo>
                  <a:pt x="64718" y="21600"/>
                </a:lnTo>
                <a:lnTo>
                  <a:pt x="63319" y="20200"/>
                </a:lnTo>
                <a:lnTo>
                  <a:pt x="63319" y="1400"/>
                </a:lnTo>
                <a:close/>
              </a:path>
              <a:path fill="darkenLess" w="64718" h="21600">
                <a:moveTo>
                  <a:pt x="64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19" y="20200"/>
                </a:lnTo>
                <a:close/>
              </a:path>
              <a:path fill="lighten" w="64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oltar ao sumá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988B9-8139-4814-A0D9-6744C5EE4984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ribuições 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partamento 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lações Institucionais Externa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/>
          </p:nvPr>
        </p:nvSpPr>
        <p:spPr>
          <a:xfrm>
            <a:off x="304920" y="121896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8800" indent="-388800" algn="just">
              <a:lnSpc>
                <a:spcPct val="100000"/>
              </a:lnSpc>
              <a:spcAft>
                <a:spcPts val="2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Analisar e administrar os pedidos de parcerias de empresas em geral e órgãos governamentais e não governamentais, assim como os dos GTs - Grupos de Trabalh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2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Manter as empresas parceiras informadas sobre a elegibilidade dos profissionais registrad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Assessora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5080" indent="-285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Os profissionais que possuam convênios de benefíci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5080" indent="-285480" algn="just">
              <a:lnSpc>
                <a:spcPct val="100000"/>
              </a:lnSpc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A Comissão Especial de Parcerias e Convêni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2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Elaborar, acompanhar e supervisionar os convênios celebrados pelo departament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2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Buscar parceria para ampliar os benefícios oferecidos aos profissionais/empresas registrados no Crea-S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D0E93-A16A-474A-B0DD-891433B7B2F2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ribuições 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partamento 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lações Institucionais Externa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8800" indent="-388800" algn="just">
              <a:lnSpc>
                <a:spcPct val="130000"/>
              </a:lnSpc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rnar pública a intenção do Crea-SP em firmar, sem ônus, convênios e parcerias com empresas do mercado para proporcionar benefícios aos profissionais registrados e no pleno exercício de suas atividade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30000"/>
              </a:lnSpc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eracionalizar os pedidos de parcerias aprovados em plenário mediante convênios nas áreas de: educação, transporte, lazer, alimentação, saúde e outras para proporcionar benefícios aos profissionais registrad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30000"/>
              </a:lnSpc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isar as solicitações de contratação de estande, por parte d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-SP, de acordo com o Ato Administrativo nº 8 e dar prosseguimento nas mesma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30000"/>
              </a:lnSpc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rir, instruir e acompanhar a tramitação dos processos de ordem “C” dos assuntos afetos ao departam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75450-F208-487E-BDA1-210F9E18B099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tribuições da Unidade Administrativa do Gabinete da Presidênc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106668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3000" indent="-11430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1270080"/>
            <a:ext cx="8686800" cy="49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just">
              <a:lnSpc>
                <a:spcPct val="10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Analisar Nota de Empenho de Ressarcimento/Pagamento e Nota de Empenho de Compra/Serviço encaminhadas por outras unidades para autorização do Presidente e/ou Chefe de Gabinete, e verificar se estão de acordo com o estabelecido nas instruções vigente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Ministrar treinamento para novos funcionários da Unidade Administrativa do Gabinete da Presidênci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Manter atualizado o banco de dados e preparar conteúdo de mala direta para encaminhar às Autoridades Federais, Estaduais e Municipais, representantes de Entidades de Classe e Instituições de Ensino, Conselheiros, Presidentes de outros Creas e de outros Conselhos e Ordens, Presidente do Confea e Conselheiros Federai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Auxiliar na organização de eventos; preparar, separar e encaminhar os materiais que serão utiliza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E8443-995D-4426-9A24-376998EEE7A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STRUTURA ORGANIZ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1532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Times New Roman"/>
              </a:rPr>
              <a:t>SUPERINTENDÊN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Times New Roman"/>
              </a:rPr>
              <a:t>D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Times New Roman"/>
              </a:rPr>
              <a:t>PLANEJAM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086600" y="6172200"/>
            <a:ext cx="1143000" cy="38088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4780" h="21600">
                <a:moveTo>
                  <a:pt x="0" y="0"/>
                </a:moveTo>
                <a:lnTo>
                  <a:pt x="64780" y="0"/>
                </a:lnTo>
                <a:lnTo>
                  <a:pt x="64780" y="21600"/>
                </a:lnTo>
                <a:lnTo>
                  <a:pt x="0" y="21600"/>
                </a:lnTo>
                <a:close/>
              </a:path>
              <a:path fill="lightenLess" w="64780" h="21600">
                <a:moveTo>
                  <a:pt x="0" y="0"/>
                </a:moveTo>
                <a:lnTo>
                  <a:pt x="64780" y="0"/>
                </a:lnTo>
                <a:lnTo>
                  <a:pt x="63380" y="1400"/>
                </a:lnTo>
                <a:lnTo>
                  <a:pt x="1400" y="1400"/>
                </a:lnTo>
                <a:close/>
              </a:path>
              <a:path fill="darken" w="64780" h="21600">
                <a:moveTo>
                  <a:pt x="64780" y="0"/>
                </a:moveTo>
                <a:lnTo>
                  <a:pt x="64780" y="21600"/>
                </a:lnTo>
                <a:lnTo>
                  <a:pt x="63380" y="20200"/>
                </a:lnTo>
                <a:lnTo>
                  <a:pt x="63380" y="1400"/>
                </a:lnTo>
                <a:close/>
              </a:path>
              <a:path fill="darkenLess" w="64780" h="21600">
                <a:moveTo>
                  <a:pt x="64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80" y="20200"/>
                </a:lnTo>
                <a:close/>
              </a:path>
              <a:path fill="lighten" w="64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oltar ao sumá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FBEC1-D4DA-4A44-899C-4334E63A972D}" type="slidenum">
              <a:t>1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rutura Organizacional da SU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04920" y="2895480"/>
            <a:ext cx="86104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Superintendência de Planejamento é composta pela Unidade de Planejamento e Desenvolvim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B8250-578D-4AA0-A892-F709CB0B030D}" type="slidenum">
              <a:t>1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pel principal da Superintendência de Planej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04920" y="1692360"/>
            <a:ext cx="8534160" cy="40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 algn="just">
              <a:lnSpc>
                <a:spcPct val="120000"/>
              </a:lnSpc>
              <a:spcBef>
                <a:spcPts val="125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nalisar os estudos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 pareceres conjunturais e estruturais do Crea-SP para formar os cenários prospectiv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20000"/>
              </a:lnSpc>
              <a:spcBef>
                <a:spcPts val="125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ceber, analisar e verificar a pertinência e aplicação das diretrizes do Confea no tocante ao Planejamento Estratégico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20000"/>
              </a:lnSpc>
              <a:spcBef>
                <a:spcPts val="125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presentar os estudos e pareceres às demais Superintendências, Ouvidoria e Unidade Administrativa do Gabinete da Presidência  para subsidiar a revisão das ações estratégicas e do plano de ação, em consonância com o programa de gestão da presidên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D771D-EC8D-4767-BBE9-E3742DB079D2}" type="slidenum">
              <a:t>1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ribuições da Superintendência de Planejame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/>
          </p:nvPr>
        </p:nvSpPr>
        <p:spPr>
          <a:xfrm>
            <a:off x="5638680" y="39621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Aft>
                <a:spcPts val="45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52280" y="888840"/>
            <a:ext cx="8839440" cy="56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 algn="just">
              <a:lnSpc>
                <a:spcPct val="100000"/>
              </a:lnSpc>
              <a:spcAft>
                <a:spcPts val="212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  <a:ea typeface="Arial"/>
              </a:rPr>
              <a:t>Planejar, gerenciar, controlar, acompanhar e avaliar as ações e procedimentos técnicos e operacionais no âmbito da superintendência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212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  <a:ea typeface="Arial"/>
              </a:rPr>
              <a:t>Propiciar as condições necessárias para garantir o cumprimento dos objetivos e metas estabelecidos no planejamento estratégico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212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  <a:ea typeface="Arial"/>
              </a:rPr>
              <a:t>Interfacear com as demais áreas nos processos relacionados ao planejamento estratégico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212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  <a:ea typeface="Arial"/>
              </a:rPr>
              <a:t>Explanar, regularmente, à presidência e às demais superintendências sobre o andamento do plano de ação com proposituras de alterações e/ou ações corretivas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212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  <a:ea typeface="Arial"/>
              </a:rPr>
              <a:t>Estudar a viabilidade e verificar a prática adotada pelos demais Creas e propor plano de ação para adesão do Crea-SP ao GESPÚBLICA - Programa Nacional de Gestão Pública e Desburocratização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212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  <a:ea typeface="Arial"/>
              </a:rPr>
              <a:t>Interagir com as demais superintendências para validar proposta de revisão do planejamento estratégico, assim como demais projetos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212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Submeter para aprovação da presidência a proposta da revisão do planejamento estratégico, juntamente com as demais superintendências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3A3DA-DF37-4967-94E6-5675B1020C1F}" type="slidenum">
              <a:t>1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pel principal 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dade de Planejamento e Desenvolvimento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28600" y="1523880"/>
            <a:ext cx="8686800" cy="34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 algn="just">
              <a:lnSpc>
                <a:spcPct val="100000"/>
              </a:lnSpc>
              <a:spcAft>
                <a:spcPts val="45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essorar a superintendência nas ações relacionadas ao planejamento estratégic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45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aborar e apresentar para superintendência estudos e pareceres estruturais, conjunturais como subsidio à tomada de decisã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45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por métodos de otimização de proces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010280" y="6095880"/>
            <a:ext cx="1143000" cy="38124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64718" h="21600">
                <a:moveTo>
                  <a:pt x="0" y="0"/>
                </a:moveTo>
                <a:lnTo>
                  <a:pt x="64718" y="0"/>
                </a:lnTo>
                <a:lnTo>
                  <a:pt x="64718" y="21600"/>
                </a:lnTo>
                <a:lnTo>
                  <a:pt x="0" y="21600"/>
                </a:lnTo>
                <a:close/>
              </a:path>
              <a:path fill="lightenLess" w="64718" h="21600">
                <a:moveTo>
                  <a:pt x="0" y="0"/>
                </a:moveTo>
                <a:lnTo>
                  <a:pt x="64718" y="0"/>
                </a:lnTo>
                <a:lnTo>
                  <a:pt x="63319" y="1400"/>
                </a:lnTo>
                <a:lnTo>
                  <a:pt x="1400" y="1400"/>
                </a:lnTo>
                <a:close/>
              </a:path>
              <a:path fill="darken" w="64718" h="21600">
                <a:moveTo>
                  <a:pt x="64718" y="0"/>
                </a:moveTo>
                <a:lnTo>
                  <a:pt x="64718" y="21600"/>
                </a:lnTo>
                <a:lnTo>
                  <a:pt x="63319" y="20200"/>
                </a:lnTo>
                <a:lnTo>
                  <a:pt x="63319" y="1400"/>
                </a:lnTo>
                <a:close/>
              </a:path>
              <a:path fill="darkenLess" w="64718" h="21600">
                <a:moveTo>
                  <a:pt x="64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19" y="20200"/>
                </a:lnTo>
                <a:close/>
              </a:path>
              <a:path fill="lighten" w="64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oltar ao sumá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F5D49-CC3E-4083-94B3-541B3FD58C5B}" type="slidenum">
              <a:t>1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ribuições 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dade de Planejamento e Desenvolv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28600" y="1143000"/>
            <a:ext cx="8686800" cy="50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 algn="just">
              <a:lnSpc>
                <a:spcPct val="100000"/>
              </a:lnSpc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eragir com as demais áreas para compartilhar conhecimentos e informações e propor novos projetos para o plano de açã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alisar os processos e demais documentos afetos à superintendência, e dar prosseguimento no assunt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laborar, propor, acompanhar e controlar o plano de ação do planejamento estratégic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por a composição de equipes de trabalho para desempenhar as atividades propostas no plano de açã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sessorar e interagir com as equipes constituídas para viabilizar a operacionalização do plano de açã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55424-2B9E-4509-BC44-0DE39BF95FCE}" type="slidenum">
              <a:t>1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ribuições 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dade de Planejamento e Desenvolv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28600" y="1047600"/>
            <a:ext cx="8686800" cy="54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 algn="just">
              <a:lnSpc>
                <a:spcPct val="100000"/>
              </a:lnSpc>
              <a:spcAft>
                <a:spcPts val="308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Elaborar e acompanhar os cronogramas referentes aos projetos do plano de ação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308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Preparar apresentação às demais Superintendências,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Ouvidoria e Unidade Administrativa do Gabinete da Presidência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com as ações implementadas, assim como propor alterações e/ou ações corretivas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308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Propor e implementar novas ferramentas de gestão do planejamento estratégico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308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Apresentar estudo referente à prática adotada pelos demais Creas para subsidiar a análise de adesão do Crea-SP ao GESPÚBLICA - Programa Nacional de Gestão Pública e Desburocratização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308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Preparar material para disponibilizar na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Intranet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e outros possíveis canais de comunicação para divulgar os resultados dos trabalhos afetos ao planejamento estratégico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7EA92-47CA-4DD7-8702-2D0463A91048}" type="slidenum">
              <a:t>1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STRUTURA ORGANIZ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/>
          </p:nvPr>
        </p:nvSpPr>
        <p:spPr>
          <a:xfrm>
            <a:off x="380880" y="31240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Times New Roman"/>
              </a:rPr>
              <a:t>SUPERINTENDÊNCIA JURÍD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7010280" y="6095880"/>
            <a:ext cx="1143000" cy="38124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64718" h="21600">
                <a:moveTo>
                  <a:pt x="0" y="0"/>
                </a:moveTo>
                <a:lnTo>
                  <a:pt x="64718" y="0"/>
                </a:lnTo>
                <a:lnTo>
                  <a:pt x="64718" y="21600"/>
                </a:lnTo>
                <a:lnTo>
                  <a:pt x="0" y="21600"/>
                </a:lnTo>
                <a:close/>
              </a:path>
              <a:path fill="lightenLess" w="64718" h="21600">
                <a:moveTo>
                  <a:pt x="0" y="0"/>
                </a:moveTo>
                <a:lnTo>
                  <a:pt x="64718" y="0"/>
                </a:lnTo>
                <a:lnTo>
                  <a:pt x="63319" y="1400"/>
                </a:lnTo>
                <a:lnTo>
                  <a:pt x="1400" y="1400"/>
                </a:lnTo>
                <a:close/>
              </a:path>
              <a:path fill="darken" w="64718" h="21600">
                <a:moveTo>
                  <a:pt x="64718" y="0"/>
                </a:moveTo>
                <a:lnTo>
                  <a:pt x="64718" y="21600"/>
                </a:lnTo>
                <a:lnTo>
                  <a:pt x="63319" y="20200"/>
                </a:lnTo>
                <a:lnTo>
                  <a:pt x="63319" y="1400"/>
                </a:lnTo>
                <a:close/>
              </a:path>
              <a:path fill="darkenLess" w="64718" h="21600">
                <a:moveTo>
                  <a:pt x="64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19" y="20200"/>
                </a:lnTo>
                <a:close/>
              </a:path>
              <a:path fill="lighten" w="64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oltar ao sumá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AE437-5DE0-4B48-92FB-9A73DED31B31}" type="slidenum">
              <a:t>1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rutura Organizacional da SUPJ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57200" y="990720"/>
            <a:ext cx="81532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Superintendência Jurídic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é composta por 2 Departa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partamento Consul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I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partamento Contencio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2A7AD-FB2F-437B-9B41-205645ABAB78}" type="slidenum">
              <a:t>1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pel principal da Superintendência Juríd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/>
          </p:nvPr>
        </p:nvSpPr>
        <p:spPr>
          <a:xfrm>
            <a:off x="22860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50000"/>
              </a:lnSpc>
              <a:spcBef>
                <a:spcPts val="601"/>
              </a:spcBef>
              <a:spcAft>
                <a:spcPts val="45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estar assessoria jurídica à Presidência, à Diretoria e às demais áreas do Crea-SP e representá-lo judicial e extrajudicialmente em questões relativas à sua atribuição, devendo, em ambos os casos, zelar pela segurança jurídica e pela observância dos princípios constitucionais da Administração Públ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F1150-004E-42A9-B1FD-FD6FEF80DA17}" type="slidenum">
              <a:t>1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STRUTURA ORGANIZ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3124080"/>
            <a:ext cx="783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Arial"/>
              </a:rPr>
              <a:t>OUVIDO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7162920" y="6095880"/>
            <a:ext cx="1143000" cy="38124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64718" h="21600">
                <a:moveTo>
                  <a:pt x="0" y="0"/>
                </a:moveTo>
                <a:lnTo>
                  <a:pt x="64718" y="0"/>
                </a:lnTo>
                <a:lnTo>
                  <a:pt x="64718" y="21600"/>
                </a:lnTo>
                <a:lnTo>
                  <a:pt x="0" y="21600"/>
                </a:lnTo>
                <a:close/>
              </a:path>
              <a:path fill="lightenLess" w="64718" h="21600">
                <a:moveTo>
                  <a:pt x="0" y="0"/>
                </a:moveTo>
                <a:lnTo>
                  <a:pt x="64718" y="0"/>
                </a:lnTo>
                <a:lnTo>
                  <a:pt x="63319" y="1400"/>
                </a:lnTo>
                <a:lnTo>
                  <a:pt x="1400" y="1400"/>
                </a:lnTo>
                <a:close/>
              </a:path>
              <a:path fill="darken" w="64718" h="21600">
                <a:moveTo>
                  <a:pt x="64718" y="0"/>
                </a:moveTo>
                <a:lnTo>
                  <a:pt x="64718" y="21600"/>
                </a:lnTo>
                <a:lnTo>
                  <a:pt x="63319" y="20200"/>
                </a:lnTo>
                <a:lnTo>
                  <a:pt x="63319" y="1400"/>
                </a:lnTo>
                <a:close/>
              </a:path>
              <a:path fill="darkenLess" w="64718" h="21600">
                <a:moveTo>
                  <a:pt x="64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19" y="20200"/>
                </a:lnTo>
                <a:close/>
              </a:path>
              <a:path fill="lighten" w="64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oltar ao sumá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B3A24-22F3-4CB3-AACC-AC2B541835A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ribuições da Superintendência Juríd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Elaborar estudos e pareceres envolvendo questões de ordem legal e/ou judicial, como atos administrativos, resoluções e legislação, sobretudo do Sistema Confea/Cre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Defender os interesses do Crea-SP nos procedimentos instaurados pelo Ministério Público Federal e do Trabalho quanto aos assuntos relacionados à sua área de competênci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alisar questões legais, pareceres, atos, resoluções e legislação pertinente ao Sistema Confea/Crea. Opinar, emitir pareceres e orientações legais para esclarecer dúvidas e subsidiar a tomada de decisão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Auxiliar na realização do interfaceamento entre o Crea-SP e os órgãos do Poder Judiciário, Ministério Público e órgãos públicos em geral, que o envolvam em questões jurídico-legais no exercício de suas atribuiçõe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42A1D-3B99-45CC-82AB-041006D2F3FD}" type="slidenum">
              <a:t>1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ribuições da Superintendência Juríd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sessorar as demais superintendências, câmaras especializadas e unidades de gestão da inspetoria e operacional nas questões de natureza jurídica; estudar soluções para os problemas apresentados e interpretar a legislação e normas vigentes para emitir parecere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borar e/ou analisar minutas de contratos/convênios divers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ticipar de processos de sindicância e inquéritos administrativos apurando fatos, analisando documentos, formulando conclusões e apresentando sugestões de encaminhamento dos processos sob o aspecto leg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presentar o Crea-SP nas ações jurídicas em que este for parte, autor ou réu, acompanhando os processos em todas as suas etapas, comparecer a audiências, preparar defesas, interpor recursos, apresentar contestações e tomar as medidas que se fizerem necessária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5ED0D-6E8C-4D28-BC42-873B69A0335B}" type="slidenum">
              <a:t>1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ribuições da Superintendência Juríd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Zelar, na sua área de atuação, pela segurança jurídica e pela observância dos princípios típicos da Administração Públic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Fixar e uniformizar a interpretação da legislação específica do sistema, inclusive dos atos normativos administrativos expedidos pelo Crea-SP quando não existir orientação específica do Confe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ssistir as autoridades no controle interno da legalidade administrativa dos atos a serem praticados, com exame prévio dos textos de atos normativ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5FB53-FA82-4BBC-BDA7-444AB18D8555}" type="slidenum">
              <a:t>1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pel principal do Departamento Consul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50000"/>
              </a:lnSpc>
              <a:spcAft>
                <a:spcPts val="41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Prestar assessoria jurídica de caráter, exclusivamente interno, na interpretação, análise e integração de leis, resoluções, decisões normativas, atos normativos, instruções e decisões plenárias no âmbito do sistema Confea/Crea e, ainda nos andamentos dos trabalhos da comissão de ética, das câmaras especializadas e grupos de trabalho.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7086600" y="6095880"/>
            <a:ext cx="1143000" cy="38124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64718" h="21600">
                <a:moveTo>
                  <a:pt x="0" y="0"/>
                </a:moveTo>
                <a:lnTo>
                  <a:pt x="64718" y="0"/>
                </a:lnTo>
                <a:lnTo>
                  <a:pt x="64718" y="21600"/>
                </a:lnTo>
                <a:lnTo>
                  <a:pt x="0" y="21600"/>
                </a:lnTo>
                <a:close/>
              </a:path>
              <a:path fill="lightenLess" w="64718" h="21600">
                <a:moveTo>
                  <a:pt x="0" y="0"/>
                </a:moveTo>
                <a:lnTo>
                  <a:pt x="64718" y="0"/>
                </a:lnTo>
                <a:lnTo>
                  <a:pt x="63319" y="1400"/>
                </a:lnTo>
                <a:lnTo>
                  <a:pt x="1400" y="1400"/>
                </a:lnTo>
                <a:close/>
              </a:path>
              <a:path fill="darken" w="64718" h="21600">
                <a:moveTo>
                  <a:pt x="64718" y="0"/>
                </a:moveTo>
                <a:lnTo>
                  <a:pt x="64718" y="21600"/>
                </a:lnTo>
                <a:lnTo>
                  <a:pt x="63319" y="20200"/>
                </a:lnTo>
                <a:lnTo>
                  <a:pt x="63319" y="1400"/>
                </a:lnTo>
                <a:close/>
              </a:path>
              <a:path fill="darkenLess" w="64718" h="21600">
                <a:moveTo>
                  <a:pt x="64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19" y="20200"/>
                </a:lnTo>
                <a:close/>
              </a:path>
              <a:path fill="lighten" w="64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oltar ao sumá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15DB6-4235-4FDC-9CB4-BB79FCBE402E}" type="slidenum">
              <a:t>1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ribuições do Departamento Consul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Manifestar-se em relação a questões jurídicas de interesse do Sistema Confea/Cre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Elaborar estudos e pareceres envolvendo questões de ordem legal relativas à atos administrativos, resoluções e legislação, sobretudo do Sistema Confea/Cre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Fornecer legislação e jurisprudência relacionada à elaboração de estudos e pareceres solicitad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Comunicar os órgãos públicos sobre o exercício ilegal da profissão, oriundo das Câmara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Interfacear com os órgãos do Poder Judiciário, Ministério Público e órgãos públicos em geral, que envolvam o Crea-SP no exercício de suas atribuições institucionai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6D906-2B05-4ADE-8A18-8162FA39C9C9}" type="slidenum">
              <a:t>1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ribuições do Departamento Consul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/>
          </p:nvPr>
        </p:nvSpPr>
        <p:spPr>
          <a:xfrm>
            <a:off x="228600" y="990720"/>
            <a:ext cx="86868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Acompanhar representações em trâmite perante o Ministério Público e a Polícia Federal, envolvendo a atuação institucional do Crea-SP (Plenário e Câmara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Auxiliar no atendimento às consultas originadas do Poder Judiciário e do Ministério Público, que tenham por assunto indicação de perito, apuração de conduta de profissional, andamento de processos administrativos relacionados à áre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Auxiliar no atendimento de solicitações de órgãos públicos em apuração de conduta de profissional e andamento de processos administrativ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Dar suporte jurídico em processos de apuração de falta ética (estudos, pareceres, informações, solução de dúvida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alisar questões legais, pareceres, atos, resoluções e legislação pertinente ao Sistema Confea-Crea, e em relação a esses, opinar e emitir pareceres e orientações legais, assim como esclarecer dúvidas sob o enfoque de sua área de atuaçã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E4E95-5CFE-4278-AD8A-D414B198B0EC}" type="slidenum">
              <a:t>1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ribuições do Departamento Consul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/>
          </p:nvPr>
        </p:nvSpPr>
        <p:spPr>
          <a:xfrm>
            <a:off x="304920" y="17524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sessorar a coordenadoria, câmaras especializadas, comissões especiais, grupos de trabalho e demais unidades administrativas do Crea-SP, nas questões de natureza jurídica relacionadas à sua área de atuação e, dessa forma, estudar soluções para os problemas apresentados, interpretar a legislação e normas vigentes, e emitir parecer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ssistir as autoridades no controle interno da legalidade administrativa dos atos a serem praticados, com exame prévio dos textos de atos normativ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laborar e/ou analisar minutas de contratos/convênios divers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A96C9-15AD-4DEF-90A6-4F7EE4EE641F}" type="slidenum">
              <a:t>1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pel principal do Departamento Contencio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85341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50000"/>
              </a:lnSpc>
              <a:spcAft>
                <a:spcPts val="45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empenhar tarefas no âmbito contencioso, acompanhando  as ações judiciais em que o Crea-SP é parte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presentando-o perante o Poder Judiciário e o Ministério Público e outros órgãos públ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934320" y="6095880"/>
            <a:ext cx="1143000" cy="38124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64718" h="21600">
                <a:moveTo>
                  <a:pt x="0" y="0"/>
                </a:moveTo>
                <a:lnTo>
                  <a:pt x="64718" y="0"/>
                </a:lnTo>
                <a:lnTo>
                  <a:pt x="64718" y="21600"/>
                </a:lnTo>
                <a:lnTo>
                  <a:pt x="0" y="21600"/>
                </a:lnTo>
                <a:close/>
              </a:path>
              <a:path fill="lightenLess" w="64718" h="21600">
                <a:moveTo>
                  <a:pt x="0" y="0"/>
                </a:moveTo>
                <a:lnTo>
                  <a:pt x="64718" y="0"/>
                </a:lnTo>
                <a:lnTo>
                  <a:pt x="63319" y="1400"/>
                </a:lnTo>
                <a:lnTo>
                  <a:pt x="1400" y="1400"/>
                </a:lnTo>
                <a:close/>
              </a:path>
              <a:path fill="darken" w="64718" h="21600">
                <a:moveTo>
                  <a:pt x="64718" y="0"/>
                </a:moveTo>
                <a:lnTo>
                  <a:pt x="64718" y="21600"/>
                </a:lnTo>
                <a:lnTo>
                  <a:pt x="63319" y="20200"/>
                </a:lnTo>
                <a:lnTo>
                  <a:pt x="63319" y="1400"/>
                </a:lnTo>
                <a:close/>
              </a:path>
              <a:path fill="darkenLess" w="64718" h="21600">
                <a:moveTo>
                  <a:pt x="64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19" y="20200"/>
                </a:lnTo>
                <a:close/>
              </a:path>
              <a:path fill="lighten" w="64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oltar ao sumá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768C2-436D-4334-908A-21AD49657BFE}" type="slidenum">
              <a:t>1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ribuições do Departamento Contencio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/>
          </p:nvPr>
        </p:nvSpPr>
        <p:spPr>
          <a:xfrm>
            <a:off x="228600" y="11430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Desempenhar tarefas no âmbito contencios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Representar judicialmente o Crea-SP nas ações jurídicas em que este for parte, autor ou réu, acompanhando os processos em todas as suas etapas, comparecer a audiências, preparar defesas, interpor recursos, apresentar contestações e tomar as medidas que se fizerem necessária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Realizar interfaceamento junto aos órgãos do Poder Judiciário, Ministério Público e órgãos públicos em geral, em matérias que envolvam o Crea-SP em questões judiciai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Participar de processos de sindicância e inquéritos administrativos, apurando fatos, analisando documentos, formulando conclusões e apresentando sugestões de encaminhamento dos processos sob o aspecto leg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04D7A-37CF-4255-BF8E-B82C48DCD9AA}" type="slidenum">
              <a:t>1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ribuições do Departamento Contencio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/>
          </p:nvPr>
        </p:nvSpPr>
        <p:spPr>
          <a:xfrm>
            <a:off x="228600" y="12189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Elaborar estudos e pareceres envolvendo questões judiciais relativas a atos administrativos, resoluções e legislação, sobretudo do Sistema Confea/Crea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Realizar a gestão dos processos administrativos instaurados para acompanhamento das questões relativas às ações judiciais de sua competênci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Opinar previamente sobre a forma de cumprimento de decisões judiciais em que o Crea-SP seja parte ou interessad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alisar questões legais, pareceres, atos, resoluções e legislação pertinente ao Sistema Confea-Crea e, em relação a esses, opinar e emitir pareceres e orientações legais, assim como esclarecer dúvidas sob o enfoque de sua área de atuaçã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CF403-C0A1-4124-874E-60734E9BBC8C}" type="slidenum">
              <a:t>1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533520" y="121896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  <a:ea typeface="Arial"/>
              </a:rPr>
              <a:t>Papel principal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da Ouvido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38360"/>
            <a:ext cx="8305920" cy="41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just">
              <a:lnSpc>
                <a:spcPct val="100000"/>
              </a:lnSpc>
              <a:spcAft>
                <a:spcPts val="35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Fortalecer e ampliar o nível de comunicação entre o usuário e o Crea-SP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Aft>
                <a:spcPts val="35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colher todas as manifestações externas e intermediar com as unidades organizacionais competente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Aft>
                <a:spcPts val="35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nteragir com as demais áreas para atuar preventivamente com vistas à redução de conflito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Aft>
                <a:spcPts val="35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roporcionar transparência na administração e agregar valor às relações institucionais e sociai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AB39A-4C30-4AB1-B59F-35FE908AE19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ribuições do Departamento Contencio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Defender os interesses do Crea-SP nos procedimentos instaurados pelo Ministério Público Federal e do Trabalho quanto aos assuntos relacionados à sua área de competênci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Representar o Crea-SP em providências judiciais reclamadas pela legislação do sistema Confea/Crea, buscando assegurar o cumprimento de sua função pública e de sua competência legal, com prerrogativas de Fazenda Pública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Representar judicialmente os ocupantes de cargos e funções de direção, com referência a atos praticados no exercício de suas atribuições institucionais ou legais, competindo-lhe, inclusive, a impetração de mandado de segurança em nome deles para a defesa de suas atribuições legai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62206-F3D0-41C8-B179-9DBC2199EFF3}" type="slidenum">
              <a:t>1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tribuições gerais das áre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 algn="just">
              <a:lnSpc>
                <a:spcPct val="90000"/>
              </a:lnSpc>
              <a:spcAft>
                <a:spcPts val="1063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  <a:ea typeface="Arial"/>
              </a:rPr>
              <a:t>Participar do Planejamento Estratégico do Crea-SP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 algn="just">
              <a:lnSpc>
                <a:spcPct val="90000"/>
              </a:lnSpc>
              <a:spcAft>
                <a:spcPts val="1063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  <a:ea typeface="Arial"/>
              </a:rPr>
              <a:t>Propor ações de melhoria para os serviços da área.</a:t>
            </a:r>
            <a:r>
              <a:rPr b="0" lang="pt-BR" sz="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 algn="just">
              <a:lnSpc>
                <a:spcPct val="90000"/>
              </a:lnSpc>
              <a:spcAft>
                <a:spcPts val="1063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  <a:ea typeface="Arial"/>
              </a:rPr>
              <a:t>Manter interfaceamento com as demais áreas do Crea-SP para tratar de assuntos inerentes à área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 algn="just">
              <a:lnSpc>
                <a:spcPct val="90000"/>
              </a:lnSpc>
              <a:spcAft>
                <a:spcPts val="1063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  <a:ea typeface="Arial"/>
              </a:rPr>
              <a:t>Gerir os contratos firmados com prestadoras de serviços para a área e acompanhar: o cumprimento dos prazos, os pagamentos previstos, as prorrogações e aditivos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 algn="just">
              <a:lnSpc>
                <a:spcPct val="90000"/>
              </a:lnSpc>
              <a:spcAft>
                <a:spcPts val="1063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  <a:ea typeface="Arial"/>
              </a:rPr>
              <a:t>Compor o orçamento anual da área e gerenciar os recursos disponibilizados sob sua responsabilidade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 algn="just">
              <a:lnSpc>
                <a:spcPct val="90000"/>
              </a:lnSpc>
              <a:spcAft>
                <a:spcPts val="1063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  <a:ea typeface="Arial"/>
              </a:rPr>
              <a:t>Administrar os recursos humanos, materiais e financeiros disponibilizados para a área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 algn="just">
              <a:lnSpc>
                <a:spcPct val="90000"/>
              </a:lnSpc>
              <a:spcAft>
                <a:spcPts val="1063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  <a:ea typeface="Arial"/>
              </a:rPr>
              <a:t>Elaborar e subscrever ofícios, memorandos, informações, despachos e mensagens eletrônicas de acordo com as instruções vigentes, e dar prosseguimento ao assunto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 algn="just">
              <a:lnSpc>
                <a:spcPct val="90000"/>
              </a:lnSpc>
              <a:spcAft>
                <a:spcPts val="1063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  <a:ea typeface="Arial"/>
              </a:rPr>
              <a:t>Preparar, periodicamente, relatório de atividades e encaminhar ao superior imediato para análise e considerações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 algn="just">
              <a:lnSpc>
                <a:spcPct val="90000"/>
              </a:lnSpc>
              <a:spcAft>
                <a:spcPts val="1063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  <a:ea typeface="Arial"/>
              </a:rPr>
              <a:t>Desenvolver outras atividades correlatas à área, por ordem superior ou com o seu conhecimento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7086600" y="6172200"/>
            <a:ext cx="1143000" cy="38088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4780" h="21600">
                <a:moveTo>
                  <a:pt x="0" y="0"/>
                </a:moveTo>
                <a:lnTo>
                  <a:pt x="64780" y="0"/>
                </a:lnTo>
                <a:lnTo>
                  <a:pt x="64780" y="21600"/>
                </a:lnTo>
                <a:lnTo>
                  <a:pt x="0" y="21600"/>
                </a:lnTo>
                <a:close/>
              </a:path>
              <a:path fill="lightenLess" w="64780" h="21600">
                <a:moveTo>
                  <a:pt x="0" y="0"/>
                </a:moveTo>
                <a:lnTo>
                  <a:pt x="64780" y="0"/>
                </a:lnTo>
                <a:lnTo>
                  <a:pt x="63380" y="1400"/>
                </a:lnTo>
                <a:lnTo>
                  <a:pt x="1400" y="1400"/>
                </a:lnTo>
                <a:close/>
              </a:path>
              <a:path fill="darken" w="64780" h="21600">
                <a:moveTo>
                  <a:pt x="64780" y="0"/>
                </a:moveTo>
                <a:lnTo>
                  <a:pt x="64780" y="21600"/>
                </a:lnTo>
                <a:lnTo>
                  <a:pt x="63380" y="20200"/>
                </a:lnTo>
                <a:lnTo>
                  <a:pt x="63380" y="1400"/>
                </a:lnTo>
                <a:close/>
              </a:path>
              <a:path fill="darkenLess" w="64780" h="21600">
                <a:moveTo>
                  <a:pt x="64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80" y="20200"/>
                </a:lnTo>
                <a:close/>
              </a:path>
              <a:path fill="lighten" w="64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oltar ao sumá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7AB9D-52F8-4C61-9A8E-D445C681DD90}" type="slidenum">
              <a:t>1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533520" y="121896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  <a:ea typeface="Arial"/>
              </a:rPr>
              <a:t>Atribuições da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Ouvido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" y="914400"/>
            <a:ext cx="8686800" cy="56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just">
              <a:lnSpc>
                <a:spcPct val="100000"/>
              </a:lnSpc>
              <a:spcAft>
                <a:spcPts val="2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uar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m última instância de atendimento, na mediação de demandas, após esgotadas as possibilidades de ação pelas demais área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Aft>
                <a:spcPts val="27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ientar o usuário quanto à finalidade da Ouvidoria, seu limite de atuação e as formas de acesso aos seus serviços e instruí-lo para cumprir suas obrigações junto ao Crea-S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Aft>
                <a:spcPts val="27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elar pela aplicação dos princípios éticos e pelos objetivos do Crea-S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Aft>
                <a:spcPts val="27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ceber e registrar as manifestações dos usuários (denúncias, agradecimentos, elogios, reclamações, sugestões e solicitações de informação) referentes aos serviços prestad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Aft>
                <a:spcPts val="27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erificar a procedência da manifestação apresentada e buscar soluções junto às áreas competente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Aft>
                <a:spcPts val="27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isar as manifestações registradas de forma sistêmica para identificar oportunidades de melhoria e sugerir às Unidades medidas de aperfeiçoamento dos serviços prestados pelo Crea-S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50EC4-5810-4D6F-A029-05EC32E2659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533520" y="121896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  <a:ea typeface="Arial"/>
              </a:rPr>
              <a:t>Atribuições da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Ouvido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2280" y="1000080"/>
            <a:ext cx="8763120" cy="554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just">
              <a:lnSpc>
                <a:spcPct val="100000"/>
              </a:lnSpc>
              <a:spcAft>
                <a:spcPts val="27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segurar agilidade e transparência no trâmite da manifestação e informar ao usuário sobre as providências adotadas, dentro dos prazos estabelecid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Aft>
                <a:spcPts val="27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por ações para integrar e uniformizar os procedimentos da Ouvidoria com as demais áreas do Crea-S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Aft>
                <a:spcPts val="27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zar e manter o acervo documental atualizado relativo às manifestações dos usuários e resguardar o sigilo das informações de natureza reservad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resentar relatórios, periodicamente, sobre os resultados da atuação da Ouvidoria e os indicativos de satisfação dos usuários para análise de instância superio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borar o Plano Anual de Trabalh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agir com Ouvidorias de outras instituições para troca de informações e nivelar conheciment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ticipar de eventos relacionados às atividades de Ouvido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8AA4A-A11F-4A8D-AAEB-47AD7199B06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STRUTURA ORGANIZ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0" y="205704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Times New Roman"/>
              </a:rPr>
              <a:t>SUPERINTENDÊNCIA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  <a:ea typeface="Times New Roman"/>
              </a:rPr>
              <a:t> ADMINISTRA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rId1" action="ppaction://hlinksldjump"/>
          </p:cNvPr>
          <p:cNvSpPr/>
          <p:nvPr/>
        </p:nvSpPr>
        <p:spPr>
          <a:xfrm>
            <a:off x="7086600" y="6095880"/>
            <a:ext cx="1143000" cy="38124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64718" h="21600">
                <a:moveTo>
                  <a:pt x="0" y="0"/>
                </a:moveTo>
                <a:lnTo>
                  <a:pt x="64718" y="0"/>
                </a:lnTo>
                <a:lnTo>
                  <a:pt x="64718" y="21600"/>
                </a:lnTo>
                <a:lnTo>
                  <a:pt x="0" y="21600"/>
                </a:lnTo>
                <a:close/>
              </a:path>
              <a:path fill="lightenLess" w="64718" h="21600">
                <a:moveTo>
                  <a:pt x="0" y="0"/>
                </a:moveTo>
                <a:lnTo>
                  <a:pt x="64718" y="0"/>
                </a:lnTo>
                <a:lnTo>
                  <a:pt x="63319" y="1400"/>
                </a:lnTo>
                <a:lnTo>
                  <a:pt x="1400" y="1400"/>
                </a:lnTo>
                <a:close/>
              </a:path>
              <a:path fill="darken" w="64718" h="21600">
                <a:moveTo>
                  <a:pt x="64718" y="0"/>
                </a:moveTo>
                <a:lnTo>
                  <a:pt x="64718" y="21600"/>
                </a:lnTo>
                <a:lnTo>
                  <a:pt x="63319" y="20200"/>
                </a:lnTo>
                <a:lnTo>
                  <a:pt x="63319" y="1400"/>
                </a:lnTo>
                <a:close/>
              </a:path>
              <a:path fill="darkenLess" w="64718" h="21600">
                <a:moveTo>
                  <a:pt x="64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19" y="20200"/>
                </a:lnTo>
                <a:close/>
              </a:path>
              <a:path fill="lighten" w="64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oltar ao sumá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8FB93-0883-4FC4-AD62-2B497F1B842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3657600" cy="8413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219320"/>
            <a:ext cx="9144000" cy="7596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57600" y="1752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00" y="13050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SUMÁ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867280" y="6095880"/>
            <a:ext cx="2438640" cy="3985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tilize sempre o sumário para localizar a área de seu interes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320" y="1704960"/>
            <a:ext cx="2971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66ff"/>
                </a:solidFill>
                <a:latin typeface="Arial"/>
              </a:rPr>
              <a:t>Estrutura Organizacional do Crea-S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198108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2" action="ppaction://hlinksldjump"/>
          </p:cNvPr>
          <p:cNvSpPr/>
          <p:nvPr/>
        </p:nvSpPr>
        <p:spPr>
          <a:xfrm>
            <a:off x="76320" y="5105520"/>
            <a:ext cx="2666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66ff"/>
                </a:solidFill>
                <a:latin typeface="Arial"/>
              </a:rPr>
              <a:t>Estrutura da SUPAD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3" action="ppaction://hlinksldjump"/>
          </p:cNvPr>
          <p:cNvSpPr/>
          <p:nvPr/>
        </p:nvSpPr>
        <p:spPr>
          <a:xfrm>
            <a:off x="3352680" y="4371840"/>
            <a:ext cx="2362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66ff"/>
                </a:solidFill>
                <a:latin typeface="Arial"/>
              </a:rPr>
              <a:t>Estrutura da SUPOP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320" y="2101680"/>
            <a:ext cx="2438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spcBef>
                <a:spcPts val="275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66ff"/>
                </a:solidFill>
                <a:latin typeface="Arial"/>
                <a:ea typeface="Arial"/>
              </a:rPr>
              <a:t>Estrutura Básic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320" y="2482920"/>
            <a:ext cx="3429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spcBef>
                <a:spcPts val="275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66ff"/>
                </a:solidFill>
                <a:latin typeface="Arial"/>
                <a:ea typeface="Arial"/>
              </a:rPr>
              <a:t>Estrutura de Supor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320" y="2863800"/>
            <a:ext cx="304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66ff"/>
                </a:solidFill>
                <a:latin typeface="Arial"/>
              </a:rPr>
              <a:t>Estrutura Auxilia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3733920"/>
            <a:ext cx="3200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66ff"/>
                </a:solidFill>
                <a:latin typeface="Arial"/>
                <a:ea typeface="Arial"/>
              </a:rPr>
              <a:t>Gráfico de Departamentos/Unidad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320" y="4191120"/>
            <a:ext cx="2133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66ff"/>
                </a:solidFill>
                <a:latin typeface="Arial"/>
              </a:rPr>
              <a:t>Estrutura da UA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4648320"/>
            <a:ext cx="2895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spcBef>
                <a:spcPts val="275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66ff"/>
                </a:solidFill>
                <a:latin typeface="Arial"/>
              </a:rPr>
              <a:t>Estrutura da Ouvidori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4" action="ppaction://hlinksldjump"/>
          </p:cNvPr>
          <p:cNvSpPr/>
          <p:nvPr/>
        </p:nvSpPr>
        <p:spPr>
          <a:xfrm>
            <a:off x="3352680" y="1704960"/>
            <a:ext cx="2187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66ff"/>
                </a:solidFill>
                <a:latin typeface="Arial"/>
              </a:rPr>
              <a:t>Estrutura da SUPC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5" action="ppaction://hlinksldjump"/>
          </p:cNvPr>
          <p:cNvSpPr/>
          <p:nvPr/>
        </p:nvSpPr>
        <p:spPr>
          <a:xfrm>
            <a:off x="3352680" y="2971800"/>
            <a:ext cx="2667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66ff"/>
                </a:solidFill>
                <a:latin typeface="Arial"/>
              </a:rPr>
              <a:t>Estrutura da SUPTE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1720800"/>
            <a:ext cx="2286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66ff"/>
                </a:solidFill>
                <a:latin typeface="Arial"/>
              </a:rPr>
              <a:t>Estrutura da SUPR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6" action="ppaction://hlinksldjump"/>
          </p:cNvPr>
          <p:cNvSpPr/>
          <p:nvPr/>
        </p:nvSpPr>
        <p:spPr>
          <a:xfrm>
            <a:off x="6248520" y="3321000"/>
            <a:ext cx="2438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66ff"/>
                </a:solidFill>
                <a:latin typeface="Arial"/>
              </a:rPr>
              <a:t>Estrutura da SUPLA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7" action="ppaction://hlinksldjump"/>
          </p:cNvPr>
          <p:cNvSpPr/>
          <p:nvPr/>
        </p:nvSpPr>
        <p:spPr>
          <a:xfrm>
            <a:off x="6248520" y="4343400"/>
            <a:ext cx="2057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66ff"/>
                </a:solidFill>
                <a:latin typeface="Arial"/>
              </a:rPr>
              <a:t>Estrutura da SUPJU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8" action="ppaction://hlinksldjump"/>
          </p:cNvPr>
          <p:cNvSpPr/>
          <p:nvPr/>
        </p:nvSpPr>
        <p:spPr>
          <a:xfrm>
            <a:off x="3581280" y="20574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pto de Finanç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9" action="ppaction://hlinksldjump"/>
          </p:cNvPr>
          <p:cNvSpPr/>
          <p:nvPr/>
        </p:nvSpPr>
        <p:spPr>
          <a:xfrm>
            <a:off x="3581280" y="2270160"/>
            <a:ext cx="281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pto de Contabilidade de Orçame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10" action="ppaction://hlinksldjump"/>
          </p:cNvPr>
          <p:cNvSpPr/>
          <p:nvPr/>
        </p:nvSpPr>
        <p:spPr>
          <a:xfrm>
            <a:off x="3581280" y="249876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pto de Dívida Ati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11" action="ppaction://hlinksldjump"/>
          </p:cNvPr>
          <p:cNvSpPr/>
          <p:nvPr/>
        </p:nvSpPr>
        <p:spPr>
          <a:xfrm>
            <a:off x="3581280" y="3352680"/>
            <a:ext cx="259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pto de Assistência ao Plená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12" action="ppaction://hlinksldjump"/>
          </p:cNvPr>
          <p:cNvSpPr/>
          <p:nvPr/>
        </p:nvSpPr>
        <p:spPr>
          <a:xfrm>
            <a:off x="3581280" y="3581280"/>
            <a:ext cx="228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pto de Assistência Técn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13" action="ppaction://hlinksldjump"/>
          </p:cNvPr>
          <p:cNvSpPr/>
          <p:nvPr/>
        </p:nvSpPr>
        <p:spPr>
          <a:xfrm>
            <a:off x="3581280" y="3809880"/>
            <a:ext cx="2667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pto de Assistência às Câmaras e Conselheir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77120" y="3581280"/>
            <a:ext cx="2133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nidade de Planejamento 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senvolvime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77120" y="46036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pto Consultiv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77120" y="48322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pto Contencios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48520" y="5607000"/>
            <a:ext cx="2438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66ff"/>
                </a:solidFill>
                <a:latin typeface="Arial"/>
              </a:rPr>
              <a:t>Atribuições Gerais das Áre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477120" y="2057400"/>
            <a:ext cx="2361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pto de Relações Institucionais Intern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77120" y="2422440"/>
            <a:ext cx="2514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pto de Relações Institucionais Extern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81280" y="6156360"/>
            <a:ext cx="228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pto de Informát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81280" y="5546880"/>
            <a:ext cx="22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pto de Controle e Diretrizes de Registro e Instrução de Process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5089680"/>
            <a:ext cx="2286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pto de Controle e Diretrizes de Fiscalizaçã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4800600"/>
            <a:ext cx="228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ptos Regiona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14" action="ppaction://hlinksldjump"/>
          </p:cNvPr>
          <p:cNvSpPr/>
          <p:nvPr/>
        </p:nvSpPr>
        <p:spPr>
          <a:xfrm>
            <a:off x="304920" y="54100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pto de Supriment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15" action="ppaction://hlinksldjump"/>
          </p:cNvPr>
          <p:cNvSpPr/>
          <p:nvPr/>
        </p:nvSpPr>
        <p:spPr>
          <a:xfrm>
            <a:off x="304920" y="5638680"/>
            <a:ext cx="27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pto de Recursos Human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16" action="ppaction://hlinksldjump"/>
          </p:cNvPr>
          <p:cNvSpPr/>
          <p:nvPr/>
        </p:nvSpPr>
        <p:spPr>
          <a:xfrm>
            <a:off x="304920" y="586728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pto Administrativ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17" action="ppaction://hlinksldjump"/>
          </p:cNvPr>
          <p:cNvSpPr/>
          <p:nvPr/>
        </p:nvSpPr>
        <p:spPr>
          <a:xfrm>
            <a:off x="306360" y="6095880"/>
            <a:ext cx="144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pto de Event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18" action="ppaction://hlinksldjump"/>
          </p:cNvPr>
          <p:cNvSpPr/>
          <p:nvPr/>
        </p:nvSpPr>
        <p:spPr>
          <a:xfrm>
            <a:off x="304920" y="632448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pto de Comunicaçã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320" y="3276720"/>
            <a:ext cx="3429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66ff"/>
                </a:solidFill>
                <a:latin typeface="Arial"/>
                <a:ea typeface="Arial"/>
              </a:rPr>
              <a:t>Organograma da Administração do Crea-S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5059A-6131-4516-9804-4A1FD47A49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rutura Organizacional da SUPAD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560" y="990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Superintendência Administrativa é composta por 5 Departamentos e por 07 Unidad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23880" y="2057400"/>
            <a:ext cx="4343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8360" indent="-198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nidade de Comp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nidade de Patrimônio e Almoxarif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14400" y="1752480"/>
            <a:ext cx="510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66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Departamento de Supri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23880" y="3124080"/>
            <a:ext cx="6172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8360" indent="-198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nidade de Gestão de R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nidade de Administração de Pesso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14400" y="2819520"/>
            <a:ext cx="510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66ff"/>
              </a:buClr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Departamento de Recursos Huma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14400" y="5334120"/>
            <a:ext cx="6172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9600" indent="-579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Arial"/>
                <a:ea typeface="Arial"/>
              </a:rPr>
              <a:t>IV.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  <a:ea typeface="Arial"/>
              </a:rPr>
              <a:t>Departamento de Ev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-579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-579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Arial"/>
                <a:ea typeface="Arial"/>
              </a:rPr>
              <a:t>V.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  <a:ea typeface="Arial"/>
              </a:rPr>
              <a:t>Departamento de Comunic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14400" y="4006800"/>
            <a:ext cx="510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66ff"/>
              </a:buClr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Departamento Administra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23880" y="4343400"/>
            <a:ext cx="6172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8360" indent="-198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nidade de Transpor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nidade de Controle de Uso de Veícul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nidade de Serviços Administra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A5BA5-790C-4FFD-A153-DDA0228D272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pel princip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a Superintendência Administra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8800" indent="-388800" algn="just">
              <a:lnSpc>
                <a:spcPct val="100000"/>
              </a:lnSpc>
              <a:spcAft>
                <a:spcPts val="45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ticipar da elaboração do planejamento estratégic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45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ejar e propor ações para o desenvolvimento organizacional do Crea-S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45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lanejar, organizar, dirigir, controlar e avaliar as ações e procedimentos técnicos e operacionais no âmbito dos Departamentos: Suprimentos, Recursos Humanos,  Administrativo, Eventos e Comunicação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C0E31-4D81-4753-9448-3D39C03C201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228600" y="1828800"/>
            <a:ext cx="86104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 algn="just">
              <a:lnSpc>
                <a:spcPct val="100000"/>
              </a:lnSpc>
              <a:spcAft>
                <a:spcPts val="45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estar assessoria para a Diretoria e Presidênci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Aft>
                <a:spcPts val="45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agir com as demais superintendências, Unidade Administrativa do Gabinete da Presidência e Ouvidoria para tratar de assuntos afetos ao Crea-S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Aft>
                <a:spcPts val="45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egurar apoio logístico a todas as áreas do Crea-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ribuições da Superintendência Administra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71028-24CE-4542-9761-2815FD30E0D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pel principal do Departamento de Suprim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1828800"/>
            <a:ext cx="8686800" cy="38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 algn="just">
              <a:lnSpc>
                <a:spcPct val="15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erenciar todo o processo administrativo do departamento. Planejar e fixar objetivos e metas; coordenar e controlar as atividades correlatas às áreas de Compras, Patrimônio e Almoxarifad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5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oiar as decisões da Superintendência Administrativa 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bor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udos para tomada de decisã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5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ticipar ativamente na fase de elaboração do Planejamento Estratégico com propostas para atingir os objetivos e metas do Crea-S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>
            <a:hlinkClick r:id="rId1" action="ppaction://hlinksldjump"/>
          </p:cNvPr>
          <p:cNvSpPr/>
          <p:nvPr/>
        </p:nvSpPr>
        <p:spPr>
          <a:xfrm>
            <a:off x="7086600" y="6095880"/>
            <a:ext cx="1143000" cy="38124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64718" h="21600">
                <a:moveTo>
                  <a:pt x="0" y="0"/>
                </a:moveTo>
                <a:lnTo>
                  <a:pt x="64718" y="0"/>
                </a:lnTo>
                <a:lnTo>
                  <a:pt x="64718" y="21600"/>
                </a:lnTo>
                <a:lnTo>
                  <a:pt x="0" y="21600"/>
                </a:lnTo>
                <a:close/>
              </a:path>
              <a:path fill="lightenLess" w="64718" h="21600">
                <a:moveTo>
                  <a:pt x="0" y="0"/>
                </a:moveTo>
                <a:lnTo>
                  <a:pt x="64718" y="0"/>
                </a:lnTo>
                <a:lnTo>
                  <a:pt x="63319" y="1400"/>
                </a:lnTo>
                <a:lnTo>
                  <a:pt x="1400" y="1400"/>
                </a:lnTo>
                <a:close/>
              </a:path>
              <a:path fill="darken" w="64718" h="21600">
                <a:moveTo>
                  <a:pt x="64718" y="0"/>
                </a:moveTo>
                <a:lnTo>
                  <a:pt x="64718" y="21600"/>
                </a:lnTo>
                <a:lnTo>
                  <a:pt x="63319" y="20200"/>
                </a:lnTo>
                <a:lnTo>
                  <a:pt x="63319" y="1400"/>
                </a:lnTo>
                <a:close/>
              </a:path>
              <a:path fill="darkenLess" w="64718" h="21600">
                <a:moveTo>
                  <a:pt x="64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19" y="20200"/>
                </a:lnTo>
                <a:close/>
              </a:path>
              <a:path fill="lighten" w="64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oltar ao sumá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ECEF1-DF8E-46F3-B3AA-C52AD4120F1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ribuições do Departamento de Suprim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" y="15238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 algn="just">
              <a:lnSpc>
                <a:spcPct val="120000"/>
              </a:lnSpc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rencia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2438280"/>
            <a:ext cx="807732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 algn="just">
              <a:lnSpc>
                <a:spcPct val="100000"/>
              </a:lnSpc>
              <a:spcAft>
                <a:spcPts val="2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s processos de licitação de compras de materiais, equipamentos, locação, serviços, assim como orientar a área de compras para a correta utilização dos parâmetros adequados de preço, custos, quantidades, prazos e qualidad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2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s serviços de apoio administrativo para atender as áreas de alcance do departament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2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 controle patrimonial dos bens; o inventário físico periódico dos bens patrimoniais e dos materiais consumívei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936BC-F3A7-44F3-A821-EAD15DDFEF1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ribuições do Departamento de Suprim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" y="1676520"/>
            <a:ext cx="8686800" cy="39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 algn="just">
              <a:lnSpc>
                <a:spcPct val="120000"/>
              </a:lnSpc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bsidiar a tomada de decisão da Superintendência em assuntos relacionados à área de Compras, Licitações, Patrimônio e Almoxarifad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20000"/>
              </a:lnSpc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ompanhar as alterações da legislação e regulamentação vigentes, sugerir mudanças e melhorias para o aperfeiçoamento contínuo do trabalho executado pelas áreas de sua responsabilidad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20000"/>
              </a:lnSpc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segurar que os processos licitatórios ocorram dentro da legalidade para atender às necessidades do Crea-S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32FB5-3ECB-4AB0-8F5E-2AC1BD93999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pel principal da Unidade de Comp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28600" y="2209680"/>
            <a:ext cx="8686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ponsável por todas as aquisições/contratações em cumprimento à legislação vigente, Lei nº 8.666/93 e suas atualizações, Lei Federal nº 10.520 e Decretos Federai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ºs 3550/2000, 3931/2001 e 5450/200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0AC2C-E0D8-4482-AFE1-961F3890E3F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ribuições da Unidade de Comp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8600" y="990720"/>
            <a:ext cx="8686800" cy="55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 algn="just">
              <a:lnSpc>
                <a:spcPct val="120000"/>
              </a:lnSpc>
              <a:spcAft>
                <a:spcPts val="2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rir processos de ordem “L” para realizar licitação de fornecimento: de materiais, equipamentos e serviços; elaborar e divulgar os editais e demais procedimentos oriundos do certame licitatóri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20000"/>
              </a:lnSpc>
              <a:spcAft>
                <a:spcPts val="2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caminhar processos à Consultoria Jurídica para emitir parecer e elaborar contrat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20000"/>
              </a:lnSpc>
              <a:spcAft>
                <a:spcPts val="2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sessorar a Comissão de Compras e Licitaçõe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20000"/>
              </a:lnSpc>
              <a:spcAft>
                <a:spcPts val="2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alizar licitações nas diversas modalidades de acordo com o enquadramento legal e para a modalidade Pregão (obrigatoriamente) e preferencialmente Pregão Eletrônico, dotando-os de pregoeiro e equipe de apoio designados pela autoridade competent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20000"/>
              </a:lnSpc>
              <a:spcAft>
                <a:spcPts val="2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videnciar o empenho de verba orçamentária ao final do certame licitatório e emitir pedido de compras ao seu vencedo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C4084-DA02-4D1F-9E5F-8517A65393B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ribuições da Unidade de Comp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75960" y="1295280"/>
            <a:ext cx="8915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51"/>
              </a:spcBef>
              <a:spcAft>
                <a:spcPts val="27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estar recebimento de materiais adquiridos, quando necessári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451"/>
              </a:spcBef>
              <a:spcAft>
                <a:spcPts val="27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eparar relação das compras efetuadas com identificação: bem, preço unitário, quantidade adquirida, nome do fornecedor e valor total da operação das compras realizadas por dispensa e inexigibilidade de licitação, afixar no quadro de avisos para amplo acesso público em conformidade com a legislação vigent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451"/>
              </a:spcBef>
              <a:spcAft>
                <a:spcPts val="27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videnciar publicações na imprensa oficial e jornais de grande circulação dos processos de ordem “L” em consonância com a Lei de Licitações, assim como outras publicações requisitadas pelas demais áreas do Crea-S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451"/>
              </a:spcBef>
              <a:spcAft>
                <a:spcPts val="27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videnciar, manter atualizado e ampliar o cadastro de fornecedores em cumprimento à legislação vig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1D132-8037-4476-AA91-BBFA87BD91C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pel principal da Unidade 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atrimônio e Almoxarifad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8600" y="2152800"/>
            <a:ext cx="868680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 algn="just">
              <a:lnSpc>
                <a:spcPct val="100000"/>
              </a:lnSpc>
              <a:spcAft>
                <a:spcPts val="45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ejar, organizar, abastecer e armazenar os materiais de consum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45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trolar fisicamente os bens patrimoniai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45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nter a guarda dos processos no arquivo ger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BD528-6258-4606-B6D0-7372969A9C8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Estrutura Organizacional do Crea-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228600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Conselho Regional de Engenharia, Arquitetura e Agronomia do Estado de São Paulo, para o desenvolvimento de suas ações é organizado administrativamente em: estrutura básica, de suporte e auxiliar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1" action="ppaction://hlinksldjump"/>
          </p:cNvPr>
          <p:cNvSpPr/>
          <p:nvPr/>
        </p:nvSpPr>
        <p:spPr>
          <a:xfrm>
            <a:off x="7162920" y="6095880"/>
            <a:ext cx="1143000" cy="38124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64718" h="21600">
                <a:moveTo>
                  <a:pt x="0" y="0"/>
                </a:moveTo>
                <a:lnTo>
                  <a:pt x="64718" y="0"/>
                </a:lnTo>
                <a:lnTo>
                  <a:pt x="64718" y="21600"/>
                </a:lnTo>
                <a:lnTo>
                  <a:pt x="0" y="21600"/>
                </a:lnTo>
                <a:close/>
              </a:path>
              <a:path fill="lightenLess" w="64718" h="21600">
                <a:moveTo>
                  <a:pt x="0" y="0"/>
                </a:moveTo>
                <a:lnTo>
                  <a:pt x="64718" y="0"/>
                </a:lnTo>
                <a:lnTo>
                  <a:pt x="63319" y="1400"/>
                </a:lnTo>
                <a:lnTo>
                  <a:pt x="1400" y="1400"/>
                </a:lnTo>
                <a:close/>
              </a:path>
              <a:path fill="darken" w="64718" h="21600">
                <a:moveTo>
                  <a:pt x="64718" y="0"/>
                </a:moveTo>
                <a:lnTo>
                  <a:pt x="64718" y="21600"/>
                </a:lnTo>
                <a:lnTo>
                  <a:pt x="63319" y="20200"/>
                </a:lnTo>
                <a:lnTo>
                  <a:pt x="63319" y="1400"/>
                </a:lnTo>
                <a:close/>
              </a:path>
              <a:path fill="darkenLess" w="64718" h="21600">
                <a:moveTo>
                  <a:pt x="64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19" y="20200"/>
                </a:lnTo>
                <a:close/>
              </a:path>
              <a:path fill="lighten" w="64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oltar ao sumá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87D62-418E-4F9B-8133-F0D116FAFB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ribuições da Unidade 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atrimônio e Almoxarifad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8600" y="1066680"/>
            <a:ext cx="8686800" cy="54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just">
              <a:lnSpc>
                <a:spcPct val="12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videnciar a identificação e registro do bem com selo padronizado por unidade e responsável pela guarda e conservaçã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2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mitir o Relatório de Patrimônio/Termo de Responsabilidade dos bens patrimoniais móveis, e manter arquivada em pasta própria uma via datada, rubricada e assinada pelo responsável da unidad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2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pedir autorização para transporte de bens quando recebidos para distribuição aos seus responsáveis solicitante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2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abilizar para as áreas responsáveis, periodicamente, o inventário dos bens patrimoniai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2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tar em processo específico o desfazimento de bens patrimoniais inservíveis e de materiais de consumo ociosos, por alienaçã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985D9-5DF5-45E9-8D34-AD6183CEF6C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ribuições da Unidade 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atrimônio e Almoxarif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28600" y="1131840"/>
            <a:ext cx="8686800" cy="51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just">
              <a:lnSpc>
                <a:spcPct val="10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ceber, conferir e identificar os materiais de consumo adquiridos e confrontar com as descrições constantes das notas fiscais e os quesitos descritos no pedido de compra ou contrat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uardar os materiais de forma organizada, adequada e segura, identificá-los como item de estoque por meio de código específico do almoxarifad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ceber e analisar as requisições de materiais. Separar, conferir, embalar e atender o solicita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ministrar as entradas, saídas e o consumo dos materiais, observar o consumo médio para o estabelecimento ou revisão do estoque mínimo seguro para reposiçã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mitir relatório mensal de movimentação e de entrada e saída de materiais do estoque para fins de registro contábi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7529C-42C0-457F-9E25-4CAD4A975C4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ribuições da Unidade 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atrimônio e Almoxarifad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4920" y="1752480"/>
            <a:ext cx="853416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t">
            <a:spAutoFit/>
          </a:bodyPr>
          <a:p>
            <a:pPr marL="380880" indent="-380880" algn="just">
              <a:lnSpc>
                <a:spcPct val="100000"/>
              </a:lnSpc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mover o inventário físico anual e confrontar o estoque físico com o controle do almoxarifado para fins de fechamento contábil do exercíci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eber das demais áreas as caixas contendo os processos para arquivo e armazená-lo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calizar por solicitação das áreas os processos armazenados nas caixas e providenciar o seu env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C15C7-6E50-4396-8F9D-B089735C701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380880" y="12189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72960" indent="-372960" algn="just">
              <a:lnSpc>
                <a:spcPct val="120000"/>
              </a:lnSpc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ssegurar a adoção de estratégias e estabelecimento de planos e programas para garantir o atendimento adequado e oportuno das necessidades do Crea-SP relativos aos recursos human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>
              <a:lnSpc>
                <a:spcPct val="120000"/>
              </a:lnSpc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lanejar, desenvolver e coordenar as atividades das Unidades de Gestão de Recursos Humanos e de Administração de Pesso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>
              <a:lnSpc>
                <a:spcPct val="120000"/>
              </a:lnSpc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ormular estratégias, políticas e diretrizes relacionadas aos processos de gestão do ativo humano e criar condições para que o Crea-SP possa desenvolver, treinar e motivar os recursos humanos necessários ao seu próprio crescimento, respeitando a legislação e as normas vigent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apel principal do Departamento de Recursos Human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>
            <a:hlinkClick r:id="rId1" action="ppaction://hlinksldjump"/>
          </p:cNvPr>
          <p:cNvSpPr/>
          <p:nvPr/>
        </p:nvSpPr>
        <p:spPr>
          <a:xfrm>
            <a:off x="7086600" y="6095880"/>
            <a:ext cx="1143000" cy="38124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64718" h="21600">
                <a:moveTo>
                  <a:pt x="0" y="0"/>
                </a:moveTo>
                <a:lnTo>
                  <a:pt x="64718" y="0"/>
                </a:lnTo>
                <a:lnTo>
                  <a:pt x="64718" y="21600"/>
                </a:lnTo>
                <a:lnTo>
                  <a:pt x="0" y="21600"/>
                </a:lnTo>
                <a:close/>
              </a:path>
              <a:path fill="lightenLess" w="64718" h="21600">
                <a:moveTo>
                  <a:pt x="0" y="0"/>
                </a:moveTo>
                <a:lnTo>
                  <a:pt x="64718" y="0"/>
                </a:lnTo>
                <a:lnTo>
                  <a:pt x="63319" y="1400"/>
                </a:lnTo>
                <a:lnTo>
                  <a:pt x="1400" y="1400"/>
                </a:lnTo>
                <a:close/>
              </a:path>
              <a:path fill="darken" w="64718" h="21600">
                <a:moveTo>
                  <a:pt x="64718" y="0"/>
                </a:moveTo>
                <a:lnTo>
                  <a:pt x="64718" y="21600"/>
                </a:lnTo>
                <a:lnTo>
                  <a:pt x="63319" y="20200"/>
                </a:lnTo>
                <a:lnTo>
                  <a:pt x="63319" y="1400"/>
                </a:lnTo>
                <a:close/>
              </a:path>
              <a:path fill="darkenLess" w="64718" h="21600">
                <a:moveTo>
                  <a:pt x="64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19" y="20200"/>
                </a:lnTo>
                <a:close/>
              </a:path>
              <a:path fill="lighten" w="64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oltar ao sumá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AE0EC-B3F2-497F-8927-BFEF9DFB0D6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ribuições do Departamento de Recursos Huma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nejar, desenvolver, organizar e gerenciar as atividades de Gestão de Pessoas e Administração de Pesso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arantir a manutenção dos funcionários qualificados, treinados e motivados para o Crea-SP atingir seus objetiv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comendar os critérios e diretrizes para elaborar programas e políticas gerais de recursos humanos para assegurar a motivação dos funcionários e manter o clima organizacional positiv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ticipar na concepção e desenvolvimento de novos projetos ou ações, tais como: comunicações, mediação de conflitos e  monitoração do clima organizacion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comendar e gerenciar a aplicação de políticas de remuneração e benefícios compatíveis com o mercado para manter o equilíbrio interno e a competitividade externa das práticas de remuneraçã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C20AB-2AAA-46D6-A5C9-9D71452F3D3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ribuições do Departamento de Recursos Huma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ir e implantar programas de treinamento e desenvolvimento gerencial para buscar o constante aprimoramento do desempenho e motivação dos recursos humanos, assim como garantir o desenvolvimento de potencial para os processos de carreir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isar os resultados da avaliação de desempenho dos funcionários. Interagir com os gestores e propor melhorias na metodologia aplicad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ordenar os programas de concessão de benefícios e assistência social para oferecer aos funcionários fatores de motivação e desempenho no trabalh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ordenar e gerenciar as atividades de administração de pessoal; garantir o desenvolvimento dos trabalhos: folha de pagamento, encargos sociais, controle de benefícios, admissões, demissões, férias, obrigações trabalhistas/previdenciárias e orçamento de pessoal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ter controles e elaborar relatórios analíticos sobre a evolução do quadro, planejamento e custos de pesso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4C37A-8CCB-4117-9043-3603B222FB8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ribuições do Departamento de Recursos Huma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304560" y="10663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Aft>
                <a:spcPts val="27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ordenar a aplicação dos procedimentos e rotinas relacionadas com o vínculo empregatício para garantir a conformidade com as normas d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-SP e legislação pertinent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100000"/>
              </a:lnSpc>
              <a:spcAft>
                <a:spcPts val="27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mpanhar os processos disciplinares e de sindicâncias de pessoal; indicar formação de comissões para garantir os direitos e interesses do Crea-S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100000"/>
              </a:lnSpc>
              <a:spcAft>
                <a:spcPts val="27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mpanhar processos administrativos perante os órgãos oficiais para garantir o cumprimento de prazos e trâmites processuai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100000"/>
              </a:lnSpc>
              <a:spcAft>
                <a:spcPts val="27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mpanhar a legislação trabalhista e assegurar sua correta aplicação e entendimento por parte do Crea-SP; contribuir para minimizar o contencioso jurídico-trabalhist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100000"/>
              </a:lnSpc>
              <a:spcAft>
                <a:spcPts val="27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presentar o Crea-SP nas convocações específicas dos Ministérios: Trabalho e Público e demais entidades externa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100000"/>
              </a:lnSpc>
              <a:spcAft>
                <a:spcPts val="27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ir diretrizes para elaborar instruções e atos administrativ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F4082-7E2B-48DB-848C-FA9646EFEFA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pel principal da Unidade de Gestão de Recursos Hum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8600" y="4572000"/>
            <a:ext cx="8686800" cy="16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just">
              <a:lnSpc>
                <a:spcPct val="120000"/>
              </a:lnSpc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bsidiar a área jurídica no que se refere ao contencioso trabalhista e atuar como prepost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20000"/>
              </a:lnSpc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ministrar e coordenar a realização de concursos públ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5800" y="1752480"/>
            <a:ext cx="8229600" cy="24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just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lano de Cargos, Salários e Carreira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grama de Treinament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grama de Controle Médico de Saúde Ocupacional – PCMS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grama de Prevenção de Riscos Ambientais – PPR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valiação de Desempenho;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squisa de Clima Organizacio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28600" y="1295280"/>
            <a:ext cx="8686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just">
              <a:lnSpc>
                <a:spcPct val="50000"/>
              </a:lnSpc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antir as ações referentes a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87496-A302-4BDC-8B6B-7286236F585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ribuições da Unidade de Gestão de Recursos Hum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152280" y="1066320"/>
            <a:ext cx="87631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ordenar a administração e aplicação do Plano de Cargos, Salários e Carreira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borar e supervisionar pesquisas salariais e de benefícios e recomendar diretrizes a serem praticadas para manter o equilíbrio interno e externo da empres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borar descrição de cargos mediante participação em comissões internas de avaliação, fornecer subsídios para a classificação dos cargos e adequá-los ao Plano de Cargos, Salários e Carreira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ordenar o processo de avaliação de desempenho dos funcionário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envolver projetos, ações e pesquisas de clima organizacion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nejar, desenvolver, coordenar, e executar o Programa de Treinamento e Desenvolvimento para melhorar continuamente a capacidade técnica, desempenho individual e coletivo dos funcionári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3A55B-9359-4DF5-B6E7-C91ACBBC0A4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ribuições da Unidade de Gestão de Recursos Hum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4920" y="1143000"/>
            <a:ext cx="8610480" cy="52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 algn="just">
              <a:lnSpc>
                <a:spcPct val="10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Dar suporte à área jurídica no que se refere ao contencioso trabalhista e atuar como preposto na justiça do trabalh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Fazer a gestão dos funcionários afastados, licenciados e aposentad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Administrar o Programa de Estagiários e Aprendize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Receber a documentação necessária, agendar exames admissionais, prestar informações e efetuar a admissão de novos funcionár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Realizar a integração de novos funcionários e orientá-los quanto aos procedimentos administrativos e normas interna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Fazer a gestão dos programas de Controle Médico de Saúde Ocupacional e de Prevenção de Riscos Ambientais para obedecer à legislação e às normas vigentes, assim como atender às necessidades do Crea-S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78671-FE18-4534-8364-318755AB3FE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rutur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ás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162920" y="6095880"/>
            <a:ext cx="1143000" cy="38124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64718" h="21600">
                <a:moveTo>
                  <a:pt x="0" y="0"/>
                </a:moveTo>
                <a:lnTo>
                  <a:pt x="64718" y="0"/>
                </a:lnTo>
                <a:lnTo>
                  <a:pt x="64718" y="21600"/>
                </a:lnTo>
                <a:lnTo>
                  <a:pt x="0" y="21600"/>
                </a:lnTo>
                <a:close/>
              </a:path>
              <a:path fill="lightenLess" w="64718" h="21600">
                <a:moveTo>
                  <a:pt x="0" y="0"/>
                </a:moveTo>
                <a:lnTo>
                  <a:pt x="64718" y="0"/>
                </a:lnTo>
                <a:lnTo>
                  <a:pt x="63319" y="1400"/>
                </a:lnTo>
                <a:lnTo>
                  <a:pt x="1400" y="1400"/>
                </a:lnTo>
                <a:close/>
              </a:path>
              <a:path fill="darken" w="64718" h="21600">
                <a:moveTo>
                  <a:pt x="64718" y="0"/>
                </a:moveTo>
                <a:lnTo>
                  <a:pt x="64718" y="21600"/>
                </a:lnTo>
                <a:lnTo>
                  <a:pt x="63319" y="20200"/>
                </a:lnTo>
                <a:lnTo>
                  <a:pt x="63319" y="1400"/>
                </a:lnTo>
                <a:close/>
              </a:path>
              <a:path fill="darkenLess" w="64718" h="21600">
                <a:moveTo>
                  <a:pt x="64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19" y="20200"/>
                </a:lnTo>
                <a:close/>
              </a:path>
              <a:path fill="lighten" w="64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oltar ao sumá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19320" y="3581280"/>
            <a:ext cx="40384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lenári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âmaras Especializada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esidênci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retoria,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speto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1447920"/>
            <a:ext cx="838224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estrutura básica é responsável pela criação de condições para o desempenho integrado e sistemático das finalidades do Conselho Regional, sendo composta por órgãos de caráter decisório ou executivo, compreendend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5BDFD-7621-46C3-9120-848A7A5F61C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ribuições da Unidade de Gestão de Recursos Hum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8600" y="1273320"/>
            <a:ext cx="8686800" cy="46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 algn="just">
              <a:lnSpc>
                <a:spcPct val="100000"/>
              </a:lnSpc>
              <a:spcAft>
                <a:spcPts val="2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Fazer a gestão do PPP-Perfil Profissional Profissiográfico de acordo com as normas e legislação vigente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2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Fazer a gestão dos ambulatórios médicos nas Sedes Faria Lima e Rebouça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2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Atuar em conjunto com as demais áreas para identificar fatores que possam melhorar a prevenção da saúde e qualidade de vida dos funcionári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2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Administrar e coordenar a realização de concursos públicos, desde a elaboração do edital até a fase de contratação do candidat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2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Definir diretrizes para elaborar instruções e atos administrativ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2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Propor ações alternativas para evitar contencioso trabalhista, assegurando o cumprimento do estabelecido na legislação vigente e nas políticas interna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BE9AE-328C-49DB-9B30-F78CCD5266C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ribuições da Unidade de Gestão de Recursos Hum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8600" y="990720"/>
            <a:ext cx="8686800" cy="56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 algn="just">
              <a:lnSpc>
                <a:spcPct val="100000"/>
              </a:lnSpc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rticipar em comissões processuais de sindicâncias e disciplinar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squisar no mercado propostas para desenvolver os recursos humanos por meio de visitas às empresas para buscar alternativas de gestã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isitar funcionários e familiares para levantar as necessidades e definir a forma de solucionar eventuais problemas de aspectos de cunho soci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resentar propostas para motivar a participação e integração dos funcionários nas atividades sociais e recreativas patrocinadas ou apoiadas pelo Crea-S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alizar outras atividades pertinentes à área decorrentes de reestruturaçã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D8EFB-9359-4779-981F-D17ED3C8CFB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pel principal da Unidade de Administração de Pess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04920" y="1576440"/>
            <a:ext cx="861048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just">
              <a:lnSpc>
                <a:spcPct val="120000"/>
              </a:lnSpc>
              <a:spcAft>
                <a:spcPts val="41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Garantir o pagamento de salários e demais proventos a funcionários, estagiários e bolsistas de acordo com a legislação, normas e contratos vigente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20000"/>
              </a:lnSpc>
              <a:spcAft>
                <a:spcPts val="41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ubsidiar a área jurídica no que se refere ao contencioso trabalhista e atuar como prepost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74608-F75E-4A72-A5CE-8504E588CFC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ribuições da Unidade de Administração de Pess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33520" y="1255680"/>
            <a:ext cx="8305560" cy="48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rar folha de pagamento de funcionários/estagiários. Providenciar recibos, provisão financeira, relatórios e toda documentação necessária de acordo com a legislação e normas vigente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mitir documento para programação anual de férias. Confirmá-la, emitir aviso e providenciar pagament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ministrar o sistema de ponto e freqüência dos funcionários e elaborar relatório de absenteísm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eparar a documentação necessária às rescisões de contratos e efetuar os respectivos cálculos; assegurar o pagamento dentro dos prazos legai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mitir guias de recolhimento e solicitar o pagamento dos encargos sociais relativos a recursos human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93346-38EB-4FAB-8667-3154ED2716B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ribuições da Unidade de Administração de Pess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8600" y="1066680"/>
            <a:ext cx="861048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just">
              <a:lnSpc>
                <a:spcPct val="10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mitir CAGED (Cadastro Geral de Empregados e Desempregados) em conformidade com a legislação vigent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ter e administrar programa de benefícios (cesta básica, vale transporte e refeição e assistência médica), providenciar documentação, pagamentos, desconto em folha (se for o caso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por programas de benefícios; e pesquisar novos fornecedore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ministrar os benefícios concedidos e publicados no ato administrativo em forma de reembolso dos auxílios: educação para dependente, educação para funcionário, medicamentos, óculos e funer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videnciar e entregar aos órgãos competentes, conforme normas vigentes e dentro do prazo legal, a emissão da RAIS (Relação Anual de Informações Sociais), da DIRF (Declaração de Imposto de Renda Retido na Fonte), assim como o Informe de Rendimentos aos funcionári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62BFA-4E77-4238-9FDC-12924EC56CE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ribuições da Unidade de Administração de Pess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04920" y="1066680"/>
            <a:ext cx="8534160" cy="47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just">
              <a:lnSpc>
                <a:spcPct val="100000"/>
              </a:lnSpc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Zelar pela manutenção de boas relações sindicais e trabalhistas e eventualmente, atender diretores e funcionários de Sindicat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r suporte à área jurídica no que se refere ao contencioso trabalhista e atuar como preposto na justiça do trabalh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azer a gestão dos funcionários afastados, licenciados e aposentad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nter a gerência informada quanto à legislação e normas relativas às relações trabalhistas e sindicai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50932-D9AB-4D94-9EB9-2A98ACE7097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ribuições da Unidade de Administração de Pess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0880" y="1523880"/>
            <a:ext cx="8534520" cy="44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just">
              <a:lnSpc>
                <a:spcPct val="100000"/>
              </a:lnSpc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estar atendimento aos recursos humanos para: atualização de documentos e prestar informações diversa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ender e prestar informações à fiscalização trabalhista e do INS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sponibilizar e manter atualizados n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ran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conteúdos relativos aos recursos human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finir diretrizes para elaborar instruções e atos administrativ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alizar outras atividades pertinentes à área, decorrentes de reestruturaçã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AFF3F-F68D-42B8-8AD0-3E779268A67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pel principal do Departamento Administr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04920" y="1828800"/>
            <a:ext cx="8534160" cy="42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 algn="just">
              <a:lnSpc>
                <a:spcPct val="150000"/>
              </a:lnSpc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renciar todo o processo administrativo do departamento. Planejar, fixar objetivos e metas, coordenar e controlar todas as atividades correlatas às Unidades: Serviços Administrativos, Transporte e Controle de Uso de Veícul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50000"/>
              </a:lnSpc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oiar as decisões da diretoria, assim como de sua superintendência, e elaborar estudos para tomada de decisã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50000"/>
              </a:lnSpc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>
            <a:hlinkClick r:id="rId1" action="ppaction://hlinksldjump"/>
          </p:cNvPr>
          <p:cNvSpPr/>
          <p:nvPr/>
        </p:nvSpPr>
        <p:spPr>
          <a:xfrm>
            <a:off x="7086600" y="6095880"/>
            <a:ext cx="1143000" cy="38124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64718" h="21600">
                <a:moveTo>
                  <a:pt x="0" y="0"/>
                </a:moveTo>
                <a:lnTo>
                  <a:pt x="64718" y="0"/>
                </a:lnTo>
                <a:lnTo>
                  <a:pt x="64718" y="21600"/>
                </a:lnTo>
                <a:lnTo>
                  <a:pt x="0" y="21600"/>
                </a:lnTo>
                <a:close/>
              </a:path>
              <a:path fill="lightenLess" w="64718" h="21600">
                <a:moveTo>
                  <a:pt x="0" y="0"/>
                </a:moveTo>
                <a:lnTo>
                  <a:pt x="64718" y="0"/>
                </a:lnTo>
                <a:lnTo>
                  <a:pt x="63319" y="1400"/>
                </a:lnTo>
                <a:lnTo>
                  <a:pt x="1400" y="1400"/>
                </a:lnTo>
                <a:close/>
              </a:path>
              <a:path fill="darken" w="64718" h="21600">
                <a:moveTo>
                  <a:pt x="64718" y="0"/>
                </a:moveTo>
                <a:lnTo>
                  <a:pt x="64718" y="21600"/>
                </a:lnTo>
                <a:lnTo>
                  <a:pt x="63319" y="20200"/>
                </a:lnTo>
                <a:lnTo>
                  <a:pt x="63319" y="1400"/>
                </a:lnTo>
                <a:close/>
              </a:path>
              <a:path fill="darkenLess" w="64718" h="21600">
                <a:moveTo>
                  <a:pt x="64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19" y="20200"/>
                </a:lnTo>
                <a:close/>
              </a:path>
              <a:path fill="lighten" w="64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oltar ao sumá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E4C83-D1DA-41C4-8AD4-90DFB7105A7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ribuições do Departamento Administr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8600" y="1482840"/>
            <a:ext cx="8610480" cy="39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 algn="just">
              <a:lnSpc>
                <a:spcPct val="120000"/>
              </a:lnSpc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ompanha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alterações da legislação e regulamentação vigentes, sugerir mudanças e melhorias para o aperfeiçoamento contínuo do trabalho executado pelas unidades de sua responsabilidad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20000"/>
              </a:lnSpc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rencia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 serviços de apoio administrativo para atender às unidades de alcance do departament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20000"/>
              </a:lnSpc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ela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 ordem e segurança das pessoas e dos bens públicos do Crea-SP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DD0B3-F279-41CA-99EA-A37EAF8547E8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pel principal da Unidade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84872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50000"/>
              </a:lnSpc>
              <a:spcAft>
                <a:spcPts val="45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ejar, coordenar, organizar e controlar os serviços de intercâmbio de malote, assim como o transporte de passageiros, materiais e documentos entre as unidades da capital e adjacê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2AF09-8615-4F84-BDBD-79CE922B04C2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strutura de Su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162920" y="6095880"/>
            <a:ext cx="1143000" cy="38124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64718" h="21600">
                <a:moveTo>
                  <a:pt x="0" y="0"/>
                </a:moveTo>
                <a:lnTo>
                  <a:pt x="64718" y="0"/>
                </a:lnTo>
                <a:lnTo>
                  <a:pt x="64718" y="21600"/>
                </a:lnTo>
                <a:lnTo>
                  <a:pt x="0" y="21600"/>
                </a:lnTo>
                <a:close/>
              </a:path>
              <a:path fill="lightenLess" w="64718" h="21600">
                <a:moveTo>
                  <a:pt x="0" y="0"/>
                </a:moveTo>
                <a:lnTo>
                  <a:pt x="64718" y="0"/>
                </a:lnTo>
                <a:lnTo>
                  <a:pt x="63319" y="1400"/>
                </a:lnTo>
                <a:lnTo>
                  <a:pt x="1400" y="1400"/>
                </a:lnTo>
                <a:close/>
              </a:path>
              <a:path fill="darken" w="64718" h="21600">
                <a:moveTo>
                  <a:pt x="64718" y="0"/>
                </a:moveTo>
                <a:lnTo>
                  <a:pt x="64718" y="21600"/>
                </a:lnTo>
                <a:lnTo>
                  <a:pt x="63319" y="20200"/>
                </a:lnTo>
                <a:lnTo>
                  <a:pt x="63319" y="1400"/>
                </a:lnTo>
                <a:close/>
              </a:path>
              <a:path fill="darkenLess" w="64718" h="21600">
                <a:moveTo>
                  <a:pt x="64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19" y="20200"/>
                </a:lnTo>
                <a:close/>
              </a:path>
              <a:path fill="lighten" w="64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oltar ao sumá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3657600"/>
            <a:ext cx="51818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missão Permanent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missão Especi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rupo de Trabalho; 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Órgãos consultiv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600200"/>
            <a:ext cx="868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Aft>
                <a:spcPts val="3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estrutura de suporte é responsável pelo apoio aos orgãos da estrutura básica nos limites de sua competência específica, sendo composta por órgãos de caráter permanente, especial ou temporário, compreendend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970B4-D307-4B66-B6EA-1739B3C3B2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ribuições da Unidade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28600" y="1227240"/>
            <a:ext cx="8686800" cy="47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 algn="just">
              <a:lnSpc>
                <a:spcPct val="120000"/>
              </a:lnSpc>
              <a:spcBef>
                <a:spcPts val="1125"/>
              </a:spcBef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r e supervisionar os serviços executados por empresas de transporte diário de entrega e de coleta de pequenas cargas na Capital e Grande São Paulo, e acompanhar a logístic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20000"/>
              </a:lnSpc>
              <a:spcBef>
                <a:spcPts val="1125"/>
              </a:spcBef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ministrar os serviços de rádio táxi com base na instrução vigent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20000"/>
              </a:lnSpc>
              <a:spcBef>
                <a:spcPts val="1125"/>
              </a:spcBef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rvar a documentação e providenciar, nos prazos estabelecidos, o pagamento de taxas de licenciamento e de inspeção veicular dos veículos do Crea-SP, de uso da Presidênci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20000"/>
              </a:lnSpc>
              <a:spcBef>
                <a:spcPts val="1125"/>
              </a:spcBef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ar apólices de seguros dos veículos de uso da Presidência, e contatar as corretoras para renovação e nos casos de sinistr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A13BD-49D6-487C-948E-70B025BB861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RIBUIÇÕES DA UNIDADE DE TRANS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ribuições da Unidade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80880" y="1905120"/>
            <a:ext cx="8382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2133720"/>
            <a:ext cx="8305920" cy="30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 algn="just">
              <a:lnSpc>
                <a:spcPct val="120000"/>
              </a:lnSpc>
              <a:spcBef>
                <a:spcPts val="1250"/>
              </a:spcBef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ar a saída e chegada dos veículos de uso da Presidênci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Bef>
                <a:spcPts val="1250"/>
              </a:spcBef>
              <a:spcAft>
                <a:spcPts val="2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elar pelo estado de conservação dos veículos de uso da Presidência. Providenciar os meios necessários para realizar manutenção preventiva e corretiv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Bef>
                <a:spcPts val="1250"/>
              </a:spcBef>
              <a:spcAft>
                <a:spcPts val="2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ministrar as solicitações e utilização de passagens aéreas, quando contratados os serviç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41F5C-14BC-49A3-B571-316C9A8E2897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pel principal da Unidade de Controle de Uso de Veíc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04920" y="274320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ejar, organizar, coordenar, avaliar e revisar o controle de uso de veículos de propriedade do Crea-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991AD-3FF5-479B-9A01-0A5E256D015D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ribuições da Unidade de Controle de Uso de Veíc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28600" y="838080"/>
            <a:ext cx="8610480" cy="53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 algn="just">
              <a:lnSpc>
                <a:spcPct val="100000"/>
              </a:lnSpc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dir e receber documentos diversos relativos às competências da unidad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ter sob sua guarda os documentos relacionados à frota de veículos e de seus condutor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ter atualizado o histórico e os instrumentos de controle dos veícul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aminhar para controle da Unidade de Patrimônio e Almoxarifado uma via da “Declaração de Compromisso e de Responsabilidade sobre o uso de veículo do Crea-SP”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nciar Nota de Empenho de Ressarcimento/Pagamento, Nota de Atesto, Certidão Negativa de Débito e CRF, e dar prosseguiment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D29C8-EC20-40EB-B518-F4839249BC15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28600" y="1219320"/>
            <a:ext cx="8610480" cy="50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 algn="just">
              <a:lnSpc>
                <a:spcPct val="100000"/>
              </a:lnSpc>
              <a:spcBef>
                <a:spcPts val="1250"/>
              </a:spcBef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ear o desempenho dos veículos, seus níveis de despesas com base nos relatórios expedidos pela empresa contratada, confrontados com os relatórios emitidos pelos condutor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Bef>
                <a:spcPts val="1250"/>
              </a:spcBef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erir as notas fiscais e confrontar os relatório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onibilizados pela contratada, com os relatórios e comprovantes de abastecimentos e serviços, emitidos pelos condutor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Bef>
                <a:spcPts val="1250"/>
              </a:spcBef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ender as regulamentações dos órgãos fiscalizadores de trânsito, e adotar as ações decorrent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Bef>
                <a:spcPts val="1250"/>
              </a:spcBef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nciar junto ao DETRAN os Certificados de Registro e Licenciamento de Veículo – CRLV da frota do Crea-S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ribuições da Unidade de Controle de Uso de Veíc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581B7-C5CB-43F9-8514-8EC73F44BE5D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38080" y="1676520"/>
            <a:ext cx="80773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cenciamento anual dos veícul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amento do DPV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amento da taxa de inspeção ambiental veicul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ros obrigatórios relativos à frota do Crea-S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28600" y="3505320"/>
            <a:ext cx="8686800" cy="25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ministrar e monitorar a realização da inspeção veicular pelos condutore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itorar e orientar os condutores dos veículos, relativamente ao uso do cartão combustível, notificação e multas de trânsito, inspeção veicular e vencimento da CNH - Carteira Nacional de Habilitaçã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aminhar autorização para desconto na folha de pagamento do condutor do veículo referente às multas pagas pelo Crea-S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28600" y="106668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spcBef>
                <a:spcPts val="2251"/>
              </a:spcBef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r os prazos legais e providenciar os meios necessários para realização d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ribuições da Unidade de Controle de Uso de Veíc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5F13A-9FFB-4AE0-AFF5-5EF8E874E113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pel principal da Unidade de Serviços Administr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57200" y="2286000"/>
            <a:ext cx="807732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Aft>
                <a:spcPts val="41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nejar, organizar, coordenar, avaliar, revisar e orientar a execução das atividades de acordo com os procedimentos estabelecidos para atender os clientes internos e extern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D18E6-1D6E-4BEE-9238-00244290BF9C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ribuições da Unidade de Serviços Administr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8600" y="990720"/>
            <a:ext cx="8763120" cy="56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 algn="just">
              <a:lnSpc>
                <a:spcPct val="100000"/>
              </a:lnSpc>
              <a:spcBef>
                <a:spcPts val="1250"/>
              </a:spcBef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dir, receber e distribuir correspondências e encomendas a todas as áreas do Crea-S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Bef>
                <a:spcPts val="1250"/>
              </a:spcBef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onibilizar e manter o serviço de reprodução de cópias de document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Bef>
                <a:spcPts val="1250"/>
              </a:spcBef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enar e manter os serviços terceirizados de limpeza e conservação dos prédios do Crea-S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Bef>
                <a:spcPts val="1250"/>
              </a:spcBef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ministrar as solicitações e a  distribuição de água mineral para as sedes previstas em contrat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Bef>
                <a:spcPts val="1250"/>
              </a:spcBef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ter e administrar o serviço de telefonia fixa e celular de propriedade do Crea-S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D7F96-2541-4814-8619-60D7036A56D6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ribuições da Unidade de Serviços Administr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52280" y="1209600"/>
            <a:ext cx="86868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 algn="just">
              <a:lnSpc>
                <a:spcPct val="100000"/>
              </a:lnSpc>
              <a:spcBef>
                <a:spcPts val="1250"/>
              </a:spcBef>
              <a:spcAft>
                <a:spcPts val="2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anter e administrar os serviços terceirizados de expedição de correspondências  do Crea-S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Bef>
                <a:spcPts val="1250"/>
              </a:spcBef>
              <a:spcAft>
                <a:spcPts val="2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anter e administrar o serviço de copa nas sedes Faria Lima, Nestor Pestana e Rebouça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Bef>
                <a:spcPts val="1250"/>
              </a:spcBef>
              <a:spcAft>
                <a:spcPts val="2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dministrar e manter o serviço de recepção, portaria e segurança patrimonial e manobrista. Controlar a entrada e saída de pessoas e materiais da sede do Crea-S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Bef>
                <a:spcPts val="1250"/>
              </a:spcBef>
              <a:spcAft>
                <a:spcPts val="2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gramar, coordenar, acompanhar e controlar a execução dos serviços de manutenção predial preventiva e corretiva pela equipe de manutenção, assim como por empresas terceirizadas: elaboração e execução de projetos, manutenção de serviços diversos como: elevadores, ar condicionado, entre outr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D3BA3-455C-4937-B3F1-E7063C982256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ribuições da Unidade de Serviços Administr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28600" y="1295280"/>
            <a:ext cx="8686800" cy="44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 algn="just">
              <a:lnSpc>
                <a:spcPct val="100000"/>
              </a:lnSpc>
              <a:spcBef>
                <a:spcPts val="1250"/>
              </a:spcBef>
              <a:spcAft>
                <a:spcPts val="2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ministrar e gerir os serviços cartoriai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Bef>
                <a:spcPts val="1250"/>
              </a:spcBef>
              <a:spcAft>
                <a:spcPts val="2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ministrar e gerir contratos/processos referentes à Unidad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Bef>
                <a:spcPts val="1250"/>
              </a:spcBef>
              <a:spcAft>
                <a:spcPts val="2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ir e despachar processos de acordo com os instrumentos administrativos e legislaçã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Bef>
                <a:spcPts val="1250"/>
              </a:spcBef>
              <a:spcAft>
                <a:spcPts val="2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ar o consumo de energia elétrica, água e gás das sedes Faria Lima, Nestor Pestana e Rebouça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Bef>
                <a:spcPts val="1250"/>
              </a:spcBef>
              <a:spcAft>
                <a:spcPts val="2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ender clientes internos e externos para solução de assuntos rotineiros em tramitaçã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4AC67-2BB4-450E-A602-85B9824B1250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strutura Auxili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62920" y="6095880"/>
            <a:ext cx="1143000" cy="38124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64718" h="21600">
                <a:moveTo>
                  <a:pt x="0" y="0"/>
                </a:moveTo>
                <a:lnTo>
                  <a:pt x="64718" y="0"/>
                </a:lnTo>
                <a:lnTo>
                  <a:pt x="64718" y="21600"/>
                </a:lnTo>
                <a:lnTo>
                  <a:pt x="0" y="21600"/>
                </a:lnTo>
                <a:close/>
              </a:path>
              <a:path fill="lightenLess" w="64718" h="21600">
                <a:moveTo>
                  <a:pt x="0" y="0"/>
                </a:moveTo>
                <a:lnTo>
                  <a:pt x="64718" y="0"/>
                </a:lnTo>
                <a:lnTo>
                  <a:pt x="63319" y="1400"/>
                </a:lnTo>
                <a:lnTo>
                  <a:pt x="1400" y="1400"/>
                </a:lnTo>
                <a:close/>
              </a:path>
              <a:path fill="darken" w="64718" h="21600">
                <a:moveTo>
                  <a:pt x="64718" y="0"/>
                </a:moveTo>
                <a:lnTo>
                  <a:pt x="64718" y="21600"/>
                </a:lnTo>
                <a:lnTo>
                  <a:pt x="63319" y="20200"/>
                </a:lnTo>
                <a:lnTo>
                  <a:pt x="63319" y="1400"/>
                </a:lnTo>
                <a:close/>
              </a:path>
              <a:path fill="darkenLess" w="64718" h="21600">
                <a:moveTo>
                  <a:pt x="64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19" y="20200"/>
                </a:lnTo>
                <a:close/>
              </a:path>
              <a:path fill="lighten" w="64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oltar ao sumá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1503360"/>
            <a:ext cx="8686800" cy="35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estrutura auxiliar, subordinada à Presidência, é responsável pelos serviços administrativos, financeiros, jurídicos e técnicos e tem por finalidade prover apoio ao funcionamento da estrutura básica e da estrutura de suporte para a fiscalização do exercício profissional e para a gestão do Conselho Regio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s Superintendências são responsáveis pela execução dos serviços da estrutura auxiliar e para tanto coordenam e controlam as atividades desenvolvidas pelos Departamentos e Unidad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85E0D-D5B3-4113-8FE1-84227D1A66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456840" y="1981080"/>
            <a:ext cx="83818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67920" indent="-367920" algn="just">
              <a:lnSpc>
                <a:spcPct val="150000"/>
              </a:lnSpc>
              <a:spcAft>
                <a:spcPts val="45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lanejar, organizar e operacionalizar eventos d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rea-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7920" indent="-367920" algn="just">
              <a:lnSpc>
                <a:spcPct val="150000"/>
              </a:lnSpc>
              <a:spcAft>
                <a:spcPts val="45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oiar a diretoria, assim como sua superintendência, na elaboração da programação anual de even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pel principal do Departamento de Ev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>
            <a:hlinkClick r:id="rId1" action="ppaction://hlinksldjump"/>
          </p:cNvPr>
          <p:cNvSpPr/>
          <p:nvPr/>
        </p:nvSpPr>
        <p:spPr>
          <a:xfrm>
            <a:off x="7086600" y="6095880"/>
            <a:ext cx="1143000" cy="38124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64718" h="21600">
                <a:moveTo>
                  <a:pt x="0" y="0"/>
                </a:moveTo>
                <a:lnTo>
                  <a:pt x="64718" y="0"/>
                </a:lnTo>
                <a:lnTo>
                  <a:pt x="64718" y="21600"/>
                </a:lnTo>
                <a:lnTo>
                  <a:pt x="0" y="21600"/>
                </a:lnTo>
                <a:close/>
              </a:path>
              <a:path fill="lightenLess" w="64718" h="21600">
                <a:moveTo>
                  <a:pt x="0" y="0"/>
                </a:moveTo>
                <a:lnTo>
                  <a:pt x="64718" y="0"/>
                </a:lnTo>
                <a:lnTo>
                  <a:pt x="63319" y="1400"/>
                </a:lnTo>
                <a:lnTo>
                  <a:pt x="1400" y="1400"/>
                </a:lnTo>
                <a:close/>
              </a:path>
              <a:path fill="darken" w="64718" h="21600">
                <a:moveTo>
                  <a:pt x="64718" y="0"/>
                </a:moveTo>
                <a:lnTo>
                  <a:pt x="64718" y="21600"/>
                </a:lnTo>
                <a:lnTo>
                  <a:pt x="63319" y="20200"/>
                </a:lnTo>
                <a:lnTo>
                  <a:pt x="63319" y="1400"/>
                </a:lnTo>
                <a:close/>
              </a:path>
              <a:path fill="darkenLess" w="64718" h="21600">
                <a:moveTo>
                  <a:pt x="64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19" y="20200"/>
                </a:lnTo>
                <a:close/>
              </a:path>
              <a:path fill="lighten" w="64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oltar ao sumá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B2D8A-8B66-4D6C-B8BB-72BCDE4BE7CB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228240" y="990720"/>
            <a:ext cx="8534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53520" indent="-353520" algn="just">
              <a:lnSpc>
                <a:spcPct val="150000"/>
              </a:lnSpc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r suporte logístico quanto à sonorização, filmagem, iluminação e organização do espaço para a realização das Sessões Plenárias, das Câmaras Especializadas, Congressos, Seminários, Encontros, Colégios de Inspetores e outros, mediante prévio agendamento por parte das unidades diretamente envolvida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3520" indent="-353520" algn="just">
              <a:lnSpc>
                <a:spcPct val="150000"/>
              </a:lnSpc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nejar, organizar e operacionalizar eventos do Crea-SP, devendo, para tant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ribuições do Departamento de Ev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9480" y="441972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8800" indent="-388800" algn="just">
              <a:lnSpc>
                <a:spcPct val="150000"/>
              </a:lnSpc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spectar espaços físicos e levantar os respectivos cust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50000"/>
              </a:lnSpc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ntificar as necessidades relativas a: material de escritório, refeição, transporte e acomodação dos participante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C794E-F22E-41FE-93B5-02D872EDCABD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ribuições do Departamento de Ev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228600" y="12193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8800" indent="-388800" algn="just">
              <a:lnSpc>
                <a:spcPct val="100000"/>
              </a:lnSpc>
              <a:spcAft>
                <a:spcPts val="2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viar convites e/ou convocações para participantes em eventos e controlar as confirmações de presenç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2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renciar os eventos para verificar a adequação e oportunidade dos recursos humanos e materiais disponibilizad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2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valiar cada evento realizado com o objetivo de melhor planejar e operacionalizar futuras açõ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2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ditar registros em vídeo de eventos realizados pelo Crea-S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2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rolar a agenda de utilização do auditório e da sala de reuniões existentes na Sede da Nestor Pestan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2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imizar os processos internos do departam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884CF-51FF-4347-B087-C6156E9507EC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78487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por e operacionalizar ações que visem a divulgação do Crea-SP e suas atividades para as comunidades externa/interna e promover ações de 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rke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stitucional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pel principal do Departamento de Comunic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>
            <a:hlinkClick r:id="rId1" action="ppaction://hlinksldjump"/>
          </p:cNvPr>
          <p:cNvSpPr/>
          <p:nvPr/>
        </p:nvSpPr>
        <p:spPr>
          <a:xfrm>
            <a:off x="7086600" y="6095880"/>
            <a:ext cx="1143000" cy="38124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64718" h="21600">
                <a:moveTo>
                  <a:pt x="0" y="0"/>
                </a:moveTo>
                <a:lnTo>
                  <a:pt x="64718" y="0"/>
                </a:lnTo>
                <a:lnTo>
                  <a:pt x="64718" y="21600"/>
                </a:lnTo>
                <a:lnTo>
                  <a:pt x="0" y="21600"/>
                </a:lnTo>
                <a:close/>
              </a:path>
              <a:path fill="lightenLess" w="64718" h="21600">
                <a:moveTo>
                  <a:pt x="0" y="0"/>
                </a:moveTo>
                <a:lnTo>
                  <a:pt x="64718" y="0"/>
                </a:lnTo>
                <a:lnTo>
                  <a:pt x="63319" y="1400"/>
                </a:lnTo>
                <a:lnTo>
                  <a:pt x="1400" y="1400"/>
                </a:lnTo>
                <a:close/>
              </a:path>
              <a:path fill="darken" w="64718" h="21600">
                <a:moveTo>
                  <a:pt x="64718" y="0"/>
                </a:moveTo>
                <a:lnTo>
                  <a:pt x="64718" y="21600"/>
                </a:lnTo>
                <a:lnTo>
                  <a:pt x="63319" y="20200"/>
                </a:lnTo>
                <a:lnTo>
                  <a:pt x="63319" y="1400"/>
                </a:lnTo>
                <a:close/>
              </a:path>
              <a:path fill="darkenLess" w="64718" h="21600">
                <a:moveTo>
                  <a:pt x="64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19" y="20200"/>
                </a:lnTo>
                <a:close/>
              </a:path>
              <a:path fill="lighten" w="64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oltar ao sumá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46AAF-2C06-4812-BDC9-6D84EED4668F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304920" y="9144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 algn="just">
              <a:lnSpc>
                <a:spcPct val="90000"/>
              </a:lnSpc>
              <a:spcAft>
                <a:spcPts val="27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Elaborar pautas, levantar assuntos e temas, realizar reportagens sobre assuntos ligados ao Sistema Confea/Crea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90000"/>
              </a:lnSpc>
              <a:spcAft>
                <a:spcPts val="27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Redigir textos e preparar matérias jornalísticas (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press-release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) de assuntos afetos ao Crea-SP para divulgar na imprens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90000"/>
              </a:lnSpc>
              <a:spcAft>
                <a:spcPts val="27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Assessorar as Comissões e outros Colegiad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90000"/>
              </a:lnSpc>
              <a:spcAft>
                <a:spcPts val="27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Desenvolver e manter o Portal (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sit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) do Crea-SP com a participação do Departamento de Informática no que se refere aos serviços o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n lin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90000"/>
              </a:lnSpc>
              <a:spcAft>
                <a:spcPts val="27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Acompanhar as ações, projetos e eventos da Presidência, Diretoria, Comissões e outros Colegiados, e/ou divulgar para os públicos interno/extern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90000"/>
              </a:lnSpc>
              <a:spcAft>
                <a:spcPts val="27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Produzir em todos os seus estágios e/ou assessorar, quando o caso assim o exigir, a produção de revistas, manuais e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folder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de assuntos do Crea-S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90000"/>
              </a:lnSpc>
              <a:spcAft>
                <a:spcPts val="27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Gerenciar serviço de seleção e coleta de notícias e informações (c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lipping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) de interesse do Crea-SP para divulgaçã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ribuiçõe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 Departamento de Comunic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21255-EC77-4747-8683-A31DAAAE152D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 algn="just">
              <a:lnSpc>
                <a:spcPct val="10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gendar para a presidência e  diretoria entrevistas com os diversos órgãos de imprensa e prestar assessoria na estruturação das informações que se fizerem necessária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ender os contatos diários dos órgãos da imprensa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eparar campanhas de esclarecimento e divulgação da atividade profissional dos afiliados do Crea-SP e/ou das entidades de classe coligada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eparar e produzir materiais como manuais e audiovisual para divulgação do Crea-SP em palestras e apresentaçõe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por plano com estratégia de divulgação interna e externa do material informativo e/ou promocional do Crea-S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ervisionar e orientar a equipe de trabalho, assim como buscar o desenvolvimento e a melhoria de desempenho da mes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ribuiçõe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 Departamento de Comunic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47A5C-DAD6-436D-AC78-DC0412883C29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STRUTURA ORGANIZ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-360" y="1828440"/>
            <a:ext cx="88390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  <a:ea typeface="Times New Roman"/>
              </a:rPr>
              <a:t>SUPERINTENDÊNC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  <a:ea typeface="Times New Roman"/>
              </a:rPr>
              <a:t>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  <a:ea typeface="Times New Roman"/>
              </a:rPr>
              <a:t>CONTROLADOR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>
            <a:hlinkClick r:id="rId1" action="ppaction://hlinksldjump"/>
          </p:cNvPr>
          <p:cNvSpPr/>
          <p:nvPr/>
        </p:nvSpPr>
        <p:spPr>
          <a:xfrm>
            <a:off x="7086600" y="6095880"/>
            <a:ext cx="1143000" cy="38124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64718" h="21600">
                <a:moveTo>
                  <a:pt x="0" y="0"/>
                </a:moveTo>
                <a:lnTo>
                  <a:pt x="64718" y="0"/>
                </a:lnTo>
                <a:lnTo>
                  <a:pt x="64718" y="21600"/>
                </a:lnTo>
                <a:lnTo>
                  <a:pt x="0" y="21600"/>
                </a:lnTo>
                <a:close/>
              </a:path>
              <a:path fill="lightenLess" w="64718" h="21600">
                <a:moveTo>
                  <a:pt x="0" y="0"/>
                </a:moveTo>
                <a:lnTo>
                  <a:pt x="64718" y="0"/>
                </a:lnTo>
                <a:lnTo>
                  <a:pt x="63319" y="1400"/>
                </a:lnTo>
                <a:lnTo>
                  <a:pt x="1400" y="1400"/>
                </a:lnTo>
                <a:close/>
              </a:path>
              <a:path fill="darken" w="64718" h="21600">
                <a:moveTo>
                  <a:pt x="64718" y="0"/>
                </a:moveTo>
                <a:lnTo>
                  <a:pt x="64718" y="21600"/>
                </a:lnTo>
                <a:lnTo>
                  <a:pt x="63319" y="20200"/>
                </a:lnTo>
                <a:lnTo>
                  <a:pt x="63319" y="1400"/>
                </a:lnTo>
                <a:close/>
              </a:path>
              <a:path fill="darkenLess" w="64718" h="21600">
                <a:moveTo>
                  <a:pt x="64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19" y="20200"/>
                </a:lnTo>
                <a:close/>
              </a:path>
              <a:path fill="lighten" w="64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oltar ao sumá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E69FB-A56A-4140-9471-54FEBA518954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rutura Organizacional da SUPC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304560" y="160020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Superintendência de Controladoria é composta por 3 Departamen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62120" y="2895480"/>
            <a:ext cx="68580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partamento de Finanç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I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partamento de Contabilidade e Orç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II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partamento de Dívida 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658ED-7041-4C91-B46D-6F78A440FF15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pel principal da Superintendência de Controlad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22860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8800" indent="-388800" algn="just">
              <a:lnSpc>
                <a:spcPct val="120000"/>
              </a:lnSpc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pervisionar os processos: financeiro, contábil, fiscal e de cobrança judicial do Crea-SP; inclusive o planejamento, coordenação e controle das atividades correlatas no intuito de mensurar os resultados das áreas de Orçamento, Finanças, Contabilidade e Dívida Ativa e fixar seus objetivos e meta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20000"/>
              </a:lnSpc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ssessorar 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esidência e diretoria na tomada de decisão por meio de relatórios gerenciais e produção de cenári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20000"/>
              </a:lnSpc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stabelecer métricas de controle, assim como aferir resultados das unidades do Crea-S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>
            <a:hlinkClick r:id="rId1" action="ppaction://hlinksldjump"/>
          </p:cNvPr>
          <p:cNvSpPr/>
          <p:nvPr/>
        </p:nvSpPr>
        <p:spPr>
          <a:xfrm>
            <a:off x="7086600" y="6095880"/>
            <a:ext cx="1143000" cy="38124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64718" h="21600">
                <a:moveTo>
                  <a:pt x="0" y="0"/>
                </a:moveTo>
                <a:lnTo>
                  <a:pt x="64718" y="0"/>
                </a:lnTo>
                <a:lnTo>
                  <a:pt x="64718" y="21600"/>
                </a:lnTo>
                <a:lnTo>
                  <a:pt x="0" y="21600"/>
                </a:lnTo>
                <a:close/>
              </a:path>
              <a:path fill="lightenLess" w="64718" h="21600">
                <a:moveTo>
                  <a:pt x="0" y="0"/>
                </a:moveTo>
                <a:lnTo>
                  <a:pt x="64718" y="0"/>
                </a:lnTo>
                <a:lnTo>
                  <a:pt x="63319" y="1400"/>
                </a:lnTo>
                <a:lnTo>
                  <a:pt x="1400" y="1400"/>
                </a:lnTo>
                <a:close/>
              </a:path>
              <a:path fill="darken" w="64718" h="21600">
                <a:moveTo>
                  <a:pt x="64718" y="0"/>
                </a:moveTo>
                <a:lnTo>
                  <a:pt x="64718" y="21600"/>
                </a:lnTo>
                <a:lnTo>
                  <a:pt x="63319" y="20200"/>
                </a:lnTo>
                <a:lnTo>
                  <a:pt x="63319" y="1400"/>
                </a:lnTo>
                <a:close/>
              </a:path>
              <a:path fill="darkenLess" w="64718" h="21600">
                <a:moveTo>
                  <a:pt x="64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19" y="20200"/>
                </a:lnTo>
                <a:close/>
              </a:path>
              <a:path fill="lighten" w="64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oltar ao sumá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3E835-AB40-4FAC-83ED-2B23FBA057C4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ribuições da Superintendência de Controlad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228600" y="11426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8800" indent="-388800" algn="just">
              <a:lnSpc>
                <a:spcPct val="10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nejar, coordenar, acompanhar, reformular e controlar a execução do orçamento anu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ervisionar e negociar com as instituições financeiras as tarifas de cobrança relativas à: arrecadação, pagamento e transferência de recursos financeir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ervisionar e controlar o fluxo de caixa, inclusive a supervisão dos pagamentos de contratos e ressarcimentos, assim como os repasses de verba às associações conveniadas de acordo com as normas e procedimentos intern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ervisionar as aplicações financeiras com acompanhamento da evolução dos índices de mercad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eparar e elaborar relatórios e demonstrativos financeir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5990B-EE7F-46F7-A5DB-724792415315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  <a:ea typeface="Arial"/>
              </a:rPr>
              <a:t>Organograma da Administração do Crea-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162920" y="6095880"/>
            <a:ext cx="1143000" cy="38124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64718" h="21600">
                <a:moveTo>
                  <a:pt x="0" y="0"/>
                </a:moveTo>
                <a:lnTo>
                  <a:pt x="64718" y="0"/>
                </a:lnTo>
                <a:lnTo>
                  <a:pt x="64718" y="21600"/>
                </a:lnTo>
                <a:lnTo>
                  <a:pt x="0" y="21600"/>
                </a:lnTo>
                <a:close/>
              </a:path>
              <a:path fill="lightenLess" w="64718" h="21600">
                <a:moveTo>
                  <a:pt x="0" y="0"/>
                </a:moveTo>
                <a:lnTo>
                  <a:pt x="64718" y="0"/>
                </a:lnTo>
                <a:lnTo>
                  <a:pt x="63319" y="1400"/>
                </a:lnTo>
                <a:lnTo>
                  <a:pt x="1400" y="1400"/>
                </a:lnTo>
                <a:close/>
              </a:path>
              <a:path fill="darken" w="64718" h="21600">
                <a:moveTo>
                  <a:pt x="64718" y="0"/>
                </a:moveTo>
                <a:lnTo>
                  <a:pt x="64718" y="21600"/>
                </a:lnTo>
                <a:lnTo>
                  <a:pt x="63319" y="20200"/>
                </a:lnTo>
                <a:lnTo>
                  <a:pt x="63319" y="1400"/>
                </a:lnTo>
                <a:close/>
              </a:path>
              <a:path fill="darkenLess" w="64718" h="21600">
                <a:moveTo>
                  <a:pt x="64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19" y="20200"/>
                </a:lnTo>
                <a:close/>
              </a:path>
              <a:path fill="lighten" w="64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oltar ao sumá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Object 18"/>
          <p:cNvGraphicFramePr/>
          <p:nvPr/>
        </p:nvGraphicFramePr>
        <p:xfrm>
          <a:off x="541440" y="1211400"/>
          <a:ext cx="8066160" cy="43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1211400"/>
                    <a:ext cx="8066160" cy="43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673C0-5C1C-453F-B9A9-1AA7AB2C3D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ribuições da Superintendência de Controlad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8800" indent="-388800" algn="just">
              <a:lnSpc>
                <a:spcPct val="12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ervisionar os trâmites do pagamento dos funcionários, mediante informação do Departamento de Recursos Human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2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ervisionar a elaboração dos balancetes, balanços, relatórios e outros demonstrativos contábeis, verificar a apuração dos resultados e sugerir os ajustes necessári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2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ervisionar a prestação de contas para deliberação da Comissão de Orçamento e Tomadas de Contas e apreciação da Diretoria e do Plenário do Crea-SP, para homologação do CONFE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2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pervisionar o acompanhamento das alterações da legislação e regulamentação vigentes, sugerir mudanças e melhorias para o aperfeiçoamento contínuo do trabalho executado pelas áreas de sua responsabilida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605EB-5695-4C65-A1C1-4132F3FCB47B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pel principal do Departamento de Finanç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 algn="just">
              <a:lnSpc>
                <a:spcPct val="150000"/>
              </a:lnSpc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dministrar as transações que geram informações para o controle das atividades e operações do Crea-SP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50000"/>
              </a:lnSpc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r relatórios e interpretar os resultados em termos financeiros, avaliar o impacto financeiro das decisões da administração para garantir o fluxo de caixa adequado para a sustentação das atividades planejadas com proteção dos recursos por meio de controles adequados, consolidação de dados de receita/despesa e fornecimento de panorama financeiro para o planejamento das atividades e operações do Crea-S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>
            <a:hlinkClick r:id="rId1" action="ppaction://hlinksldjump"/>
          </p:cNvPr>
          <p:cNvSpPr/>
          <p:nvPr/>
        </p:nvSpPr>
        <p:spPr>
          <a:xfrm>
            <a:off x="7086600" y="6095880"/>
            <a:ext cx="1143000" cy="38124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64718" h="21600">
                <a:moveTo>
                  <a:pt x="0" y="0"/>
                </a:moveTo>
                <a:lnTo>
                  <a:pt x="64718" y="0"/>
                </a:lnTo>
                <a:lnTo>
                  <a:pt x="64718" y="21600"/>
                </a:lnTo>
                <a:lnTo>
                  <a:pt x="0" y="21600"/>
                </a:lnTo>
                <a:close/>
              </a:path>
              <a:path fill="lightenLess" w="64718" h="21600">
                <a:moveTo>
                  <a:pt x="0" y="0"/>
                </a:moveTo>
                <a:lnTo>
                  <a:pt x="64718" y="0"/>
                </a:lnTo>
                <a:lnTo>
                  <a:pt x="63319" y="1400"/>
                </a:lnTo>
                <a:lnTo>
                  <a:pt x="1400" y="1400"/>
                </a:lnTo>
                <a:close/>
              </a:path>
              <a:path fill="darken" w="64718" h="21600">
                <a:moveTo>
                  <a:pt x="64718" y="0"/>
                </a:moveTo>
                <a:lnTo>
                  <a:pt x="64718" y="21600"/>
                </a:lnTo>
                <a:lnTo>
                  <a:pt x="63319" y="20200"/>
                </a:lnTo>
                <a:lnTo>
                  <a:pt x="63319" y="1400"/>
                </a:lnTo>
                <a:close/>
              </a:path>
              <a:path fill="darkenLess" w="64718" h="21600">
                <a:moveTo>
                  <a:pt x="64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19" y="20200"/>
                </a:lnTo>
                <a:close/>
              </a:path>
              <a:path fill="lighten" w="64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oltar ao sumá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1D800-3FED-474B-8A58-2AD0F4B6B6E4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ribuições do Departamento de Finanç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22860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84840" indent="-384840" algn="just">
              <a:lnSpc>
                <a:spcPct val="13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borar fluxo de caixa diário, semanal, mensal e projetado, contemplando cronograma de pagamento das despesas processadas e não processada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4840" indent="-384840" algn="just">
              <a:lnSpc>
                <a:spcPct val="13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alizar aplicações financeiras oriundas de saldos remanescentes do fluxo de caixa e acompanhar sua posição por meio de índices do mercado financeiro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4840" indent="-384840" algn="just">
              <a:lnSpc>
                <a:spcPct val="13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mpanhar diariamente a movimentação das contas bancárias, confrontar e analisar o saldo com os extratos bancári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4840" indent="-384840" algn="just">
              <a:lnSpc>
                <a:spcPct val="13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etuar transferências de numerário entre contas correntes d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-SP para garantir os compromissos de pagament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4840" indent="-384840" algn="just">
              <a:lnSpc>
                <a:spcPct val="13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borar relatórios financeiros para demonstrar a situação financeira d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-S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A3210-68F0-46E6-B0BD-7D6B69001C51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ribuições do Departamento de Finanç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152280" y="9144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80880" indent="-380880" algn="just">
              <a:lnSpc>
                <a:spcPct val="12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Efetuar a liquidação e pagamento dos empenhos, verificando a autenticidade e a documentação legal, separando faturas, avisos bancários e notas fiscais para cumprir os estágios da despesa conforme os ditames da le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2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Conferir, analisar e pagar os pedidos de ressarcimentos e as prestações de contas de viagem de conselheiros, diretores e presidente, assim como manter contatos com fornecedores e clientes internos e externos para orientar e posicionar a respeito dos trâmites de liquidação e pagament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2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Providenciar créditos de suprimentos de fundos de acordo com as necessidades das áreas, conferir e consolidar as respectivas prestações de contas conforme os ditames da le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2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Processar as devoluções de anuidades, ARTs, taxas e multas cobradas em duplicidade ou indevidamente, após analisadas e atestadas pelas áreas responsávei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70730-0DEB-414B-8406-ED9E0AA92EC1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ribuições do Departamento de Finanç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228600" y="9907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76920" indent="-376920" algn="just">
              <a:lnSpc>
                <a:spcPct val="12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Emitir tabelas de cobrança de anuidades, taxas e multas em conformidade com as leis, decisões judiciais e regulamentações emanadas pelo Confe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-376920" algn="just">
              <a:lnSpc>
                <a:spcPct val="12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Elaborar tabelas de multas financeiras, cálculo de juros de mora para serem utilizadas pelas demais área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-376920" algn="just">
              <a:lnSpc>
                <a:spcPct val="12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Emitir boletos de parcelamentos de anuidades analisados e protocolados pelas unidades de atendiment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-376920" algn="just">
              <a:lnSpc>
                <a:spcPct val="12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Elaborar estudos de viabilidade econômica e financeir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-376920" algn="just">
              <a:lnSpc>
                <a:spcPct val="12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meter à rede bancária informações e mensagens necessárias à cobranç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-376920" algn="just">
              <a:lnSpc>
                <a:spcPct val="12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rientar as unidades na devolução de documentos encaminhados para pagam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39B59-4F6F-4AC2-9E85-3A7805DA9B60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apel principal do Departamento de Contabilidade e Orçamen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22860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50000"/>
              </a:lnSpc>
              <a:spcAft>
                <a:spcPts val="41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lanejar, organizar, registrar, controlar e evidenciar os atos e os fatos da gestão do patrimônio para orientar o processo de decisão, a prestação de contas e a instrumentalização do controle do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rea-SP para direcionar suas ações nos processos estratégicos, contábeis, orçamentários e no registro eficaz das mutações patrimoniai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50000"/>
              </a:lnSpc>
              <a:spcAft>
                <a:spcPts val="41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>
            <a:hlinkClick r:id="rId1" action="ppaction://hlinksldjump"/>
          </p:cNvPr>
          <p:cNvSpPr/>
          <p:nvPr/>
        </p:nvSpPr>
        <p:spPr>
          <a:xfrm>
            <a:off x="7162920" y="6095880"/>
            <a:ext cx="1143000" cy="38124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64718" h="21600">
                <a:moveTo>
                  <a:pt x="0" y="0"/>
                </a:moveTo>
                <a:lnTo>
                  <a:pt x="64718" y="0"/>
                </a:lnTo>
                <a:lnTo>
                  <a:pt x="64718" y="21600"/>
                </a:lnTo>
                <a:lnTo>
                  <a:pt x="0" y="21600"/>
                </a:lnTo>
                <a:close/>
              </a:path>
              <a:path fill="lightenLess" w="64718" h="21600">
                <a:moveTo>
                  <a:pt x="0" y="0"/>
                </a:moveTo>
                <a:lnTo>
                  <a:pt x="64718" y="0"/>
                </a:lnTo>
                <a:lnTo>
                  <a:pt x="63319" y="1400"/>
                </a:lnTo>
                <a:lnTo>
                  <a:pt x="1400" y="1400"/>
                </a:lnTo>
                <a:close/>
              </a:path>
              <a:path fill="darken" w="64718" h="21600">
                <a:moveTo>
                  <a:pt x="64718" y="0"/>
                </a:moveTo>
                <a:lnTo>
                  <a:pt x="64718" y="21600"/>
                </a:lnTo>
                <a:lnTo>
                  <a:pt x="63319" y="20200"/>
                </a:lnTo>
                <a:lnTo>
                  <a:pt x="63319" y="1400"/>
                </a:lnTo>
                <a:close/>
              </a:path>
              <a:path fill="darkenLess" w="64718" h="21600">
                <a:moveTo>
                  <a:pt x="64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19" y="20200"/>
                </a:lnTo>
                <a:close/>
              </a:path>
              <a:path fill="lighten" w="64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voltar ao sumá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36541-9D11-4FB3-ACEB-1A17E60EAEAF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ribuições do Departamento de Contabilidade e Orç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8800" indent="-388800" algn="just">
              <a:lnSpc>
                <a:spcPct val="100000"/>
              </a:lnSpc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ercer as atividades de controladoria mantendo os aspectos legais, fiscais e operacionais para assegurar a fidelidade e a regularidade dos relatórios e demonstrativos contábei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envolver, propor e implantar normas e procedimentos operacionais, contábeis, financeiros e orçamentários com elaboração de métodos para uniformidade dos mesm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sponder por todo o fluxo de informações gerenciais necessários para adequar a elaboração e montagem do orçamento e suas reformulações periódicas para análise das despesa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alisar e verificar a exatidão de toda documentação encaminhada para empenho, de acordo com as normas e instruções estabelecidas, inclusive os procedimentos necessários para sua liquidaçã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2E3F1-2CEA-4B49-9BA2-DD3753BF8C82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ribuições do Departamento de Contabilidade e Orç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228600" y="9144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8800" indent="-388800" algn="just">
              <a:lnSpc>
                <a:spcPct val="120000"/>
              </a:lnSpc>
              <a:spcAft>
                <a:spcPts val="2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Cumprir todas as determinações legais e fiscais, assim como os padrões estabelecidos pelo Confe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20000"/>
              </a:lnSpc>
              <a:spcAft>
                <a:spcPts val="2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Organizar, preparar e elaborar os relatórios gerenciais: balancetes, balanços, prestação de contas e demais informes oficiai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20000"/>
              </a:lnSpc>
              <a:spcAft>
                <a:spcPts val="2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Submeter os programas orçamentários e a prestação de contas à apreciação e deliberação da Diretoria, Comissão Permanente de Orçamento e Tomada de Contas e ao Plenário do Crea-SP, e encaminhá-los ao Confea para sua aprovaçã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20000"/>
              </a:lnSpc>
              <a:spcAft>
                <a:spcPts val="2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tender a fiscalização e auditoria, prestar informações e fornecer documentos, quando necessári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20000"/>
              </a:lnSpc>
              <a:spcAft>
                <a:spcPts val="2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Planejar, coordenar, reformular, acompanhar e controlar a execução do orçamento anu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0CC1E-5508-4F36-A1E0-907A79B8707A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ribuições do Departamento de Contabilidade e Orç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228600" y="12189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8800" indent="-388800" algn="just">
              <a:lnSpc>
                <a:spcPct val="120000"/>
              </a:lnSpc>
              <a:spcAft>
                <a:spcPts val="2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Propor, definir e atualizar o plano de contas para atender a legislação vigent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20000"/>
              </a:lnSpc>
              <a:spcAft>
                <a:spcPts val="2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Acompanhar e controlar os sistemas ERP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(Enterprise Resource Planning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) da área contábil e orçamentária e unificar os lançamentos entre as unidade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20000"/>
              </a:lnSpc>
              <a:spcAft>
                <a:spcPts val="2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Elaborar e acompanhar projetos e melhorias para o departamento e envolver os demais departamentos da superintendênci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20000"/>
              </a:lnSpc>
              <a:spcAft>
                <a:spcPts val="2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Implementar metodologias e processos para melhoria da eficiência e redução de cust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20000"/>
              </a:lnSpc>
              <a:spcAft>
                <a:spcPts val="2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Propor treinamento para os gestores das demais áreas no que tange a assuntos técnicos e legais pertinentes a contabilidade, orçamento e finanç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6B2B0-BE7B-4010-8AC8-5681655AE0A9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pel principal do Departamento de Dívida 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228600" y="1980720"/>
            <a:ext cx="86104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50000"/>
              </a:lnSpc>
              <a:spcAft>
                <a:spcPts val="41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Efetuar a cobrança pela via judicial dos créditos passíveis de inscrição em dívida ativa cuja cobrança seja atribuída por lei aos Conselhos Regionais de Engenharia, Arquitetura e Agronomia, quando não pagos no prazo legal pelos contribuintes e pelos infratores, nos termos do disposto na Lei nº 5.194/66 e na Resolução n.º 270/81, do Confe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>
            <a:hlinkClick r:id="rId1" action="ppaction://hlinksldjump"/>
          </p:cNvPr>
          <p:cNvSpPr/>
          <p:nvPr/>
        </p:nvSpPr>
        <p:spPr>
          <a:xfrm>
            <a:off x="7162920" y="6095880"/>
            <a:ext cx="1143000" cy="38124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64718" h="21600">
                <a:moveTo>
                  <a:pt x="0" y="0"/>
                </a:moveTo>
                <a:lnTo>
                  <a:pt x="64718" y="0"/>
                </a:lnTo>
                <a:lnTo>
                  <a:pt x="64718" y="21600"/>
                </a:lnTo>
                <a:lnTo>
                  <a:pt x="0" y="21600"/>
                </a:lnTo>
                <a:close/>
              </a:path>
              <a:path fill="lightenLess" w="64718" h="21600">
                <a:moveTo>
                  <a:pt x="0" y="0"/>
                </a:moveTo>
                <a:lnTo>
                  <a:pt x="64718" y="0"/>
                </a:lnTo>
                <a:lnTo>
                  <a:pt x="63319" y="1400"/>
                </a:lnTo>
                <a:lnTo>
                  <a:pt x="1400" y="1400"/>
                </a:lnTo>
                <a:close/>
              </a:path>
              <a:path fill="darken" w="64718" h="21600">
                <a:moveTo>
                  <a:pt x="64718" y="0"/>
                </a:moveTo>
                <a:lnTo>
                  <a:pt x="64718" y="21600"/>
                </a:lnTo>
                <a:lnTo>
                  <a:pt x="63319" y="20200"/>
                </a:lnTo>
                <a:lnTo>
                  <a:pt x="63319" y="1400"/>
                </a:lnTo>
                <a:close/>
              </a:path>
              <a:path fill="darkenLess" w="64718" h="21600">
                <a:moveTo>
                  <a:pt x="64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19" y="20200"/>
                </a:lnTo>
                <a:close/>
              </a:path>
              <a:path fill="lighten" w="64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oltar ao sumá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8F47E-E38A-4933-A0D3-D6D0FB447973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95280" y="838080"/>
            <a:ext cx="6553440" cy="57150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71800" y="2209680"/>
            <a:ext cx="3276720" cy="3048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05320" y="2743200"/>
            <a:ext cx="2133360" cy="190512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09880" y="3510000"/>
            <a:ext cx="1555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CREA-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248520" y="3733920"/>
            <a:ext cx="16002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95280" y="3733920"/>
            <a:ext cx="16765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21147600">
            <a:off x="1447560" y="4114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PAD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581280" y="2374920"/>
            <a:ext cx="21337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Arial"/>
              </a:rPr>
              <a:t>Área func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Arial"/>
              </a:rPr>
              <a:t>Fi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6064560" y="4417200"/>
            <a:ext cx="1371960" cy="6523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650960" y="4653000"/>
            <a:ext cx="1640160" cy="326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49480" y="5201280"/>
            <a:ext cx="1171800" cy="957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5337360" y="5068800"/>
            <a:ext cx="1189800" cy="95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9401000">
            <a:off x="3124440" y="57142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2257200">
            <a:off x="5562000" y="5043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PJ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024200">
            <a:off x="6171480" y="4114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PC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3207000">
            <a:off x="4488120" y="57218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PR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 rot="10773000">
            <a:off x="3733560" y="13852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P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20491800">
            <a:off x="2133720" y="510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PT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05320" y="4737240"/>
            <a:ext cx="213336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Arial"/>
              </a:rPr>
              <a:t>Áreas Funciona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Arial"/>
              </a:rPr>
              <a:t>Me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áfico da Estrutura Organizacional do Crea-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867280" y="2057040"/>
            <a:ext cx="1295640" cy="7621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97480" y="2182320"/>
            <a:ext cx="1472400" cy="7236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1024200">
            <a:off x="6171480" y="2971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21147600">
            <a:off x="1447560" y="2895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UVID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rId1" action="ppaction://hlinksldjump"/>
          </p:cNvPr>
          <p:cNvSpPr/>
          <p:nvPr/>
        </p:nvSpPr>
        <p:spPr>
          <a:xfrm>
            <a:off x="7162920" y="6172200"/>
            <a:ext cx="1143000" cy="38088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4780" h="21600">
                <a:moveTo>
                  <a:pt x="0" y="0"/>
                </a:moveTo>
                <a:lnTo>
                  <a:pt x="64780" y="0"/>
                </a:lnTo>
                <a:lnTo>
                  <a:pt x="64780" y="21600"/>
                </a:lnTo>
                <a:lnTo>
                  <a:pt x="0" y="21600"/>
                </a:lnTo>
                <a:close/>
              </a:path>
              <a:path fill="lightenLess" w="64780" h="21600">
                <a:moveTo>
                  <a:pt x="0" y="0"/>
                </a:moveTo>
                <a:lnTo>
                  <a:pt x="64780" y="0"/>
                </a:lnTo>
                <a:lnTo>
                  <a:pt x="63380" y="1400"/>
                </a:lnTo>
                <a:lnTo>
                  <a:pt x="1400" y="1400"/>
                </a:lnTo>
                <a:close/>
              </a:path>
              <a:path fill="darken" w="64780" h="21600">
                <a:moveTo>
                  <a:pt x="64780" y="0"/>
                </a:moveTo>
                <a:lnTo>
                  <a:pt x="64780" y="21600"/>
                </a:lnTo>
                <a:lnTo>
                  <a:pt x="63380" y="20200"/>
                </a:lnTo>
                <a:lnTo>
                  <a:pt x="63380" y="1400"/>
                </a:lnTo>
                <a:close/>
              </a:path>
              <a:path fill="darkenLess" w="64780" h="21600">
                <a:moveTo>
                  <a:pt x="64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80" y="20200"/>
                </a:lnTo>
                <a:close/>
              </a:path>
              <a:path fill="lighten" w="64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oltar ao sumá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48320" y="5257800"/>
            <a:ext cx="0" cy="1295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EEED3-F9F0-4084-9EF1-A2DAE56C9C0E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ribuições do Departamento de Dívida 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8800" indent="-388800" algn="just">
              <a:lnSpc>
                <a:spcPct val="100000"/>
              </a:lnSpc>
              <a:spcAft>
                <a:spcPts val="2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lanejar e promover a inscrição em dívida ativa dos créditos não pagos no prazo legal pelos contribuintes (anuidades e taxas) e pelos infratores (multas), nos termos do previsto na Resolução nº 270/81, do Confe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2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staurar, instruir e controlar os processos administrativos relacionados à cobrança da dívida ativ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2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eparar os documentos necessários à distribuição de ações de execução fisc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2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istribuir, acompanhar e dar andamento nas execuções fiscais promovidas em face dos devedores do Crea-S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2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tender ao público em geral e prestar esclarecimento acerca das cobranças efetuadas, legislação aplicável e formas de pagamento/regularizaçã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2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rientar, negociar e autorizar o parcelamento de débitos cuja cobrança esteja sob a responsabilidade do departament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9A6D5-9548-45F6-8FA2-E01896C44709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ribuições do Departamento de Dívida 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/>
          </p:nvPr>
        </p:nvSpPr>
        <p:spPr>
          <a:xfrm>
            <a:off x="228600" y="10666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84840" indent="-384840" algn="just">
              <a:lnSpc>
                <a:spcPct val="100000"/>
              </a:lnSpc>
              <a:spcAft>
                <a:spcPts val="2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erar fichas de compensação para possibilitar a satisfação da obrigação por parte dos devedore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4840" indent="-384840" algn="just">
              <a:lnSpc>
                <a:spcPct val="100000"/>
              </a:lnSpc>
              <a:spcAft>
                <a:spcPts val="2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ar e controlar as fichas de compensação (pagamentos à vista ou parcelado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4840" indent="-384840" algn="just">
              <a:lnSpc>
                <a:spcPct val="100000"/>
              </a:lnSpc>
              <a:spcAft>
                <a:spcPts val="2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erificar os pagamentos realizados com o lançamento dos respectivos valores em sistema próprio para possibilitar o controle e emissão de relatórios financeiros acerca da cobrança da dívida ativ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4840" indent="-384840" algn="just">
              <a:lnSpc>
                <a:spcPct val="100000"/>
              </a:lnSpc>
              <a:spcAft>
                <a:spcPts val="2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alisar requerimentos e documentos apresentados pelos interessados e decidir acerca da legalidade e procedência da cobranç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4840" indent="-384840" algn="just">
              <a:lnSpc>
                <a:spcPct val="100000"/>
              </a:lnSpc>
              <a:spcAft>
                <a:spcPts val="2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videnciar a baixa da inscrição de dívida ativa e extinguir processos mediante comprovação por documentos hábei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4840" indent="-384840" algn="just">
              <a:lnSpc>
                <a:spcPct val="100000"/>
              </a:lnSpc>
              <a:spcAft>
                <a:spcPts val="2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mitir certidões de situações relacionadas à dívida ativa (homonímia e negativa de débito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21EEC-6047-4394-B1C0-2ACBA0DB9A60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STRUTURA ORGANIZ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228600" y="3123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Times New Roman"/>
              </a:rPr>
              <a:t>SUPERINTENDÊNCIA TÉCN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>
            <a:hlinkClick r:id="rId1" action="ppaction://hlinksldjump"/>
          </p:cNvPr>
          <p:cNvSpPr/>
          <p:nvPr/>
        </p:nvSpPr>
        <p:spPr>
          <a:xfrm>
            <a:off x="7086600" y="6095880"/>
            <a:ext cx="1143000" cy="38124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64718" h="21600">
                <a:moveTo>
                  <a:pt x="0" y="0"/>
                </a:moveTo>
                <a:lnTo>
                  <a:pt x="64718" y="0"/>
                </a:lnTo>
                <a:lnTo>
                  <a:pt x="64718" y="21600"/>
                </a:lnTo>
                <a:lnTo>
                  <a:pt x="0" y="21600"/>
                </a:lnTo>
                <a:close/>
              </a:path>
              <a:path fill="lightenLess" w="64718" h="21600">
                <a:moveTo>
                  <a:pt x="0" y="0"/>
                </a:moveTo>
                <a:lnTo>
                  <a:pt x="64718" y="0"/>
                </a:lnTo>
                <a:lnTo>
                  <a:pt x="63319" y="1400"/>
                </a:lnTo>
                <a:lnTo>
                  <a:pt x="1400" y="1400"/>
                </a:lnTo>
                <a:close/>
              </a:path>
              <a:path fill="darken" w="64718" h="21600">
                <a:moveTo>
                  <a:pt x="64718" y="0"/>
                </a:moveTo>
                <a:lnTo>
                  <a:pt x="64718" y="21600"/>
                </a:lnTo>
                <a:lnTo>
                  <a:pt x="63319" y="20200"/>
                </a:lnTo>
                <a:lnTo>
                  <a:pt x="63319" y="1400"/>
                </a:lnTo>
                <a:close/>
              </a:path>
              <a:path fill="darkenLess" w="64718" h="21600">
                <a:moveTo>
                  <a:pt x="64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19" y="20200"/>
                </a:lnTo>
                <a:close/>
              </a:path>
              <a:path fill="lighten" w="64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oltar ao sumá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0940A-333F-4662-BD70-D9D6F2DF89FD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rutura Organizacional da SUPTE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Aft>
                <a:spcPts val="45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Superintendência Técnica é composta por 3 Departamentos e por 2 Un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447920" y="4952880"/>
            <a:ext cx="7238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8360" indent="-198360" algn="just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dade de Assuntos Administrativ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62120" y="251460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lnSpc>
                <a:spcPct val="100000"/>
              </a:lnSpc>
              <a:spcAft>
                <a:spcPts val="1125"/>
              </a:spcAft>
              <a:buClr>
                <a:srgbClr val="0066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  <a:ea typeface="Arial"/>
              </a:rPr>
              <a:t>Departamento de Assistência ao Plená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447920" y="297180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8360" indent="-198360" algn="just">
              <a:lnSpc>
                <a:spcPct val="10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dade de Controle de Proces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733920"/>
            <a:ext cx="7238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lnSpc>
                <a:spcPct val="100000"/>
              </a:lnSpc>
              <a:spcAft>
                <a:spcPts val="3376"/>
              </a:spcAft>
              <a:buClr>
                <a:srgbClr val="0066ff"/>
              </a:buClr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  <a:ea typeface="Arial"/>
              </a:rPr>
              <a:t>Departamento de Assistência Técn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62120" y="449568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lnSpc>
                <a:spcPct val="100000"/>
              </a:lnSpc>
              <a:spcAft>
                <a:spcPts val="1125"/>
              </a:spcAft>
              <a:buClr>
                <a:srgbClr val="0066ff"/>
              </a:buClr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  <a:ea typeface="Arial"/>
              </a:rPr>
              <a:t>Departamento de Assistência às Câmaras e Conselhei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92B1F-A907-4EB7-A4DD-0F9B6A0BA01B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pel principal da Superintendência Técn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228240" y="13712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8800" indent="-388800" algn="just">
              <a:lnSpc>
                <a:spcPct val="150000"/>
              </a:lnSpc>
              <a:spcAft>
                <a:spcPts val="45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ordenar e controlar as ações da Superintendência Técnica para prover os recursos necessários como: suporte, parâmetros e apoio logíst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50000"/>
              </a:lnSpc>
              <a:spcAft>
                <a:spcPts val="45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lanejar e propor ações para o desenvolvimento organizacional do Crea-SP e buscar a melhoria contínua de sua administração e o atendimen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as necessidades dos usuário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2ED29-E888-4B64-83D8-F0BD0C98D021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ribuições da Superintendência Técn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69360" indent="-369360" algn="just">
              <a:lnSpc>
                <a:spcPct val="130000"/>
              </a:lnSpc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Interfacear com as demais superintendência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9360" indent="-369360" algn="just">
              <a:lnSpc>
                <a:spcPct val="130000"/>
              </a:lnSpc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Interfacear com a estrutura básica e de suport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9360" indent="-369360" algn="just">
              <a:lnSpc>
                <a:spcPct val="130000"/>
              </a:lnSpc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articipar da estruturação e da execução do Planejamento Estratégico da Superintendência Técnic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9360" indent="-369360" algn="just">
              <a:lnSpc>
                <a:spcPct val="130000"/>
              </a:lnSpc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sponibilizar meios para m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anter o Crea-SP atualizado em relação às melhores práticas 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benchmarking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) dos demais conselhos e órgãos de clas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4DC82-5FE5-4627-8273-33AF8235376F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pel principal do Departamento de Assistência ao Plená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85341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50000"/>
              </a:lnSpc>
              <a:spcAft>
                <a:spcPts val="5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ssegurar o apoio administrativo para o exercício do mandato dos conselheiros e assessorar o Plenário e a Comissão de Renovação do Terç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>
            <a:hlinkClick r:id="rId1" action="ppaction://hlinksldjump"/>
          </p:cNvPr>
          <p:cNvSpPr/>
          <p:nvPr/>
        </p:nvSpPr>
        <p:spPr>
          <a:xfrm>
            <a:off x="7086600" y="6095880"/>
            <a:ext cx="1143000" cy="38124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64718" h="21600">
                <a:moveTo>
                  <a:pt x="0" y="0"/>
                </a:moveTo>
                <a:lnTo>
                  <a:pt x="64718" y="0"/>
                </a:lnTo>
                <a:lnTo>
                  <a:pt x="64718" y="21600"/>
                </a:lnTo>
                <a:lnTo>
                  <a:pt x="0" y="21600"/>
                </a:lnTo>
                <a:close/>
              </a:path>
              <a:path fill="lightenLess" w="64718" h="21600">
                <a:moveTo>
                  <a:pt x="0" y="0"/>
                </a:moveTo>
                <a:lnTo>
                  <a:pt x="64718" y="0"/>
                </a:lnTo>
                <a:lnTo>
                  <a:pt x="63319" y="1400"/>
                </a:lnTo>
                <a:lnTo>
                  <a:pt x="1400" y="1400"/>
                </a:lnTo>
                <a:close/>
              </a:path>
              <a:path fill="darken" w="64718" h="21600">
                <a:moveTo>
                  <a:pt x="64718" y="0"/>
                </a:moveTo>
                <a:lnTo>
                  <a:pt x="64718" y="21600"/>
                </a:lnTo>
                <a:lnTo>
                  <a:pt x="63319" y="20200"/>
                </a:lnTo>
                <a:lnTo>
                  <a:pt x="63319" y="1400"/>
                </a:lnTo>
                <a:close/>
              </a:path>
              <a:path fill="darkenLess" w="64718" h="21600">
                <a:moveTo>
                  <a:pt x="64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19" y="20200"/>
                </a:lnTo>
                <a:close/>
              </a:path>
              <a:path fill="lighten" w="64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oltar ao sumá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2575A-8965-42B0-9CCE-AF8293EB4A18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ribuições do Departamento de Assistência ao Plená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8800" indent="-388800" algn="just">
              <a:lnSpc>
                <a:spcPct val="100000"/>
              </a:lnSpc>
              <a:spcAft>
                <a:spcPts val="41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Providenciar o apoio logístico e/ou de infra-estrutura necessários à realização das sessões plenárias, assim como o suporte técnico e administrativo, confecção de atas, decisões e demais documentos resultantes das mesmas, conforme estabelecido no Regimento do Crea-SP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41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Assessorar todo o processo de renovação do terço de acordo com os trâmites estabelecidos em resolução do Confea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41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Controle da frequência, dos mandatos e do prontuário dos conselheiros e as ações decorrente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00000"/>
              </a:lnSpc>
              <a:spcAft>
                <a:spcPts val="41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Controlar e distribuir os processos do plenário, câmaras, comissões e grupos de trabalh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D135C-0F09-4FB3-AA9B-26EAD6B8A929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pel principal da Unidade de Controle de Proces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80880" y="1980720"/>
            <a:ext cx="838224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ceber, verificar, separar, distribuir, acompanhar e controlar o trâmite dos processos de assuntos pertinentes à Superintendência Técn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3A2D4-42F6-4899-91D6-B7CF1B5AEBA2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ribuições da Unidade de Controle de Proces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0456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4840" indent="-474840" algn="just">
              <a:lnSpc>
                <a:spcPct val="130000"/>
              </a:lnSpc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tregar processos a conselheiros em todas as instâncias e controlar a posse regiment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4840" indent="-474840" algn="just">
              <a:lnSpc>
                <a:spcPct val="130000"/>
              </a:lnSpc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eber processos de conselheiros, proceder à baixa da posse e encaminhá-los à instância pertinent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4840" indent="-474840" algn="just">
              <a:lnSpc>
                <a:spcPct val="130000"/>
              </a:lnSpc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rolar o prazo de tramitação dos processos não retirados por conselheiro para sua redistribuiçã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4840" indent="-474840" algn="just">
              <a:lnSpc>
                <a:spcPct val="130000"/>
              </a:lnSpc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mitir mensalmente os relatórios de controle de posse de processos em poder de conselheiro além do prazo regimental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92387-9000-4176-A38A-583D436A9D63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STRUTURA ORGANIZ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533520" y="182844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Times New Roman"/>
              </a:rPr>
              <a:t>UNIDADE ADMINISTRATI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Times New Roman"/>
              </a:rPr>
              <a:t>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Times New Roman"/>
              </a:rPr>
              <a:t>GABINETE DA PRESIDÊN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62920" y="6095880"/>
            <a:ext cx="1143000" cy="38124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64718" h="21600">
                <a:moveTo>
                  <a:pt x="0" y="0"/>
                </a:moveTo>
                <a:lnTo>
                  <a:pt x="64718" y="0"/>
                </a:lnTo>
                <a:lnTo>
                  <a:pt x="64718" y="21600"/>
                </a:lnTo>
                <a:lnTo>
                  <a:pt x="0" y="21600"/>
                </a:lnTo>
                <a:close/>
              </a:path>
              <a:path fill="lightenLess" w="64718" h="21600">
                <a:moveTo>
                  <a:pt x="0" y="0"/>
                </a:moveTo>
                <a:lnTo>
                  <a:pt x="64718" y="0"/>
                </a:lnTo>
                <a:lnTo>
                  <a:pt x="63319" y="1400"/>
                </a:lnTo>
                <a:lnTo>
                  <a:pt x="1400" y="1400"/>
                </a:lnTo>
                <a:close/>
              </a:path>
              <a:path fill="darken" w="64718" h="21600">
                <a:moveTo>
                  <a:pt x="64718" y="0"/>
                </a:moveTo>
                <a:lnTo>
                  <a:pt x="64718" y="21600"/>
                </a:lnTo>
                <a:lnTo>
                  <a:pt x="63319" y="20200"/>
                </a:lnTo>
                <a:lnTo>
                  <a:pt x="63319" y="1400"/>
                </a:lnTo>
                <a:close/>
              </a:path>
              <a:path fill="darkenLess" w="64718" h="21600">
                <a:moveTo>
                  <a:pt x="64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19" y="20200"/>
                </a:lnTo>
                <a:close/>
              </a:path>
              <a:path fill="lighten" w="64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oltar ao sumá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AD072-E39C-481B-8C59-FB0736B8DC8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pel principal do Departamento de Assistência Téc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2666880"/>
            <a:ext cx="830592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50000"/>
              </a:lnSpc>
              <a:spcAft>
                <a:spcPts val="45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álise técnica/administrativa dos processos pertinentes à Superintendência Técnica e auxiliar o apoio técnico para o exercício do mandato dos conselhei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>
            <a:hlinkClick r:id="rId1" action="ppaction://hlinksldjump"/>
          </p:cNvPr>
          <p:cNvSpPr/>
          <p:nvPr/>
        </p:nvSpPr>
        <p:spPr>
          <a:xfrm>
            <a:off x="7086600" y="6095880"/>
            <a:ext cx="1143000" cy="38124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64718" h="21600">
                <a:moveTo>
                  <a:pt x="0" y="0"/>
                </a:moveTo>
                <a:lnTo>
                  <a:pt x="64718" y="0"/>
                </a:lnTo>
                <a:lnTo>
                  <a:pt x="64718" y="21600"/>
                </a:lnTo>
                <a:lnTo>
                  <a:pt x="0" y="21600"/>
                </a:lnTo>
                <a:close/>
              </a:path>
              <a:path fill="lightenLess" w="64718" h="21600">
                <a:moveTo>
                  <a:pt x="0" y="0"/>
                </a:moveTo>
                <a:lnTo>
                  <a:pt x="64718" y="0"/>
                </a:lnTo>
                <a:lnTo>
                  <a:pt x="63319" y="1400"/>
                </a:lnTo>
                <a:lnTo>
                  <a:pt x="1400" y="1400"/>
                </a:lnTo>
                <a:close/>
              </a:path>
              <a:path fill="darken" w="64718" h="21600">
                <a:moveTo>
                  <a:pt x="64718" y="0"/>
                </a:moveTo>
                <a:lnTo>
                  <a:pt x="64718" y="21600"/>
                </a:lnTo>
                <a:lnTo>
                  <a:pt x="63319" y="20200"/>
                </a:lnTo>
                <a:lnTo>
                  <a:pt x="63319" y="1400"/>
                </a:lnTo>
                <a:close/>
              </a:path>
              <a:path fill="darkenLess" w="64718" h="21600">
                <a:moveTo>
                  <a:pt x="64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19" y="20200"/>
                </a:lnTo>
                <a:close/>
              </a:path>
              <a:path fill="lighten" w="64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oltar ao sumá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0BDE3-AA0F-433D-B2B2-75735693D46D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ribuições do Departamento de Assistência Téc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228240" y="99036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5120" indent="-465120" algn="just">
              <a:lnSpc>
                <a:spcPct val="120000"/>
              </a:lnSpc>
              <a:spcAft>
                <a:spcPts val="3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Garantir a análise e o trâmite de processos no menor tempo possível, consoante os prazos regimentai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465120" algn="just">
              <a:lnSpc>
                <a:spcPct val="120000"/>
              </a:lnSpc>
              <a:spcAft>
                <a:spcPts val="3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Conhecer as legislações e decisões no âmbito do Sistema Confea/Creas e prestar informações a quem de direit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465120" algn="just">
              <a:lnSpc>
                <a:spcPct val="120000"/>
              </a:lnSpc>
              <a:spcAft>
                <a:spcPts val="3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Criar e manter sistema de informações como jurisprudência, legislação e normas para facilitar os trabalhos e decisões dos órgãos colegiad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465120" algn="just">
              <a:lnSpc>
                <a:spcPct val="120000"/>
              </a:lnSpc>
              <a:spcAft>
                <a:spcPts val="3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Auxiliar os conselheiros no relato de processos quanto ao embasamento leg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465120" algn="just">
              <a:lnSpc>
                <a:spcPct val="120000"/>
              </a:lnSpc>
              <a:spcAft>
                <a:spcPts val="3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Receber e responder consultas técnic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23722-96A3-4D01-AD4F-8362B634A12B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pel principal do Departamento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stência às Câmaras e Conselhei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1532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4840" indent="-474840" algn="just">
              <a:lnSpc>
                <a:spcPct val="150000"/>
              </a:lnSpc>
              <a:spcAft>
                <a:spcPts val="45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egurar o apoio técnico e administrativo às atividades das câmaras, comissões e grupos de trabalho para o exercício do mandato dos conselheiros, conforme disposto no Regimento do Crea-S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>
            <a:hlinkClick r:id="rId1" action="ppaction://hlinksldjump"/>
          </p:cNvPr>
          <p:cNvSpPr/>
          <p:nvPr/>
        </p:nvSpPr>
        <p:spPr>
          <a:xfrm>
            <a:off x="7162920" y="6095880"/>
            <a:ext cx="1143000" cy="38124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64718" h="21600">
                <a:moveTo>
                  <a:pt x="0" y="0"/>
                </a:moveTo>
                <a:lnTo>
                  <a:pt x="64718" y="0"/>
                </a:lnTo>
                <a:lnTo>
                  <a:pt x="64718" y="21600"/>
                </a:lnTo>
                <a:lnTo>
                  <a:pt x="0" y="21600"/>
                </a:lnTo>
                <a:close/>
              </a:path>
              <a:path fill="lightenLess" w="64718" h="21600">
                <a:moveTo>
                  <a:pt x="0" y="0"/>
                </a:moveTo>
                <a:lnTo>
                  <a:pt x="64718" y="0"/>
                </a:lnTo>
                <a:lnTo>
                  <a:pt x="63319" y="1400"/>
                </a:lnTo>
                <a:lnTo>
                  <a:pt x="1400" y="1400"/>
                </a:lnTo>
                <a:close/>
              </a:path>
              <a:path fill="darken" w="64718" h="21600">
                <a:moveTo>
                  <a:pt x="64718" y="0"/>
                </a:moveTo>
                <a:lnTo>
                  <a:pt x="64718" y="21600"/>
                </a:lnTo>
                <a:lnTo>
                  <a:pt x="63319" y="20200"/>
                </a:lnTo>
                <a:lnTo>
                  <a:pt x="63319" y="1400"/>
                </a:lnTo>
                <a:close/>
              </a:path>
              <a:path fill="darkenLess" w="64718" h="21600">
                <a:moveTo>
                  <a:pt x="64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19" y="20200"/>
                </a:lnTo>
                <a:close/>
              </a:path>
              <a:path fill="lighten" w="64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oltar ao sumá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284EC-375D-461E-A9B8-FB99906F9977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ribuições do Departamento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stência às Câmaras e Conselhei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04920" y="10666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4840" indent="-474840" algn="just">
              <a:lnSpc>
                <a:spcPct val="130000"/>
              </a:lnSpc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ientar os conselheiros quanto ao atendimento do Regimento do Crea-SP, consolidar e registrar os entendimentos decorrentes dos pareceres, assim como acompanhar o trâmite dos processos a serem relatados por el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4840" indent="-474840" algn="just">
              <a:lnSpc>
                <a:spcPct val="130000"/>
              </a:lnSpc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videnciar a divulgação das decisões tomadas pelos órgãos de caráter decisório, conforme as normas vigent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4840" indent="-474840" algn="just">
              <a:lnSpc>
                <a:spcPct val="130000"/>
              </a:lnSpc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egrar as ações das diversas câmara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4840" indent="-474840" algn="just">
              <a:lnSpc>
                <a:spcPct val="130000"/>
              </a:lnSpc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dronizar os procedimentos e racionalizar os trabalhos das câmaras, comissões e grupos de trabalh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46A49-810E-43CC-8170-23D72F5DCC63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pel Principal da Unidade de Assuntos Administr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609480" y="19807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spcAft>
                <a:spcPts val="5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videnciar o apoio logístico ou de infraestrutura necessários à realização das reuniões, assim com o suporte técnico e administra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6F993-0F36-4BC5-80FB-CD8C34680C73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ribuiçõe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 Unidade de Assuntos Administr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228240" y="114264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Aft>
                <a:spcPts val="2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r súmulas, decisões e demais documentos resultantes das reuniõe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Aft>
                <a:spcPts val="2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vulgar o calendário anual de reuniões e eventos do plenário, das câmaras, das comissões e dos grupos de trabalho e as eventuais alteraçõe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Aft>
                <a:spcPts val="2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caminhar a convocação dos conselheiros para as reuniões ordinárias e extraordinária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Aft>
                <a:spcPts val="2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borar as listas de presenças das reuniões das câmaras, comissões e grupos de trabalho e encaminhá-las aos responsáveis pela reuniã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Aft>
                <a:spcPts val="2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eparar as notas de empenho referentes ao pagamento/ressarcimento de conselheir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Aft>
                <a:spcPts val="2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trolar, locar e realocar espaço físico para as reuniões das câmaras, comissões e grupos de trabalho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454B5-048D-40B0-9919-022824EFBD92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STRUTURA ORGANIZ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533160" y="213336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Times New Roman"/>
              </a:rPr>
              <a:t>SUPERINTENDÊN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Times New Roman"/>
              </a:rPr>
              <a:t>OPERACIO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>
            <a:hlinkClick r:id="rId1" action="ppaction://hlinksldjump"/>
          </p:cNvPr>
          <p:cNvSpPr/>
          <p:nvPr/>
        </p:nvSpPr>
        <p:spPr>
          <a:xfrm>
            <a:off x="7162920" y="6095880"/>
            <a:ext cx="1143000" cy="38124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64718" h="21600">
                <a:moveTo>
                  <a:pt x="0" y="0"/>
                </a:moveTo>
                <a:lnTo>
                  <a:pt x="64718" y="0"/>
                </a:lnTo>
                <a:lnTo>
                  <a:pt x="64718" y="21600"/>
                </a:lnTo>
                <a:lnTo>
                  <a:pt x="0" y="21600"/>
                </a:lnTo>
                <a:close/>
              </a:path>
              <a:path fill="lightenLess" w="64718" h="21600">
                <a:moveTo>
                  <a:pt x="0" y="0"/>
                </a:moveTo>
                <a:lnTo>
                  <a:pt x="64718" y="0"/>
                </a:lnTo>
                <a:lnTo>
                  <a:pt x="63319" y="1400"/>
                </a:lnTo>
                <a:lnTo>
                  <a:pt x="1400" y="1400"/>
                </a:lnTo>
                <a:close/>
              </a:path>
              <a:path fill="darken" w="64718" h="21600">
                <a:moveTo>
                  <a:pt x="64718" y="0"/>
                </a:moveTo>
                <a:lnTo>
                  <a:pt x="64718" y="21600"/>
                </a:lnTo>
                <a:lnTo>
                  <a:pt x="63319" y="20200"/>
                </a:lnTo>
                <a:lnTo>
                  <a:pt x="63319" y="1400"/>
                </a:lnTo>
                <a:close/>
              </a:path>
              <a:path fill="darkenLess" w="64718" h="21600">
                <a:moveTo>
                  <a:pt x="64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19" y="20200"/>
                </a:lnTo>
                <a:close/>
              </a:path>
              <a:path fill="lighten" w="64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oltar ao sumá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ADDAC-B0E6-449B-B1CF-7D1FD15DE811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rutura Organizacional da SUP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/>
          </p:nvPr>
        </p:nvSpPr>
        <p:spPr>
          <a:xfrm>
            <a:off x="380520" y="3429000"/>
            <a:ext cx="86108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  <a:ea typeface="Arial"/>
              </a:rPr>
              <a:t> 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Arial"/>
              </a:rPr>
              <a:t>II.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        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Arial"/>
              </a:rPr>
              <a:t>Departamento de Controle e Diretrizes de Fiscalizaçã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Arial"/>
              </a:rPr>
              <a:t>III.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     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Arial"/>
              </a:rPr>
              <a:t>Departamento de Controle e Diretrizes de Registro e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Arial"/>
              </a:rPr>
              <a:t>Instrução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Arial"/>
              </a:rPr>
              <a:t>de Proces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28600" y="91440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 Superintendência Operacion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é composta por 15 Departamentos, por 37 Unidades de Gestão de Inspetorias, 100 Unidades Operacionais de Inspetorias, e 10 Unidades Operacionais de Postos de Serviç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57200" y="1828800"/>
            <a:ext cx="861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Arial"/>
              </a:rPr>
              <a:t>I.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 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Arial"/>
              </a:rPr>
              <a:t>12 Departamentos Region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447920" y="2133720"/>
            <a:ext cx="5029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8360" indent="-198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idade de Gestão de Inspetor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idade Operacional de Inspetor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nidade Operacional - Posto de Serviç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80880" y="5410080"/>
            <a:ext cx="533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  <a:ea typeface="Arial"/>
              </a:rPr>
              <a:t> 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Arial"/>
              </a:rPr>
              <a:t>IV.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     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Arial"/>
              </a:rPr>
              <a:t>Departamento de Informá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295280" y="46483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8360" indent="-19836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idade de Atendimento ao Usuá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219320" y="5715000"/>
            <a:ext cx="4343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8360" indent="-19836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idade de Suporte ao Usuá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idade de Desenvolv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A2E46-B995-4297-A4AB-06C0739C86B1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pel principal da Superintendência Oper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72960" indent="-372960" algn="just">
              <a:lnSpc>
                <a:spcPct val="130000"/>
              </a:lnSpc>
              <a:spcAft>
                <a:spcPts val="41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ordenar as ações de fiscalização do exercício profissional da área tecnológica, assim como a prestação dos serviços executados nas Unidades de Gestão de Inspetoria e Operacional no Estado de São Paulo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 algn="just">
              <a:lnSpc>
                <a:spcPct val="130000"/>
              </a:lnSpc>
              <a:spcAft>
                <a:spcPts val="41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ter um sistema de comunicação entre o Crea-SP, as Entidades e as Instituições de Ensin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162920" y="6095880"/>
            <a:ext cx="1143000" cy="38124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64718" h="21600">
                <a:moveTo>
                  <a:pt x="0" y="0"/>
                </a:moveTo>
                <a:lnTo>
                  <a:pt x="64718" y="0"/>
                </a:lnTo>
                <a:lnTo>
                  <a:pt x="64718" y="21600"/>
                </a:lnTo>
                <a:lnTo>
                  <a:pt x="0" y="21600"/>
                </a:lnTo>
                <a:close/>
              </a:path>
              <a:path fill="lightenLess" w="64718" h="21600">
                <a:moveTo>
                  <a:pt x="0" y="0"/>
                </a:moveTo>
                <a:lnTo>
                  <a:pt x="64718" y="0"/>
                </a:lnTo>
                <a:lnTo>
                  <a:pt x="63319" y="1400"/>
                </a:lnTo>
                <a:lnTo>
                  <a:pt x="1400" y="1400"/>
                </a:lnTo>
                <a:close/>
              </a:path>
              <a:path fill="darken" w="64718" h="21600">
                <a:moveTo>
                  <a:pt x="64718" y="0"/>
                </a:moveTo>
                <a:lnTo>
                  <a:pt x="64718" y="21600"/>
                </a:lnTo>
                <a:lnTo>
                  <a:pt x="63319" y="20200"/>
                </a:lnTo>
                <a:lnTo>
                  <a:pt x="63319" y="1400"/>
                </a:lnTo>
                <a:close/>
              </a:path>
              <a:path fill="darkenLess" w="64718" h="21600">
                <a:moveTo>
                  <a:pt x="64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19" y="20200"/>
                </a:lnTo>
                <a:close/>
              </a:path>
              <a:path fill="lighten" w="64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oltar ao sumá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91ADA-D5DA-4BEB-80DA-BAC0F588F975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ribuições da Superintendência Oper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11292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8800" indent="-388800" algn="just">
              <a:lnSpc>
                <a:spcPct val="13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ordenar o planejamento e avaliar os resultados dos planos de ação de fiscalização elaborados pelas Câmaras Especializada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3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lanejar, propor, e coordenar eventos de natureza específica no âmbito da Superintendência Operacional (SEFISC, Seminários, Reuniões e Treinamento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3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por e supervisionar as ações de fiscalização do tipo: blitz, força tarefa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3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nter atualizado um sistema de informações das atividades afetas à Superintendência Operacional para subsidiar as decisões da presidênci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just">
              <a:lnSpc>
                <a:spcPct val="130000"/>
              </a:lnSpc>
              <a:spcAft>
                <a:spcPts val="33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por revisão em Resoluções do Confea e instrumentos normativos do 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rea-S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5C1EA-BDF1-4268-821F-0216B3D5A76F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11:04:46Z</dcterms:created>
  <dc:creator>usuariospd</dc:creator>
  <dc:description/>
  <dc:language>en-US</dc:language>
  <cp:lastModifiedBy>usuario</cp:lastModifiedBy>
  <dcterms:modified xsi:type="dcterms:W3CDTF">2010-11-04T12:37:39Z</dcterms:modified>
  <cp:revision>831</cp:revision>
  <dc:subject/>
  <dc:title>Apresentação do PowerPoint</dc:title>
</cp:coreProperties>
</file>