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2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8362-17D3-4D23-99C6-D9FE428D5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303C-1285-47A9-A116-732ECED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F124E-2B3C-4FE3-A2F0-A87DE71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BA1AB-5F0D-47CB-A554-3FBABBF3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7E7B-97CA-41B6-9FD5-2CA4CAF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38D5-9F67-4BB3-B607-199151B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397A6-61B5-4C27-9905-60B9072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B442D-C939-4095-9FB3-05656DF1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4ADA2-68FF-495E-A3B9-42F3D4F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D4581-FCB9-46A9-8C35-36266832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ED6A-46D7-41C2-9CB1-1C43EA3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FBBB6-F948-4130-B831-350DC483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E43A-53AB-48D8-BDA6-AB98AF9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E2EC8-F155-4E19-AB27-5DFF2E98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528D3-E576-464E-8325-7AE8E05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26EF9-914C-42CA-B622-0B3CB1E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8D9A3-D17D-4D95-A4CC-0749BE6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5A164-B7C2-48AD-BA8F-0CAA617F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C68E-836D-4116-969E-E68D546E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EB515-1E2F-4C62-8326-3AD4F00F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71BDB-9DA7-4DE0-B9DB-BE777D83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B8CA1-BB6A-4808-B06F-CC59F52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745FB-5D6E-4437-836F-F801DC5D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718D-95B9-460F-B726-4C4DD92DA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D30BB-2FD7-44F2-96B9-A5E25A55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6E154-B425-4F67-B099-18A7AA63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ACD01-9671-43D9-B573-8F482A0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7789E-6677-4FCD-9E3D-8458DFB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0CEE4-4315-43F2-BC8C-954F207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C91B7-D8AF-446A-8A44-02C8C35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9937B-9F61-4135-B8E7-698810D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8D1C4-005A-4EA0-AB87-E97F10D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243DC-B31F-4B40-8E00-A64D87C9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F00D9-1F35-442D-89D2-38D350A9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9A2-34DB-4C3B-940B-D24AD97214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2180E-431F-406C-B778-7AACCB3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8B968-9C98-44A5-8177-4163B506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0D76F-716C-4ED8-8D78-AF30E2B7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68343-8900-4B43-B1B7-53B72F1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D0E0-94B7-426F-9047-A40EA205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2CFE1-3D7F-4B66-AE3E-B5679F7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24DB-9686-4F4D-ADCF-C0F0C2A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E227C-71FD-4128-A9CE-3E27B60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CB912-19BB-4D4F-82D2-3768D0AA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75AA-FD25-4752-A9C8-414C4A3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641-7E3F-4EAD-8B5E-47ED30174F8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250C8-F15D-4BAE-9F3E-B9AD7F6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18F61-BD4E-4BF3-9563-06E54B50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C0ED-7F9C-4948-9D2F-97DB4040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DBEB6-BB10-4257-8A0A-9CFA8976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8178E-357E-4ACF-ABD1-0BFA975B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3B1-3AA4-4002-B657-5131191467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B3B-3903-4FCC-A507-238166EBDA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8A4-17A3-4BC1-9E82-5F9D559C33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D45-AAB4-4585-89B2-B598CB70EF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A14-C19C-4E06-A2E8-E01D6C0292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259A-D732-4613-910B-D33907FF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A2B-59AB-44F0-B93F-4F54FE3B6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AA-FBC3-4F6D-9DBA-FCE6D4176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005-C2C5-42DD-ACE1-CF6BA9A2D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2A6-F4B2-41AE-B27E-8D469DA9E4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0A2-3706-4311-9A53-33A558A5D5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7B7-9351-4D69-BECF-BCACF795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3224-940E-4BD0-BC38-F706CD7E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C3A2-2D56-4044-9E9A-E1EC89F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8BC-A874-41F1-A3C0-7000B19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84A-0025-4106-9782-C3EDE31A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E8340-A3BA-4AFF-BC92-0681DC25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E40A-DD79-4FB7-8600-1F1E60C2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AFD-CAA7-4387-A411-9BCF1C2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864-4D3F-4F01-8939-F8B9412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51CC-2D6B-44CE-99F3-A36871B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82F-E058-4AAA-8BBD-83769A17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148-1C6A-4F87-9C66-8FEEC2D4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390-6E8B-4DD1-86C4-5F67B505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C372-3312-4720-939C-B1A2CC4D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94FB3-88BD-4D6B-8C73-7076EE8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AEDB-0E5F-4F12-9D63-AD15B0F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034D-9752-4921-AF21-EC6F2DC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7C33A-74A2-4C9D-BB49-94CF5A9E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BD711-4B4E-4445-B148-00D5604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71D8-2B84-4779-8DD4-019EE21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F706-39C7-4092-A075-A2DDE177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438A-F26D-4F35-8C6F-D0F4FC4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1C20-53E4-4D63-BCCE-36059DD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5900-84C6-4CD4-AD2E-1DEB5497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FEFA6-7806-445B-A1EE-DEEFD801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C5BC-46E3-4048-A658-2983051B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4138-0962-4473-98D3-3727A805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8B44-9023-4624-A5C3-C67A982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56289-4CCF-463A-98CF-43D6E8E8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FFAF-7427-4B09-B616-5390858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94E1-194E-4B71-BDFC-F319336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B868-192A-4F38-8616-0B6222B4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C8F5-5132-443C-9456-B44D1FB6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9C05-AD7B-4951-BF05-C3C611C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320E-B003-4942-9EAC-E551041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BA11-BF80-4B20-82DA-00E852B8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DCC1-3BDE-425A-A117-E4D65D2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24BD-A252-4EBF-A9CF-CB7EB4F6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70EF-2E99-4E54-8214-25293878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2DBF-7360-4DCD-9D2F-7D6D2880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8196-34AE-4688-8747-66247C0B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23F7-676C-45A1-BEE6-E63BF206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0231-C7CC-4AAD-97C7-61515D5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3EB3-0D18-4E3C-A4B2-C4810F58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31D9-247E-46A1-9203-B2A554CB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40D4-7478-4DF6-9467-3ECF3DD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4FEC-EED0-4057-AEF8-535EB71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EBE2-1854-4699-B4B6-A414C61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7C4B-EEFB-4191-BC06-BC6FDAE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A5AD-506D-4D2F-8DF7-E14BEBB7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4A53-6C1A-4DBB-9F05-D611028D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6084-68E8-40DB-8364-6473CE65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CC520-145E-4D9F-BC6B-51BED70C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D7C94-5748-4C33-8637-ABB92D02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EADB3-402F-4C6C-9D47-30A8C886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5358-9098-4FAC-8BF9-8DC4C50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E8A5-96A0-4D0F-8F76-499E202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7658-9691-4C4F-B164-1C582C11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5BB6-9B8E-4DA9-8A13-A376917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A5BF0-6BB9-4BDB-81C5-D8D914E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51D1-EB20-4A2A-9797-D10C604F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5025-68E6-46B6-8672-D9076CA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9819C-9634-4315-B4C5-A580BAF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3F53-D99E-4D7D-8BBF-F038ADD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1C5A-918D-4C91-9F34-6B895F7D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B9F6-8AB6-4EBC-85BA-E0BFFAE4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2F1E3-0063-4D3A-8D5B-67477C75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820BD-B789-4B0F-8269-48F08251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A242-0014-4B32-9394-73E9B0A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CDECA-719C-468A-BC12-5010466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4A43-2804-4160-8321-B936CD3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E00B-2115-43AB-8069-DA11AC3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177C7-714F-4BFE-8CC4-DD78A26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B08AC-73FC-4003-94ED-1F0E4A2C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BDF4-17D5-44FE-A9A2-44A96B8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7692B-2819-472B-B35E-35BAB66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3CD2-9D1A-4C11-93DF-AFD9730E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BA1D-1D13-4401-87C8-300EDEBE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FCB5-22DE-4486-BCDC-425A1305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B70A6-2544-43A7-8778-1F18AC2B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17B6-119E-48B4-B052-B37E5185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6DABA-9FEC-4390-B3C8-0DCE4362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DA0-6315-4BC5-B874-D8F2D8AF402C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AF7-16E6-4A7E-864C-35AF8E4E29BC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4D9B-C033-4589-89D1-253F356336A2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568-7A51-434F-AD90-99EDAF6EE14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Grupo 7" descr=""/>
          <p:cNvPicPr/>
          <p:nvPr/>
        </p:nvPicPr>
        <p:blipFill>
          <a:blip r:embed="rId3"/>
          <a:stretch/>
        </p:blipFill>
        <p:spPr>
          <a:xfrm>
            <a:off x="987480" y="1414440"/>
            <a:ext cx="7095960" cy="3809880"/>
          </a:xfrm>
          <a:prstGeom prst="rect">
            <a:avLst/>
          </a:prstGeom>
          <a:ln w="0">
            <a:noFill/>
          </a:ln>
        </p:spPr>
      </p:pic>
      <p:pic>
        <p:nvPicPr>
          <p:cNvPr id="41" name="Imagem 9" descr="Selo_Fesp_RGB.png"/>
          <p:cNvPicPr/>
          <p:nvPr/>
        </p:nvPicPr>
        <p:blipFill>
          <a:blip r:embed="rId4"/>
          <a:stretch/>
        </p:blipFill>
        <p:spPr>
          <a:xfrm>
            <a:off x="6643800" y="4356000"/>
            <a:ext cx="2008080" cy="150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70099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1AB-0790-4AAE-B4AB-4E05611635E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Grupo 6" descr=""/>
          <p:cNvPicPr/>
          <p:nvPr/>
        </p:nvPicPr>
        <p:blipFill>
          <a:blip r:embed="rId3"/>
          <a:stretch/>
        </p:blipFill>
        <p:spPr>
          <a:xfrm>
            <a:off x="274680" y="128520"/>
            <a:ext cx="8594640" cy="6242040"/>
          </a:xfrm>
          <a:prstGeom prst="rect">
            <a:avLst/>
          </a:prstGeom>
          <a:ln w="0">
            <a:noFill/>
          </a:ln>
        </p:spPr>
      </p:pic>
      <p:pic>
        <p:nvPicPr>
          <p:cNvPr id="82" name="Imagem 9" descr="Selo_Fesp_RGB.png"/>
          <p:cNvPicPr/>
          <p:nvPr/>
        </p:nvPicPr>
        <p:blipFill>
          <a:blip r:embed="rId4"/>
          <a:stretch/>
        </p:blipFill>
        <p:spPr>
          <a:xfrm>
            <a:off x="7786800" y="5857920"/>
            <a:ext cx="1285920" cy="928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9EC-CC61-4054-A8CA-C21D906A3FBE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upo 6" descr=""/>
          <p:cNvPicPr/>
          <p:nvPr/>
        </p:nvPicPr>
        <p:blipFill>
          <a:blip r:embed="rId3"/>
          <a:stretch/>
        </p:blipFill>
        <p:spPr>
          <a:xfrm>
            <a:off x="560520" y="914400"/>
            <a:ext cx="8022960" cy="5029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9" descr="Selo_Fesp_RGB.png"/>
          <p:cNvPicPr/>
          <p:nvPr/>
        </p:nvPicPr>
        <p:blipFill>
          <a:blip r:embed="rId4"/>
          <a:stretch/>
        </p:blipFill>
        <p:spPr>
          <a:xfrm>
            <a:off x="6921360" y="4927680"/>
            <a:ext cx="2008440" cy="1501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5EBC-8043-4DE9-80EF-218DB26B1952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15A8-FA53-4BDE-9716-CD26C8B025CE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F5A4-3B33-4B53-9666-0493146D0D73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DDD-FF72-4126-B4FC-AAA327DC7FFD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9F0-8B7D-4252-81DD-A3F37FE173F7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4260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2857680" y="62150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910-225F-40D9-BDBF-69FB87F1793A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14280" y="1856880"/>
            <a:ext cx="67154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f6228"/>
                </a:solidFill>
                <a:latin typeface="Calibri"/>
              </a:rPr>
              <a:t>Hipertensão Arterial Sistêmica</a:t>
            </a:r>
            <a:endParaRPr b="1" lang="en-US" sz="3600" spc="-1" strike="noStrike">
              <a:solidFill>
                <a:srgbClr val="77933c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214280" y="4286160"/>
            <a:ext cx="5214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são Alta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Cuidados a serem tomados para verificar a Pressão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2"/>
          <p:cNvSpPr/>
          <p:nvPr/>
        </p:nvSpPr>
        <p:spPr>
          <a:xfrm>
            <a:off x="324000" y="1316160"/>
            <a:ext cx="8569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ão falar durante o proce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perar 1 a 2 minutos entre as me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nguito especial para crianças e obesos devem ser u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posição sentada ou deitada é a recomendada na rotina das me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C:\Users\PRISCILA\Pictures\mensurar pa 2.jpg"/>
          <p:cNvPicPr/>
          <p:nvPr/>
        </p:nvPicPr>
        <p:blipFill>
          <a:blip r:embed="rId1"/>
          <a:stretch/>
        </p:blipFill>
        <p:spPr>
          <a:xfrm>
            <a:off x="4788000" y="4159080"/>
            <a:ext cx="2009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CaixaDeTexto 1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Classificação da Pressão Arterial no A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CaixaDeTexto 2"/>
          <p:cNvSpPr/>
          <p:nvPr/>
        </p:nvSpPr>
        <p:spPr>
          <a:xfrm>
            <a:off x="6084720" y="2852640"/>
            <a:ext cx="27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III Consenso de Hipertensão Arterial - S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57520" y="907920"/>
          <a:ext cx="5406840" cy="1873440"/>
        </p:xfrm>
        <a:graphic>
          <a:graphicData uri="http://schemas.openxmlformats.org/drawingml/2006/table">
            <a:tbl>
              <a:tblPr/>
              <a:tblGrid>
                <a:gridCol w="1039680"/>
                <a:gridCol w="993600"/>
                <a:gridCol w="1638360"/>
                <a:gridCol w="1735200"/>
              </a:tblGrid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ão Sistó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ão Diastó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valiaçõ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</a:tr>
              <a:tr h="2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valiar em 1 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a 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a 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- Limítrof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valiar em 06 me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a 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a 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ão le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ada 02 me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 a 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a 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ão moder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ada 01 mê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ou = 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ou = 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ão gra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edia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ou = 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ão sistó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ada 02 me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1979640" y="3429000"/>
          <a:ext cx="4824360" cy="2016000"/>
        </p:xfrm>
        <a:graphic>
          <a:graphicData uri="http://schemas.openxmlformats.org/drawingml/2006/table">
            <a:tbl>
              <a:tblPr/>
              <a:tblGrid>
                <a:gridCol w="1663560"/>
                <a:gridCol w="1527120"/>
                <a:gridCol w="163368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ego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ão Sistó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ão Diastó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solidFill>
                      <a:srgbClr val="aadb85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Ó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 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- 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- 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- 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350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perten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gio 1 ( Lev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- 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- 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gio 2 (Moderad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 - 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- 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gio 3 (Grav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 ou igual a 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or ou igual a 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aadb85"/>
                      </a:solidFill>
                    </a:lnL>
                    <a:lnR w="2880">
                      <a:solidFill>
                        <a:srgbClr val="aadb85"/>
                      </a:solidFill>
                    </a:lnR>
                    <a:lnT w="2880">
                      <a:solidFill>
                        <a:srgbClr val="aadb85"/>
                      </a:solidFill>
                    </a:lnT>
                    <a:lnB w="2880">
                      <a:solidFill>
                        <a:srgbClr val="aadb8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CaixaDeTexto 7"/>
          <p:cNvSpPr/>
          <p:nvPr/>
        </p:nvSpPr>
        <p:spPr>
          <a:xfrm>
            <a:off x="6084720" y="5516640"/>
            <a:ext cx="27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National  Institutes of Health - 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Quais são as possíveis causas da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ixaDeTexto 2"/>
          <p:cNvSpPr/>
          <p:nvPr/>
        </p:nvSpPr>
        <p:spPr>
          <a:xfrm>
            <a:off x="324000" y="1316160"/>
            <a:ext cx="856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ereditariedade (casos presentes na famí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besid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lesterol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mo de sal em ex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Bebidas alcoólicas em ex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mo e seus der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den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" descr="C:\Users\PRISCILA\Pictures\coração com valor de PA.jpg"/>
          <p:cNvPicPr/>
          <p:nvPr/>
        </p:nvPicPr>
        <p:blipFill>
          <a:blip r:embed="rId1"/>
          <a:stretch/>
        </p:blipFill>
        <p:spPr>
          <a:xfrm>
            <a:off x="6948360" y="417348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C:\Users\PRISCILA\Pictures\sedentarismo.jpg"/>
          <p:cNvPicPr/>
          <p:nvPr/>
        </p:nvPicPr>
        <p:blipFill>
          <a:blip r:embed="rId2"/>
          <a:stretch/>
        </p:blipFill>
        <p:spPr>
          <a:xfrm>
            <a:off x="4608360" y="19890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CaixaDeTexto 3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O que fazer para evitar a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ixaDeTexto 5"/>
          <p:cNvSpPr/>
          <p:nvPr/>
        </p:nvSpPr>
        <p:spPr>
          <a:xfrm>
            <a:off x="324000" y="162864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vitar consumir gorduras e fri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ira sempre alimentos natu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zer exercícios físicos regula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alizar exames period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Verificar a pressão arterial regula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olar seu 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ão f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ir a ingestão de bebidas alcoólicas, pois o seu excesso eleva a pressã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C:\Users\PRISCILA\Pictures\coração e alimentação.png"/>
          <p:cNvPicPr/>
          <p:nvPr/>
        </p:nvPicPr>
        <p:blipFill>
          <a:blip r:embed="rId1"/>
          <a:stretch/>
        </p:blipFill>
        <p:spPr>
          <a:xfrm>
            <a:off x="5148360" y="2949480"/>
            <a:ext cx="1323720" cy="1333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C:\Users\PRISCILA\Pictures\coração e atividade  física 2.png"/>
          <p:cNvPicPr/>
          <p:nvPr/>
        </p:nvPicPr>
        <p:blipFill>
          <a:blip r:embed="rId2"/>
          <a:stretch/>
        </p:blipFill>
        <p:spPr>
          <a:xfrm>
            <a:off x="6562800" y="3213000"/>
            <a:ext cx="1647720" cy="1428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C:\Users\PRISCILA\Pictures\mensuração PA 3.png"/>
          <p:cNvPicPr/>
          <p:nvPr/>
        </p:nvPicPr>
        <p:blipFill>
          <a:blip r:embed="rId3"/>
          <a:stretch/>
        </p:blipFill>
        <p:spPr>
          <a:xfrm>
            <a:off x="6012000" y="13255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CaixaDeTexto 1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aixaDeTexto 2"/>
          <p:cNvSpPr/>
          <p:nvPr/>
        </p:nvSpPr>
        <p:spPr>
          <a:xfrm>
            <a:off x="324000" y="114948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abe-se que a pressão alta é causada por uma conjunção de fatores hereditários e de estilo de vida. Contudo, mesmo quem tem histórico familiar pode prevenir que a doença se manifeste adotando hábitos saudáve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Há duas formas de tratamento: sem e com medic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CaixaDeTexto 3"/>
          <p:cNvSpPr/>
          <p:nvPr/>
        </p:nvSpPr>
        <p:spPr>
          <a:xfrm>
            <a:off x="324000" y="3119400"/>
            <a:ext cx="84960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mento sem medic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tratamento sem medicamentos tem como objetivo auxiliar na diminuição da pressão, e se possível evitar as complicações e os riscos por meio de modificações nas atitudes e formas de v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sas atitudes são chamadas de estilo de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C:\Users\PRISCILA\Pictures\tratamento.jpg"/>
          <p:cNvPicPr/>
          <p:nvPr/>
        </p:nvPicPr>
        <p:blipFill>
          <a:blip r:embed="rId1"/>
          <a:stretch/>
        </p:blipFill>
        <p:spPr>
          <a:xfrm>
            <a:off x="6659640" y="1995480"/>
            <a:ext cx="21430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CaixaDeTexto 1"/>
          <p:cNvSpPr/>
          <p:nvPr/>
        </p:nvSpPr>
        <p:spPr>
          <a:xfrm>
            <a:off x="395280" y="158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ixaDeTexto 2"/>
          <p:cNvSpPr/>
          <p:nvPr/>
        </p:nvSpPr>
        <p:spPr>
          <a:xfrm>
            <a:off x="250920" y="62856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mento sem medicamentos – Esti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ixaDeTexto 3"/>
          <p:cNvSpPr/>
          <p:nvPr/>
        </p:nvSpPr>
        <p:spPr>
          <a:xfrm>
            <a:off x="250920" y="1125360"/>
            <a:ext cx="8569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s principais recomendações, consideradas como o tratamento não medicamentoso,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nter o peso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aticar atividade física regularmente – afastar o seden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gerir pouca bebida alcoó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umir menos sal - Um problema sério no Brasil, pois o nosso consumo médio diário varia de 10 a 14 gramas, quando o ideal é não passar das 5 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C:\Users\PRISCILA\Pictures\sal.jpg"/>
          <p:cNvPicPr/>
          <p:nvPr/>
        </p:nvPicPr>
        <p:blipFill>
          <a:blip r:embed="rId1"/>
          <a:stretch/>
        </p:blipFill>
        <p:spPr>
          <a:xfrm>
            <a:off x="3635280" y="4292640"/>
            <a:ext cx="20289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aixaDeTexto 1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CaixaDeTexto 2"/>
          <p:cNvSpPr/>
          <p:nvPr/>
        </p:nvSpPr>
        <p:spPr>
          <a:xfrm>
            <a:off x="250920" y="83664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mento sem medicamentos – Esti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ixaDeTexto 3"/>
          <p:cNvSpPr/>
          <p:nvPr/>
        </p:nvSpPr>
        <p:spPr>
          <a:xfrm>
            <a:off x="250920" y="1522440"/>
            <a:ext cx="85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bandonar o tabag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zir o consumo de ál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trolar as alterações das gorduras sanguíneas (dislipidemias), evitando os alimentos que aumentam os triglicerídeos como os açúcares, mel, melado, rapadura, álcool e os ricos em colesterol ou gorduras saturadas: banha, torresmo, leite integral, manteiga, creme de leite, linguiça, salame, presunto, frituras, frutos do mar, miúdos, pele de frango, dobradinha, mocotó, gema de ovo, carne gorda, azeite de dendê, castanha, amendoins, chocolate e sorv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C:\Users\PRISCILA\Pictures\vida saudável.jpg"/>
          <p:cNvPicPr/>
          <p:nvPr/>
        </p:nvPicPr>
        <p:blipFill>
          <a:blip r:embed="rId1"/>
          <a:stretch/>
        </p:blipFill>
        <p:spPr>
          <a:xfrm>
            <a:off x="3780000" y="431964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CaixaDeTexto 1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ixaDeTexto 2"/>
          <p:cNvSpPr/>
          <p:nvPr/>
        </p:nvSpPr>
        <p:spPr>
          <a:xfrm>
            <a:off x="250920" y="836640"/>
            <a:ext cx="84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ratamento sem medicamentos – Esti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ixaDeTexto 3"/>
          <p:cNvSpPr/>
          <p:nvPr/>
        </p:nvSpPr>
        <p:spPr>
          <a:xfrm>
            <a:off x="250920" y="152244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icas para afastar o sedent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ixaDeTexto 4"/>
          <p:cNvSpPr/>
          <p:nvPr/>
        </p:nvSpPr>
        <p:spPr>
          <a:xfrm>
            <a:off x="250920" y="220500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ubir esc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cer do ônibus um ponto antes e ir caminh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nç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Jogar fute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azer caminh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a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dala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C:\Users\PRISCILA\Pictures\coração e atividade física.jpg"/>
          <p:cNvPicPr/>
          <p:nvPr/>
        </p:nvPicPr>
        <p:blipFill>
          <a:blip r:embed="rId1"/>
          <a:stretch/>
        </p:blipFill>
        <p:spPr>
          <a:xfrm>
            <a:off x="6462720" y="386064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Users\PRISCILA\Pictures\dançar.png"/>
          <p:cNvPicPr/>
          <p:nvPr/>
        </p:nvPicPr>
        <p:blipFill>
          <a:blip r:embed="rId2"/>
          <a:stretch/>
        </p:blipFill>
        <p:spPr>
          <a:xfrm>
            <a:off x="3419640" y="3573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C:\Users\PRISCILA\Pictures\subir escada.png"/>
          <p:cNvPicPr/>
          <p:nvPr/>
        </p:nvPicPr>
        <p:blipFill>
          <a:blip r:embed="rId3"/>
          <a:stretch/>
        </p:blipFill>
        <p:spPr>
          <a:xfrm>
            <a:off x="6819840" y="1706400"/>
            <a:ext cx="1571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CaixaDeTexto 4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ixaDeTexto 5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tratamento medicamentoso visa reduzir as doenças cardiovasculares e a mortalidade dos pacientes hiperten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ixaDeTexto 6"/>
          <p:cNvSpPr/>
          <p:nvPr/>
        </p:nvSpPr>
        <p:spPr>
          <a:xfrm>
            <a:off x="324000" y="1989000"/>
            <a:ext cx="849600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tratamento medicamentoso deve observar os seguintes princípi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medicamento deve ser eficaz por via oral e 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ol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ve permitir o menor número de tomadas por 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tratamento deve ser iniciado com as doses men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ssíveis, e se necessário, aumentado gradativamente ou associado a ou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C:\Users\PRISCILA\Pictures\medicamentos 3.png"/>
          <p:cNvPicPr/>
          <p:nvPr/>
        </p:nvPicPr>
        <p:blipFill>
          <a:blip r:embed="rId1"/>
          <a:stretch/>
        </p:blipFill>
        <p:spPr>
          <a:xfrm>
            <a:off x="6588000" y="2852640"/>
            <a:ext cx="21067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CaixaDeTexto 3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Tra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aixaDeTexto 4"/>
          <p:cNvSpPr/>
          <p:nvPr/>
        </p:nvSpPr>
        <p:spPr>
          <a:xfrm>
            <a:off x="395280" y="907920"/>
            <a:ext cx="8424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medicamento deve ter custo compatível com as condições socioeconômicas do paciente para permitir a continuidade do tra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controles médicos devem ser periódicas para o acerto das dosagens medicamentosas e acompanhamento da evolução da doença cardio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tângulo de cantos arredondados 5"/>
          <p:cNvSpPr/>
          <p:nvPr/>
        </p:nvSpPr>
        <p:spPr>
          <a:xfrm>
            <a:off x="539640" y="5084640"/>
            <a:ext cx="7056720" cy="115272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aixaDeTexto 6"/>
          <p:cNvSpPr/>
          <p:nvPr/>
        </p:nvSpPr>
        <p:spPr>
          <a:xfrm>
            <a:off x="611280" y="5084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O principal desafio ainda é a adesão ao tratamento. Como a doença evolui lentamente, muitas vezes sem apresentar sintomas, pacientes e até mesmo médicos acabam não dando a devida importância a esta doe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C:\Users\PRISCILA\Pictures\cifrão.png"/>
          <p:cNvPicPr/>
          <p:nvPr/>
        </p:nvPicPr>
        <p:blipFill>
          <a:blip r:embed="rId1"/>
          <a:stretch/>
        </p:blipFill>
        <p:spPr>
          <a:xfrm>
            <a:off x="6012000" y="3124080"/>
            <a:ext cx="2286000" cy="1733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C:\Users\PRISCILA\Pictures\adesão tratamento.jpg"/>
          <p:cNvPicPr/>
          <p:nvPr/>
        </p:nvPicPr>
        <p:blipFill>
          <a:blip r:embed="rId2"/>
          <a:stretch/>
        </p:blipFill>
        <p:spPr>
          <a:xfrm>
            <a:off x="755640" y="2852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CaixaDeTexto 1"/>
          <p:cNvSpPr/>
          <p:nvPr/>
        </p:nvSpPr>
        <p:spPr>
          <a:xfrm>
            <a:off x="539640" y="15876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Estatística sobre a Hipertensão Arterial Sistêmica (Pressão Al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ixaDeTexto 2"/>
          <p:cNvSpPr/>
          <p:nvPr/>
        </p:nvSpPr>
        <p:spPr>
          <a:xfrm>
            <a:off x="250920" y="1574640"/>
            <a:ext cx="85690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ndo dados da Sociedade Brasileira de Cardiologia, a incidência de hipertensão no Brasil 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erca de 30% dos adultos têm pressão 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a população acima dos 50 anos, a prevalência é ainda maior, chega a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ntre as crianças e adolescentes, 5% convivem com os riscos associados a essa doe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C:\Users\PRISCILA\Pictures\estatística.jpg"/>
          <p:cNvPicPr/>
          <p:nvPr/>
        </p:nvPicPr>
        <p:blipFill>
          <a:blip r:embed="rId1"/>
          <a:stretch/>
        </p:blipFill>
        <p:spPr>
          <a:xfrm>
            <a:off x="4427640" y="4295880"/>
            <a:ext cx="26287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CaixaDeTexto 3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Motivos para tratar adequadamente a Hipertensão Arterial Sistê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CaixaDeTexto 4"/>
          <p:cNvSpPr/>
          <p:nvPr/>
        </p:nvSpPr>
        <p:spPr>
          <a:xfrm>
            <a:off x="250920" y="1413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hipertensão arterial sistêmica é uma doença crônica que, quando não tratada e controlada adequadamente, pode levar a complicações que podem atingir outros órgãos e siste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CaixaDeTexto 5"/>
          <p:cNvSpPr/>
          <p:nvPr/>
        </p:nvSpPr>
        <p:spPr>
          <a:xfrm>
            <a:off x="2611440" y="2781360"/>
            <a:ext cx="62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 sistema nervoso central podem ocorrer infartos, hemorragia e encefalopatia hipertens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aixaDeTexto 6"/>
          <p:cNvSpPr/>
          <p:nvPr/>
        </p:nvSpPr>
        <p:spPr>
          <a:xfrm>
            <a:off x="2611440" y="3781440"/>
            <a:ext cx="620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 coração, pode ocorrer cardiopatia isquêmica (angina), insuficiência cardíaca, aumento do coração e, em alguns casos, morte súb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CaixaDeTexto 7"/>
          <p:cNvSpPr/>
          <p:nvPr/>
        </p:nvSpPr>
        <p:spPr>
          <a:xfrm>
            <a:off x="468360" y="49528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s pacientes com insuficiência renal crônica associada ocorre nefroescler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C:\Users\PRISCILA\Pictures\coração z.jpg"/>
          <p:cNvPicPr/>
          <p:nvPr/>
        </p:nvPicPr>
        <p:blipFill>
          <a:blip r:embed="rId1"/>
          <a:stretch/>
        </p:blipFill>
        <p:spPr>
          <a:xfrm>
            <a:off x="468360" y="2805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CaixaDeTexto 3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Motivos para tratar adequadamente a Hipertensão Arterial Sistê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ixaDeTexto 5"/>
          <p:cNvSpPr/>
          <p:nvPr/>
        </p:nvSpPr>
        <p:spPr>
          <a:xfrm>
            <a:off x="324000" y="1628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 sistema vascular, pode ocorrer entupimentos e obstruções das artérias carótidas, aneurisma de aorta e doença vascular periférica dos membros inf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CaixaDeTexto 6"/>
          <p:cNvSpPr/>
          <p:nvPr/>
        </p:nvSpPr>
        <p:spPr>
          <a:xfrm>
            <a:off x="3059280" y="300996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o sistema visual, há retinopatia que reduz muito a visão dos pa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C:\Users\PRISCILA\Pictures\visão.png"/>
          <p:cNvPicPr/>
          <p:nvPr/>
        </p:nvPicPr>
        <p:blipFill>
          <a:blip r:embed="rId1"/>
          <a:stretch/>
        </p:blipFill>
        <p:spPr>
          <a:xfrm>
            <a:off x="395280" y="2644920"/>
            <a:ext cx="2376360" cy="15951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Users\PRISCILA\Pictures\coraão e cadeira de rodas.jpg"/>
          <p:cNvPicPr/>
          <p:nvPr/>
        </p:nvPicPr>
        <p:blipFill>
          <a:blip r:embed="rId2"/>
          <a:stretch/>
        </p:blipFill>
        <p:spPr>
          <a:xfrm>
            <a:off x="5076720" y="3860640"/>
            <a:ext cx="222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CaixaDeTexto 3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Os Dez Mandamentos do Coração Saud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aixaDeTexto 5"/>
          <p:cNvSpPr/>
          <p:nvPr/>
        </p:nvSpPr>
        <p:spPr>
          <a:xfrm>
            <a:off x="324000" y="162864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1. Diga não à obesidade e controle o seu pes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2. Consulte o seu médico periodicament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. Meça a sua pressão com frequência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4. Diga não ao fum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5. Verifique a quantidade de sal nos rótulos dos ali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. Diga não ao sedentarismo. Pratique esportes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7. Escolha bem os alimentos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8. Saiba se é diabético e se tem colesterol alto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9. Evite o estresse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10. Ame a vida e o seu c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" descr="C:\Users\PRISCILA\Pictures\coração saudável.png"/>
          <p:cNvPicPr/>
          <p:nvPr/>
        </p:nvPicPr>
        <p:blipFill>
          <a:blip r:embed="rId1"/>
          <a:stretch/>
        </p:blipFill>
        <p:spPr>
          <a:xfrm>
            <a:off x="5867280" y="3898800"/>
            <a:ext cx="1663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CaixaDeTexto 3"/>
          <p:cNvSpPr/>
          <p:nvPr/>
        </p:nvSpPr>
        <p:spPr>
          <a:xfrm>
            <a:off x="395280" y="395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Semáforo de Saú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aixaDeTexto 5"/>
          <p:cNvSpPr/>
          <p:nvPr/>
        </p:nvSpPr>
        <p:spPr>
          <a:xfrm>
            <a:off x="324000" y="1628640"/>
            <a:ext cx="85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ualmente nós realizamos o semáforo da saúde com 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cionários do CREA-SP, onde é medida a pressão arterial dos particip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e ano o semáforo foi realizado em abril e foram levantados os seguintes dados com relação aos nossos funcionário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94 hipertensos controlados (de 720 funcionários no total), s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32 mulheres (34,0%)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2 homens (66,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ângulo de cantos arredondados 1"/>
          <p:cNvSpPr/>
          <p:nvPr/>
        </p:nvSpPr>
        <p:spPr>
          <a:xfrm>
            <a:off x="539640" y="5300640"/>
            <a:ext cx="6912000" cy="936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CaixaDeTexto 4"/>
          <p:cNvSpPr/>
          <p:nvPr/>
        </p:nvSpPr>
        <p:spPr>
          <a:xfrm>
            <a:off x="826920" y="544680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67,3% dos funcionários lotados na capital participam do Semáforo da Saúde an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875640" y="1587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4280" y="2007720"/>
            <a:ext cx="67154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f6228"/>
                </a:solidFill>
                <a:latin typeface="Arial Black"/>
              </a:rPr>
              <a:t>Núcleo de Atenção à Saúde – NAS</a:t>
            </a:r>
            <a:br>
              <a:rPr sz="2000"/>
            </a:br>
            <a:r>
              <a:rPr b="1" lang="pt-BR" sz="2000" spc="-1" strike="noStrike">
                <a:solidFill>
                  <a:srgbClr val="4f6228"/>
                </a:solidFill>
                <a:latin typeface="Arial Black"/>
              </a:rPr>
              <a:t>Saúde nas Empresas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4f6228"/>
                </a:solidFill>
                <a:latin typeface="Arial Black"/>
              </a:rPr>
              <a:t> </a:t>
            </a:r>
            <a:r>
              <a:rPr b="1" lang="pt-BR" sz="2000" spc="-1" strike="noStrike">
                <a:solidFill>
                  <a:srgbClr val="0033cc"/>
                </a:solidFill>
                <a:latin typeface="Arial Black"/>
              </a:rPr>
              <a:t>saude.empresas@unimeds.com.br</a:t>
            </a:r>
            <a:br>
              <a:rPr sz="2000"/>
            </a:br>
            <a:endParaRPr b="1" lang="en-US" sz="20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600" name="Imagem 4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10080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CaixaDeTexto 1"/>
          <p:cNvSpPr/>
          <p:nvPr/>
        </p:nvSpPr>
        <p:spPr>
          <a:xfrm>
            <a:off x="539640" y="15876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Risco da Hipertensão Arterial Sistêmica (Pressão Al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2"/>
          <p:cNvSpPr/>
          <p:nvPr/>
        </p:nvSpPr>
        <p:spPr>
          <a:xfrm>
            <a:off x="250920" y="1636560"/>
            <a:ext cx="85690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sta doença crônica merece atenção, pois os riscos associados a mesma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farto do miocár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uficiência cardí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idente vascular cerebral (AV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sões ren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utros danos irreversíveis ao org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tângulo de cantos arredondados 3"/>
          <p:cNvSpPr/>
          <p:nvPr/>
        </p:nvSpPr>
        <p:spPr>
          <a:xfrm>
            <a:off x="539640" y="5445000"/>
            <a:ext cx="7201080" cy="79236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684360" y="552924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É a principal causa de infarto e AVC, responsáveis por 30% das mortes registradas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PRISCILA\Pictures\coração.png"/>
          <p:cNvPicPr/>
          <p:nvPr/>
        </p:nvPicPr>
        <p:blipFill>
          <a:blip r:embed="rId1"/>
          <a:stretch/>
        </p:blipFill>
        <p:spPr>
          <a:xfrm>
            <a:off x="4859280" y="2133720"/>
            <a:ext cx="1300320" cy="1726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C:\Users\PRISCILA\Pictures\rins.jpg"/>
          <p:cNvPicPr/>
          <p:nvPr/>
        </p:nvPicPr>
        <p:blipFill>
          <a:blip r:embed="rId2"/>
          <a:stretch/>
        </p:blipFill>
        <p:spPr>
          <a:xfrm>
            <a:off x="6586560" y="3429000"/>
            <a:ext cx="18478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O que caracteriza a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2"/>
          <p:cNvSpPr/>
          <p:nvPr/>
        </p:nvSpPr>
        <p:spPr>
          <a:xfrm>
            <a:off x="324000" y="1790640"/>
            <a:ext cx="849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coração é uma bomba eficiente que bate de 60 a 80 vezes por minuto durante toda a nossa vida e impulsiona de 5 a 6 litros de sangue por minuto para todo o cor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ortanto, pressão arterial é a elevação da pressão do sangue nas paredes das artérias, nos dois movimentos da circulação: a sístole (quando o músculo do coração se contrai para bombear o sangue para ser oxigenado pelos pulmões) e a diástole (quando o músculo cardíaco relaxa e o sangue oxigenado irriga todas as células do organism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C:\Users\PRISCILA\Pictures\vaso sanguineo.png"/>
          <p:cNvPicPr/>
          <p:nvPr/>
        </p:nvPicPr>
        <p:blipFill>
          <a:blip r:embed="rId1"/>
          <a:stretch/>
        </p:blipFill>
        <p:spPr>
          <a:xfrm>
            <a:off x="4788000" y="4508640"/>
            <a:ext cx="1944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O que caracteriza a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tângulo de cantos arredondados 3"/>
          <p:cNvSpPr/>
          <p:nvPr/>
        </p:nvSpPr>
        <p:spPr>
          <a:xfrm>
            <a:off x="539640" y="5229360"/>
            <a:ext cx="7201080" cy="1008000"/>
          </a:xfrm>
          <a:prstGeom prst="roundRect">
            <a:avLst>
              <a:gd name="adj" fmla="val 16667"/>
            </a:avLst>
          </a:prstGeom>
          <a:solidFill>
            <a:srgbClr val="21596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4"/>
          <p:cNvSpPr/>
          <p:nvPr/>
        </p:nvSpPr>
        <p:spPr>
          <a:xfrm>
            <a:off x="684360" y="52419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É considerada normal a pressão sistólica na faixa de 120 milímetros de mercúrio e a diastólica, em 80. Simplificadamente, fala-se em 12x8 como parâmetro para a pressão máxima e mín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aixaDeTexto 5"/>
          <p:cNvSpPr/>
          <p:nvPr/>
        </p:nvSpPr>
        <p:spPr>
          <a:xfrm>
            <a:off x="324000" y="206064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ssão arterial é a força com a qual o coração bombeia o sangue através dos vasos. É determinada pelo volume de sangue que sai do coração e a resistência que ele encontra para circular no cor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6"/>
          <p:cNvSpPr/>
          <p:nvPr/>
        </p:nvSpPr>
        <p:spPr>
          <a:xfrm>
            <a:off x="324000" y="1341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resum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C:\Users\PRISCILA\Pictures\coração com máquina.jpg"/>
          <p:cNvPicPr/>
          <p:nvPr/>
        </p:nvPicPr>
        <p:blipFill>
          <a:blip r:embed="rId1"/>
          <a:stretch/>
        </p:blipFill>
        <p:spPr>
          <a:xfrm>
            <a:off x="5952960" y="2852640"/>
            <a:ext cx="221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Sinais e Sintomas de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aixaDeTexto 2"/>
          <p:cNvSpPr/>
          <p:nvPr/>
        </p:nvSpPr>
        <p:spPr>
          <a:xfrm>
            <a:off x="324000" y="1352520"/>
            <a:ext cx="84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sintomas mais comumente referi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efaleia (dor de cabeça, na região da nuca acompanhada de enjo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erda da mem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Verti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Zumbido no ou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pistaxe (sangramento na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ervos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terações da respiração (falta de 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lp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or no p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" descr="C:\Users\PRISCILA\Pictures\dor na nuca.png"/>
          <p:cNvPicPr/>
          <p:nvPr/>
        </p:nvPicPr>
        <p:blipFill>
          <a:blip r:embed="rId1"/>
          <a:stretch/>
        </p:blipFill>
        <p:spPr>
          <a:xfrm>
            <a:off x="4127400" y="2492280"/>
            <a:ext cx="2019240" cy="1171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:\Users\PRISCILA\Pictures\zumbido no ouvido.png"/>
          <p:cNvPicPr/>
          <p:nvPr/>
        </p:nvPicPr>
        <p:blipFill>
          <a:blip r:embed="rId2"/>
          <a:stretch/>
        </p:blipFill>
        <p:spPr>
          <a:xfrm>
            <a:off x="3679920" y="43657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C:\Users\PRISCILA\Pictures\tontura.png"/>
          <p:cNvPicPr/>
          <p:nvPr/>
        </p:nvPicPr>
        <p:blipFill>
          <a:blip r:embed="rId3"/>
          <a:stretch/>
        </p:blipFill>
        <p:spPr>
          <a:xfrm>
            <a:off x="6238800" y="2778120"/>
            <a:ext cx="2581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Como realizar o diagnóstico de Hipertensão Arterial Sistêmica (Pressão Alt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"/>
          <p:cNvSpPr/>
          <p:nvPr/>
        </p:nvSpPr>
        <p:spPr>
          <a:xfrm>
            <a:off x="324000" y="135252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Nem sempre a medição feita em consultório mostra o quadro real do paciente, que pode estar alterado pelo simples fato de estar frente a frente com o méd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3"/>
          <p:cNvSpPr/>
          <p:nvPr/>
        </p:nvSpPr>
        <p:spPr>
          <a:xfrm>
            <a:off x="324000" y="22050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ndo assim, o MAPA (Monitorização Ambulatorial da Pressão Arterial) é o exame mais eficiente para is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4"/>
          <p:cNvSpPr/>
          <p:nvPr/>
        </p:nvSpPr>
        <p:spPr>
          <a:xfrm>
            <a:off x="250920" y="31417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é realizado o MA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aixaDeTexto 5"/>
          <p:cNvSpPr/>
          <p:nvPr/>
        </p:nvSpPr>
        <p:spPr>
          <a:xfrm>
            <a:off x="324000" y="378936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m aparelho é acoplado ao corpo do paciente e faz med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o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cada 2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a e no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urante 24 horas, fornecendo detalhes sobre as alterações na press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C:\Users\PRISCILA\Pictures\mapa.png"/>
          <p:cNvPicPr/>
          <p:nvPr/>
        </p:nvPicPr>
        <p:blipFill>
          <a:blip r:embed="rId1"/>
          <a:stretch/>
        </p:blipFill>
        <p:spPr>
          <a:xfrm>
            <a:off x="6916680" y="3860640"/>
            <a:ext cx="183204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CaixaDeTexto 1"/>
          <p:cNvSpPr/>
          <p:nvPr/>
        </p:nvSpPr>
        <p:spPr>
          <a:xfrm>
            <a:off x="395280" y="1587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Pré-hipert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aixaDeTexto 2"/>
          <p:cNvSpPr/>
          <p:nvPr/>
        </p:nvSpPr>
        <p:spPr>
          <a:xfrm>
            <a:off x="324000" y="98100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Um importante enfoque adotado pelos médicos atualmente é a identificação dos quadros denominados pré-hipertensão, cujo objetivo é identificar cada vez mais pessoas que estão no limite do saudável e têm risco de ter pressã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CaixaDeTexto 3"/>
          <p:cNvSpPr/>
          <p:nvPr/>
        </p:nvSpPr>
        <p:spPr>
          <a:xfrm>
            <a:off x="324000" y="22176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tivos para se preocupar com a hipertensão e identificar as pessoas pré-hipertens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4"/>
          <p:cNvSpPr/>
          <p:nvPr/>
        </p:nvSpPr>
        <p:spPr>
          <a:xfrm>
            <a:off x="324000" y="3213000"/>
            <a:ext cx="84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pressão alta desgasta precocemente o sistema vascular, responsável por nutrir todos os órgãos, representando  risc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envolvimento de várias doenças (como por exemplo: retinopa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far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C:\Users\PRISCILA\Pictures\pré-hipertensão.jpg"/>
          <p:cNvPicPr/>
          <p:nvPr/>
        </p:nvPicPr>
        <p:blipFill>
          <a:blip r:embed="rId1"/>
          <a:stretch/>
        </p:blipFill>
        <p:spPr>
          <a:xfrm>
            <a:off x="4356000" y="450864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CaixaDeTexto 1"/>
          <p:cNvSpPr/>
          <p:nvPr/>
        </p:nvSpPr>
        <p:spPr>
          <a:xfrm>
            <a:off x="395280" y="1587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Cuidados a serem tomados para verificar a Pressão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CaixaDeTexto 2"/>
          <p:cNvSpPr/>
          <p:nvPr/>
        </p:nvSpPr>
        <p:spPr>
          <a:xfrm>
            <a:off x="324000" y="164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pouso de 15 minutos em ambiente calmo e agrad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 bexiga deve estar vazia (urinar 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guardar 30 minutos após: exercícios, álcool, café ou f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 manguito do aparelho de pressão deve estar firme e bem ajustado ao braço e ter a largura de 40% da circunferência do braço, sendo que este deve ser mantido na altura do c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C:\Users\PRISCILA\Pictures\mensuração de PA.jpg"/>
          <p:cNvPicPr/>
          <p:nvPr/>
        </p:nvPicPr>
        <p:blipFill>
          <a:blip r:embed="rId1"/>
          <a:stretch/>
        </p:blipFill>
        <p:spPr>
          <a:xfrm>
            <a:off x="4556160" y="4299120"/>
            <a:ext cx="2619360" cy="17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1:53:20Z</dcterms:created>
  <dc:creator>paula.assumpcao</dc:creator>
  <dc:description/>
  <dc:language>en-US</dc:language>
  <cp:lastModifiedBy>Rosemeire</cp:lastModifiedBy>
  <dcterms:modified xsi:type="dcterms:W3CDTF">2012-10-23T08:36:08Z</dcterms:modified>
  <cp:revision>286</cp:revision>
  <dc:subject/>
  <dc:title>Slide 1</dc:title>
</cp:coreProperties>
</file>