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5A3-1586-4EE2-AD47-30D89B4B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77D-E543-426E-A5E0-0E75E324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4F2-D40F-4C12-82AF-2FE88656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4C7-1A60-47C9-B1D8-5BF57C56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676-03BA-4E5B-8AEF-80962E40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1F4-4D1C-418B-B13C-61AA3B22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DD7-93D5-43D5-8264-536DE1B2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E75-8FE8-4351-9C70-6AAE2F88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58D-C9C0-4CA7-B2A9-275DF4F7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D1E-FE08-483B-8A3B-22C1BAB1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5EC-C1F8-4EA0-B05E-B99CC09C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AA4-C5A9-4605-9620-976EA137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F429-B081-42F1-A104-7F231BD0E6E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7162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tângulo 2"/>
          <p:cNvSpPr/>
          <p:nvPr/>
        </p:nvSpPr>
        <p:spPr>
          <a:xfrm>
            <a:off x="1320840" y="11592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  <a:ea typeface="Arial"/>
              </a:rPr>
              <a:t>PERSPECTIVAS DAS ENGENHARIAS NO BRAS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b3d7"/>
                </a:solidFill>
                <a:latin typeface="Calibri"/>
                <a:ea typeface="Arial"/>
              </a:rPr>
              <a:t>FORMAÇÃO E MERCADO DE TRABAL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m 2" descr=""/>
          <p:cNvPicPr/>
          <p:nvPr/>
        </p:nvPicPr>
        <p:blipFill>
          <a:blip r:embed="rId2"/>
          <a:stretch/>
        </p:blipFill>
        <p:spPr>
          <a:xfrm>
            <a:off x="1784520" y="3049560"/>
            <a:ext cx="5192640" cy="1171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4" name="Retângulo 2"/>
          <p:cNvSpPr/>
          <p:nvPr/>
        </p:nvSpPr>
        <p:spPr>
          <a:xfrm>
            <a:off x="5435640" y="5653080"/>
            <a:ext cx="349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95b3d7"/>
                </a:solidFill>
                <a:latin typeface="Calibri"/>
                <a:ea typeface="Arial"/>
              </a:rPr>
              <a:t>Fontes</a:t>
            </a:r>
            <a:r>
              <a:rPr b="0" lang="pt-BR" sz="1000" spc="-1" strike="noStrike">
                <a:solidFill>
                  <a:srgbClr val="95b3d7"/>
                </a:solidFill>
                <a:latin typeface="Calibri"/>
                <a:ea typeface="Arial"/>
              </a:rPr>
              <a:t>:</a:t>
            </a:r>
            <a:br>
              <a:rPr sz="1000"/>
            </a:br>
            <a:r>
              <a:rPr b="0" lang="pt-BR" sz="1000" spc="-1" strike="noStrike">
                <a:solidFill>
                  <a:srgbClr val="95b3d7"/>
                </a:solidFill>
                <a:latin typeface="Calibri"/>
                <a:ea typeface="Arial"/>
              </a:rPr>
              <a:t>1) RELATÓRIO ENGENHARIADATA 2015</a:t>
            </a:r>
            <a:br>
              <a:rPr sz="1000"/>
            </a:br>
            <a:r>
              <a:rPr b="1" lang="pt-BR" sz="1000" spc="-1" strike="noStrike">
                <a:solidFill>
                  <a:srgbClr val="95b3d7"/>
                </a:solidFill>
                <a:latin typeface="Calibri"/>
                <a:ea typeface="Arial"/>
              </a:rPr>
              <a:t>“Formação e Mercado de Trabalho em Engenharia no Brasil”</a:t>
            </a:r>
            <a:br>
              <a:rPr sz="1000"/>
            </a:br>
            <a:r>
              <a:rPr b="0" lang="pt-BR" sz="1000" spc="-1" strike="noStrike">
                <a:solidFill>
                  <a:srgbClr val="95b3d7"/>
                </a:solidFill>
                <a:latin typeface="Calibri"/>
                <a:ea typeface="Arial"/>
              </a:rPr>
              <a:t>Observatório da Inovação e Competitividade da Universidade de São Paulo</a:t>
            </a:r>
            <a:br>
              <a:rPr sz="1000"/>
            </a:br>
            <a:r>
              <a:rPr b="0" lang="pt-BR" sz="1000" spc="-1" strike="noStrike">
                <a:solidFill>
                  <a:srgbClr val="95b3d7"/>
                </a:solidFill>
                <a:latin typeface="Calibri"/>
                <a:ea typeface="Arial"/>
              </a:rPr>
              <a:t>2) REVISTA CREA-SP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tângulo 2"/>
          <p:cNvSpPr/>
          <p:nvPr/>
        </p:nvSpPr>
        <p:spPr>
          <a:xfrm>
            <a:off x="3851280" y="1414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Calibri"/>
                <a:ea typeface="Arial"/>
              </a:rPr>
              <a:t>Eng. Vinicius Marchese Marinelli</a:t>
            </a:r>
            <a:br>
              <a:rPr sz="1200"/>
            </a:br>
            <a:r>
              <a:rPr b="0" i="1" lang="pt-BR" sz="1200" spc="-1" strike="noStrike">
                <a:solidFill>
                  <a:srgbClr val="ffffff"/>
                </a:solidFill>
                <a:latin typeface="Calibri"/>
                <a:ea typeface="Arial"/>
              </a:rPr>
              <a:t>Presidente do Crea-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ector reto 6"/>
          <p:cNvSpPr/>
          <p:nvPr/>
        </p:nvSpPr>
        <p:spPr>
          <a:xfrm>
            <a:off x="3851280" y="1271520"/>
            <a:ext cx="0" cy="10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upo 13"/>
          <p:cNvGrpSpPr/>
          <p:nvPr/>
        </p:nvGrpSpPr>
        <p:grpSpPr>
          <a:xfrm>
            <a:off x="3276720" y="695160"/>
            <a:ext cx="5371920" cy="6162840"/>
            <a:chOff x="3276720" y="695160"/>
            <a:chExt cx="5371920" cy="6162840"/>
          </a:xfrm>
        </p:grpSpPr>
        <p:sp>
          <p:nvSpPr>
            <p:cNvPr id="98" name="Retângulo 10"/>
            <p:cNvSpPr/>
            <p:nvPr/>
          </p:nvSpPr>
          <p:spPr>
            <a:xfrm>
              <a:off x="3276720" y="695160"/>
              <a:ext cx="5371920" cy="61628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407fdc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tângulo 10"/>
            <p:cNvSpPr/>
            <p:nvPr/>
          </p:nvSpPr>
          <p:spPr>
            <a:xfrm>
              <a:off x="3638520" y="1110960"/>
              <a:ext cx="4648320" cy="53312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f2f2f2"/>
            </a:solidFill>
            <a:ln w="25560">
              <a:solidFill>
                <a:srgbClr val="407f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tângulo 11"/>
            <p:cNvSpPr/>
            <p:nvPr/>
          </p:nvSpPr>
          <p:spPr>
            <a:xfrm>
              <a:off x="3849480" y="1110960"/>
              <a:ext cx="4226040" cy="53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17375e"/>
                  </a:solidFill>
                  <a:latin typeface="Calibri"/>
                </a:rPr>
                <a:t>A engenharia se consolida como um dos cursos de graduação que mais atraem os estudante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17375e"/>
                  </a:solidFill>
                  <a:latin typeface="Calibri"/>
                </a:rPr>
                <a:t>Mas..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upo 16"/>
          <p:cNvGrpSpPr/>
          <p:nvPr/>
        </p:nvGrpSpPr>
        <p:grpSpPr>
          <a:xfrm>
            <a:off x="511200" y="804960"/>
            <a:ext cx="2476440" cy="2840040"/>
            <a:chOff x="511200" y="804960"/>
            <a:chExt cx="2476440" cy="2840040"/>
          </a:xfrm>
        </p:grpSpPr>
        <p:grpSp>
          <p:nvGrpSpPr>
            <p:cNvPr id="102" name="Grupo 17"/>
            <p:cNvGrpSpPr/>
            <p:nvPr/>
          </p:nvGrpSpPr>
          <p:grpSpPr>
            <a:xfrm>
              <a:off x="511200" y="804960"/>
              <a:ext cx="2476440" cy="2840040"/>
              <a:chOff x="511200" y="804960"/>
              <a:chExt cx="2476440" cy="2840040"/>
            </a:xfrm>
          </p:grpSpPr>
          <p:sp>
            <p:nvSpPr>
              <p:cNvPr id="103" name="Retângulo 10"/>
              <p:cNvSpPr/>
              <p:nvPr/>
            </p:nvSpPr>
            <p:spPr>
              <a:xfrm>
                <a:off x="511200" y="804960"/>
                <a:ext cx="2476440" cy="284004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407fdc">
                  <a:alpha val="3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tângulo 10"/>
              <p:cNvSpPr/>
              <p:nvPr/>
            </p:nvSpPr>
            <p:spPr>
              <a:xfrm>
                <a:off x="677880" y="996840"/>
                <a:ext cx="2143080" cy="245592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0c2344"/>
              </a:solidFill>
              <a:ln w="25560">
                <a:solidFill>
                  <a:srgbClr val="407f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Retângulo 21"/>
              <p:cNvSpPr/>
              <p:nvPr/>
            </p:nvSpPr>
            <p:spPr>
              <a:xfrm>
                <a:off x="809640" y="1443960"/>
                <a:ext cx="1792440" cy="66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Retângulo 18"/>
            <p:cNvSpPr/>
            <p:nvPr/>
          </p:nvSpPr>
          <p:spPr>
            <a:xfrm>
              <a:off x="677880" y="174780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dos de </a:t>
              </a:r>
              <a:r>
                <a:rPr b="1" lang="pt-BR" sz="2800" spc="-1" strike="noStrike">
                  <a:solidFill>
                    <a:srgbClr val="8eb4e3"/>
                  </a:solidFill>
                  <a:latin typeface="Calibri"/>
                  <a:ea typeface="Arial"/>
                </a:rPr>
                <a:t>2010 a 20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o 13"/>
          <p:cNvGrpSpPr/>
          <p:nvPr/>
        </p:nvGrpSpPr>
        <p:grpSpPr>
          <a:xfrm>
            <a:off x="3448080" y="655560"/>
            <a:ext cx="5371920" cy="6162840"/>
            <a:chOff x="3448080" y="655560"/>
            <a:chExt cx="5371920" cy="6162840"/>
          </a:xfrm>
        </p:grpSpPr>
        <p:sp>
          <p:nvSpPr>
            <p:cNvPr id="108" name="Retângulo 10"/>
            <p:cNvSpPr/>
            <p:nvPr/>
          </p:nvSpPr>
          <p:spPr>
            <a:xfrm>
              <a:off x="3448080" y="655560"/>
              <a:ext cx="5371920" cy="61628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e6b9b8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tângulo 10"/>
            <p:cNvSpPr/>
            <p:nvPr/>
          </p:nvSpPr>
          <p:spPr>
            <a:xfrm>
              <a:off x="3809880" y="1071360"/>
              <a:ext cx="4648320" cy="53312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f2f2f2"/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tângulo 11"/>
            <p:cNvSpPr/>
            <p:nvPr/>
          </p:nvSpPr>
          <p:spPr>
            <a:xfrm>
              <a:off x="3809880" y="1071360"/>
              <a:ext cx="4648320" cy="53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0000"/>
                  </a:solidFill>
                  <a:latin typeface="Calibri"/>
                </a:rPr>
                <a:t>... comparando com outros países, o número de Engenheiros formados no Brasil ainda é pequeno, levando em conta suas proporções continentais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c00000"/>
                  </a:solidFill>
                  <a:latin typeface="Calibri"/>
                </a:rPr>
                <a:t>Qual é o problema?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m 2" descr=""/>
          <p:cNvPicPr/>
          <p:nvPr/>
        </p:nvPicPr>
        <p:blipFill>
          <a:blip r:embed="rId2"/>
          <a:stretch/>
        </p:blipFill>
        <p:spPr>
          <a:xfrm>
            <a:off x="12600" y="-110808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12" name="Imagem 3" descr=""/>
          <p:cNvPicPr/>
          <p:nvPr/>
        </p:nvPicPr>
        <p:blipFill>
          <a:blip r:embed="rId3"/>
          <a:stretch/>
        </p:blipFill>
        <p:spPr>
          <a:xfrm>
            <a:off x="2301840" y="-110664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3" name="CaixaDeTexto 5"/>
          <p:cNvSpPr/>
          <p:nvPr/>
        </p:nvSpPr>
        <p:spPr>
          <a:xfrm>
            <a:off x="644400" y="1611360"/>
            <a:ext cx="779004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ffffff"/>
                </a:solidFill>
                <a:uFillTx/>
                <a:latin typeface="Calibri"/>
              </a:rPr>
              <a:t>EVASÃ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000"/>
                </a:solidFill>
                <a:latin typeface="Calibri"/>
              </a:rPr>
              <a:t>Evasão nos cursos de Engenharia no sistema privad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Em 2013 a evasão em engenharia nos cursos privados se manteve em torno dos 28%, bem acima da evasão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do sistema público (1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000"/>
                </a:solidFill>
                <a:latin typeface="Calibri"/>
              </a:rPr>
              <a:t>Evasão nos cursos de Engenharia (público + privado) = 23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000"/>
                </a:solidFill>
                <a:latin typeface="Calibri"/>
              </a:rPr>
              <a:t>Evasão em todo o Ensino Superior = 22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agem 2" descr=""/>
          <p:cNvPicPr/>
          <p:nvPr/>
        </p:nvPicPr>
        <p:blipFill>
          <a:blip r:embed="rId2"/>
          <a:stretch/>
        </p:blipFill>
        <p:spPr>
          <a:xfrm>
            <a:off x="12600" y="-125100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15" name="Imagem 3" descr=""/>
          <p:cNvPicPr/>
          <p:nvPr/>
        </p:nvPicPr>
        <p:blipFill>
          <a:blip r:embed="rId3"/>
          <a:stretch/>
        </p:blipFill>
        <p:spPr>
          <a:xfrm>
            <a:off x="2301840" y="-96192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5"/>
          <p:cNvSpPr/>
          <p:nvPr/>
        </p:nvSpPr>
        <p:spPr>
          <a:xfrm>
            <a:off x="254160" y="2298600"/>
            <a:ext cx="85690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OU SEJA:</a:t>
            </a: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 apesar do crescimento de ingressantes e concluintes do sistema privado de ensino, este ainda possui uma taxa de evasão bem maior do que a taxa brasileira de evasão, tanto para a Engenharia quanto para o Ensino Superior como um todo. Na comparação com os cursos de Direito e Medicina, a engenharia se mostrou </a:t>
            </a:r>
            <a:r>
              <a:rPr b="1" lang="pt-BR" sz="2200" spc="-1" strike="noStrike">
                <a:solidFill>
                  <a:srgbClr val="ffc000"/>
                </a:solidFill>
                <a:latin typeface="Calibri"/>
              </a:rPr>
              <a:t>O CURSO DE MAIOR EVASÃO</a:t>
            </a: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, tanto no ensino público, quanto no priva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upo 13"/>
          <p:cNvGrpSpPr/>
          <p:nvPr/>
        </p:nvGrpSpPr>
        <p:grpSpPr>
          <a:xfrm>
            <a:off x="3276720" y="695160"/>
            <a:ext cx="5371920" cy="6162840"/>
            <a:chOff x="3276720" y="695160"/>
            <a:chExt cx="5371920" cy="6162840"/>
          </a:xfrm>
        </p:grpSpPr>
        <p:sp>
          <p:nvSpPr>
            <p:cNvPr id="118" name="Retângulo 10"/>
            <p:cNvSpPr/>
            <p:nvPr/>
          </p:nvSpPr>
          <p:spPr>
            <a:xfrm>
              <a:off x="3276720" y="695160"/>
              <a:ext cx="5371920" cy="61628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407fdc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tângulo 10"/>
            <p:cNvSpPr/>
            <p:nvPr/>
          </p:nvSpPr>
          <p:spPr>
            <a:xfrm>
              <a:off x="3638520" y="1110960"/>
              <a:ext cx="4648320" cy="53312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f2f2f2"/>
            </a:solidFill>
            <a:ln w="25560">
              <a:solidFill>
                <a:srgbClr val="407f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tângulo 11"/>
            <p:cNvSpPr/>
            <p:nvPr/>
          </p:nvSpPr>
          <p:spPr>
            <a:xfrm>
              <a:off x="4041720" y="1110960"/>
              <a:ext cx="3841560" cy="53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17375e"/>
                  </a:solidFill>
                  <a:latin typeface="Calibri"/>
                </a:rPr>
                <a:t>No período analisado (2010-2015) verificou-se a expansão do emprego até 2013, com a </a:t>
              </a:r>
              <a:r>
                <a:rPr b="1" lang="pt-BR" sz="1800" spc="-1" strike="noStrike" u="sng">
                  <a:solidFill>
                    <a:srgbClr val="17375e"/>
                  </a:solidFill>
                  <a:uFillTx/>
                  <a:latin typeface="Calibri"/>
                </a:rPr>
                <a:t>INDÚSTRIA</a:t>
              </a:r>
              <a:r>
                <a:rPr b="0" lang="pt-BR" sz="1800" spc="-1" strike="noStrike">
                  <a:solidFill>
                    <a:srgbClr val="17375e"/>
                  </a:solidFill>
                  <a:latin typeface="Calibri"/>
                </a:rPr>
                <a:t> mostrando saldos positivos na contratação de engenheiros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17375e"/>
                  </a:solidFill>
                  <a:latin typeface="Calibri"/>
                </a:rPr>
                <a:t>Embora o ritmo de crescimento do emprego em Engenharia venha diminuindo, ainda está </a:t>
              </a:r>
              <a:r>
                <a:rPr b="1" lang="pt-BR" sz="1800" spc="-1" strike="noStrike" u="sng">
                  <a:solidFill>
                    <a:srgbClr val="17375e"/>
                  </a:solidFill>
                  <a:uFillTx/>
                  <a:latin typeface="Calibri"/>
                </a:rPr>
                <a:t>ACIMA DO RITMO</a:t>
              </a:r>
              <a:r>
                <a:rPr b="0" lang="pt-BR" sz="1800" spc="-1" strike="noStrike">
                  <a:solidFill>
                    <a:srgbClr val="17375e"/>
                  </a:solidFill>
                  <a:latin typeface="Calibri"/>
                </a:rPr>
                <a:t> de crescimento do emprego na economia como um todo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upo 16"/>
          <p:cNvGrpSpPr/>
          <p:nvPr/>
        </p:nvGrpSpPr>
        <p:grpSpPr>
          <a:xfrm>
            <a:off x="684360" y="404640"/>
            <a:ext cx="2476440" cy="2840040"/>
            <a:chOff x="684360" y="404640"/>
            <a:chExt cx="2476440" cy="2840040"/>
          </a:xfrm>
        </p:grpSpPr>
        <p:grpSp>
          <p:nvGrpSpPr>
            <p:cNvPr id="122" name="Grupo 17"/>
            <p:cNvGrpSpPr/>
            <p:nvPr/>
          </p:nvGrpSpPr>
          <p:grpSpPr>
            <a:xfrm>
              <a:off x="684360" y="404640"/>
              <a:ext cx="2476440" cy="2840040"/>
              <a:chOff x="684360" y="404640"/>
              <a:chExt cx="2476440" cy="2840040"/>
            </a:xfrm>
          </p:grpSpPr>
          <p:sp>
            <p:nvSpPr>
              <p:cNvPr id="123" name="Retângulo 10"/>
              <p:cNvSpPr/>
              <p:nvPr/>
            </p:nvSpPr>
            <p:spPr>
              <a:xfrm>
                <a:off x="684360" y="404640"/>
                <a:ext cx="2476440" cy="284004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407fdc">
                  <a:alpha val="3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Retângulo 10"/>
              <p:cNvSpPr/>
              <p:nvPr/>
            </p:nvSpPr>
            <p:spPr>
              <a:xfrm>
                <a:off x="851040" y="612360"/>
                <a:ext cx="2143080" cy="245592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0c2344"/>
              </a:solidFill>
              <a:ln w="25560">
                <a:solidFill>
                  <a:srgbClr val="407f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etângulo 21"/>
              <p:cNvSpPr/>
              <p:nvPr/>
            </p:nvSpPr>
            <p:spPr>
              <a:xfrm>
                <a:off x="982800" y="1043640"/>
                <a:ext cx="1792440" cy="66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Retângulo 18"/>
            <p:cNvSpPr/>
            <p:nvPr/>
          </p:nvSpPr>
          <p:spPr>
            <a:xfrm>
              <a:off x="851400" y="1290240"/>
              <a:ext cx="214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92d050"/>
                  </a:solidFill>
                  <a:latin typeface="Calibri"/>
                  <a:ea typeface="Arial"/>
                </a:rPr>
                <a:t>BONS</a:t>
              </a:r>
              <a:r>
                <a:rPr b="1" lang="pt-BR" sz="3200" spc="-1" strike="noStrike">
                  <a:solidFill>
                    <a:srgbClr val="ffc000"/>
                  </a:solidFill>
                  <a:latin typeface="Calibri"/>
                  <a:ea typeface="Arial"/>
                </a:rPr>
                <a:t> </a:t>
              </a:r>
              <a:r>
                <a:rPr b="1" lang="pt-B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INA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o 13"/>
          <p:cNvGrpSpPr/>
          <p:nvPr/>
        </p:nvGrpSpPr>
        <p:grpSpPr>
          <a:xfrm>
            <a:off x="590400" y="695160"/>
            <a:ext cx="5372280" cy="6162840"/>
            <a:chOff x="590400" y="695160"/>
            <a:chExt cx="5372280" cy="6162840"/>
          </a:xfrm>
        </p:grpSpPr>
        <p:sp>
          <p:nvSpPr>
            <p:cNvPr id="128" name="Retângulo 10"/>
            <p:cNvSpPr/>
            <p:nvPr/>
          </p:nvSpPr>
          <p:spPr>
            <a:xfrm>
              <a:off x="590400" y="695160"/>
              <a:ext cx="5372280" cy="61628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407fdc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tângulo 10"/>
            <p:cNvSpPr/>
            <p:nvPr/>
          </p:nvSpPr>
          <p:spPr>
            <a:xfrm>
              <a:off x="952200" y="1110960"/>
              <a:ext cx="4648320" cy="53312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f2f2f2"/>
            </a:solidFill>
            <a:ln w="25560">
              <a:solidFill>
                <a:srgbClr val="407f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tângulo 11"/>
            <p:cNvSpPr/>
            <p:nvPr/>
          </p:nvSpPr>
          <p:spPr>
            <a:xfrm>
              <a:off x="1355400" y="1110960"/>
              <a:ext cx="3841920" cy="53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17375e"/>
                  </a:solidFill>
                  <a:latin typeface="Calibri"/>
                </a:rPr>
                <a:t>a) </a:t>
              </a:r>
              <a:r>
                <a:rPr b="0" lang="pt-BR" sz="1800" spc="-1" strike="noStrike">
                  <a:solidFill>
                    <a:srgbClr val="17375e"/>
                  </a:solidFill>
                  <a:latin typeface="Calibri"/>
                </a:rPr>
                <a:t>Desvalorização salarial entre os anos de 2012 e 2013 para 50% dos engenheiros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17375e"/>
                  </a:solidFill>
                  <a:latin typeface="Calibri"/>
                </a:rPr>
                <a:t>b) </a:t>
              </a:r>
              <a:r>
                <a:rPr b="0" lang="pt-BR" sz="1800" spc="-1" strike="noStrike">
                  <a:solidFill>
                    <a:srgbClr val="17375e"/>
                  </a:solidFill>
                  <a:latin typeface="Calibri"/>
                </a:rPr>
                <a:t>Engenheiros com pós-graduação, em sua maioria, registraram aumento dos rendimentos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17375e"/>
                  </a:solidFill>
                  <a:latin typeface="Calibri"/>
                </a:rPr>
                <a:t>c) </a:t>
              </a:r>
              <a:r>
                <a:rPr b="0" lang="pt-BR" sz="1800" spc="-1" strike="noStrike">
                  <a:solidFill>
                    <a:srgbClr val="17375e"/>
                  </a:solidFill>
                  <a:latin typeface="Calibri"/>
                </a:rPr>
                <a:t>Problema a ser corrigido: os salários pagos hoje são menores do que aqueles pagos em </a:t>
              </a:r>
              <a:r>
                <a:rPr b="0" i="1" lang="pt-BR" sz="1800" spc="-1" strike="noStrike">
                  <a:solidFill>
                    <a:srgbClr val="17375e"/>
                  </a:solidFill>
                  <a:latin typeface="Calibri"/>
                </a:rPr>
                <a:t>1998 (passando a bola para o Sindicato...)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upo 16"/>
          <p:cNvGrpSpPr/>
          <p:nvPr/>
        </p:nvGrpSpPr>
        <p:grpSpPr>
          <a:xfrm>
            <a:off x="6172200" y="404640"/>
            <a:ext cx="2476440" cy="2840040"/>
            <a:chOff x="6172200" y="404640"/>
            <a:chExt cx="2476440" cy="2840040"/>
          </a:xfrm>
        </p:grpSpPr>
        <p:grpSp>
          <p:nvGrpSpPr>
            <p:cNvPr id="132" name="Grupo 17"/>
            <p:cNvGrpSpPr/>
            <p:nvPr/>
          </p:nvGrpSpPr>
          <p:grpSpPr>
            <a:xfrm>
              <a:off x="6172200" y="404640"/>
              <a:ext cx="2476440" cy="2840040"/>
              <a:chOff x="6172200" y="404640"/>
              <a:chExt cx="2476440" cy="2840040"/>
            </a:xfrm>
          </p:grpSpPr>
          <p:sp>
            <p:nvSpPr>
              <p:cNvPr id="133" name="Retângulo 10"/>
              <p:cNvSpPr/>
              <p:nvPr/>
            </p:nvSpPr>
            <p:spPr>
              <a:xfrm>
                <a:off x="6172200" y="404640"/>
                <a:ext cx="2476440" cy="284004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407fdc">
                  <a:alpha val="3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tângulo 10"/>
              <p:cNvSpPr/>
              <p:nvPr/>
            </p:nvSpPr>
            <p:spPr>
              <a:xfrm>
                <a:off x="6338880" y="612360"/>
                <a:ext cx="2143080" cy="245592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0c2344"/>
              </a:solidFill>
              <a:ln w="25560">
                <a:solidFill>
                  <a:srgbClr val="407f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tângulo 21"/>
              <p:cNvSpPr/>
              <p:nvPr/>
            </p:nvSpPr>
            <p:spPr>
              <a:xfrm>
                <a:off x="6470640" y="1043640"/>
                <a:ext cx="1792440" cy="66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Retângulo 18"/>
            <p:cNvSpPr/>
            <p:nvPr/>
          </p:nvSpPr>
          <p:spPr>
            <a:xfrm>
              <a:off x="6339240" y="1625040"/>
              <a:ext cx="214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92d050"/>
                  </a:solidFill>
                  <a:latin typeface="Calibri"/>
                  <a:ea typeface="Arial"/>
                </a:rPr>
                <a:t>REMUNERAÇÃO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ângulo 2"/>
          <p:cNvSpPr/>
          <p:nvPr/>
        </p:nvSpPr>
        <p:spPr>
          <a:xfrm>
            <a:off x="826920" y="1557360"/>
            <a:ext cx="784872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i="1" lang="pt-BR" sz="4000" spc="-1" strike="noStrike">
                <a:solidFill>
                  <a:srgbClr val="0070c0"/>
                </a:solidFill>
                <a:latin typeface="Calibri"/>
                <a:ea typeface="Arial"/>
              </a:rPr>
              <a:t>Não há nada de errado com aqueles que não gostam de política, simplesmente serão governados por aqueles que gostam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- Plat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Imagem 2" descr=""/>
          <p:cNvPicPr/>
          <p:nvPr/>
        </p:nvPicPr>
        <p:blipFill>
          <a:blip r:embed="rId2"/>
          <a:stretch/>
        </p:blipFill>
        <p:spPr>
          <a:xfrm>
            <a:off x="-17640" y="-27000"/>
            <a:ext cx="4391280" cy="585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m 3" descr=""/>
          <p:cNvPicPr/>
          <p:nvPr/>
        </p:nvPicPr>
        <p:blipFill>
          <a:blip r:embed="rId2"/>
          <a:stretch/>
        </p:blipFill>
        <p:spPr>
          <a:xfrm>
            <a:off x="2301840" y="-110484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0" name="Retângulo 4"/>
          <p:cNvSpPr/>
          <p:nvPr/>
        </p:nvSpPr>
        <p:spPr>
          <a:xfrm>
            <a:off x="971640" y="1036800"/>
            <a:ext cx="4572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NSTRUTO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Odebrech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OA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Camargo Corrê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Andrade Gutierrez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Queiroz Galv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UTC Engenhari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Engevix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IESA Óleo e Gá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Toyo Seta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Mendes Júnior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Galvão Engenhari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Skansk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tângulo 1"/>
          <p:cNvSpPr/>
          <p:nvPr/>
        </p:nvSpPr>
        <p:spPr>
          <a:xfrm>
            <a:off x="3059280" y="3244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Promon Engenhari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GDK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Techint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Schahin Engenhari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Alumini Engenhari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MPE Montagens e Projet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Tomé Engenhari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Construcap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Wtorr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.Eg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10"/>
          <p:cNvSpPr/>
          <p:nvPr/>
        </p:nvSpPr>
        <p:spPr>
          <a:xfrm>
            <a:off x="5940360" y="333360"/>
            <a:ext cx="2790720" cy="279864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0c2344"/>
          </a:solidFill>
          <a:ln w="25560">
            <a:solidFill>
              <a:srgbClr val="407f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18"/>
          <p:cNvSpPr/>
          <p:nvPr/>
        </p:nvSpPr>
        <p:spPr>
          <a:xfrm>
            <a:off x="6095880" y="981000"/>
            <a:ext cx="24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  <a:ea typeface="Arial"/>
              </a:rPr>
              <a:t>OPERAÇÃO LAVA A J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m 3" descr=""/>
          <p:cNvPicPr/>
          <p:nvPr/>
        </p:nvPicPr>
        <p:blipFill>
          <a:blip r:embed="rId2"/>
          <a:stretch/>
        </p:blipFill>
        <p:spPr>
          <a:xfrm>
            <a:off x="2301840" y="-110664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5" name="Retângulo 10"/>
          <p:cNvSpPr/>
          <p:nvPr/>
        </p:nvSpPr>
        <p:spPr>
          <a:xfrm>
            <a:off x="6172200" y="404640"/>
            <a:ext cx="2476440" cy="284004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407fd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10"/>
          <p:cNvSpPr/>
          <p:nvPr/>
        </p:nvSpPr>
        <p:spPr>
          <a:xfrm>
            <a:off x="6338880" y="612720"/>
            <a:ext cx="2143080" cy="245592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0c2344"/>
          </a:solidFill>
          <a:ln w="25560">
            <a:solidFill>
              <a:srgbClr val="407f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18"/>
          <p:cNvSpPr/>
          <p:nvPr/>
        </p:nvSpPr>
        <p:spPr>
          <a:xfrm>
            <a:off x="6340320" y="153828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  <a:ea typeface="Arial"/>
              </a:rPr>
              <a:t>CORRUP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tângulo 12"/>
          <p:cNvSpPr/>
          <p:nvPr/>
        </p:nvSpPr>
        <p:spPr>
          <a:xfrm>
            <a:off x="971640" y="1276200"/>
            <a:ext cx="572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STAT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Petrobr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BR Distribuidor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Transpe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Eletrobras Eletronu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tângulo 13"/>
          <p:cNvSpPr/>
          <p:nvPr/>
        </p:nvSpPr>
        <p:spPr>
          <a:xfrm>
            <a:off x="971640" y="3465360"/>
            <a:ext cx="4572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REFINARIAS:</a:t>
            </a:r>
            <a:br>
              <a:rPr sz="24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Complexo Petroquímico do Rio de Janeir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Pasadena Refinery System Inc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Refinaria Abreu e Lim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Refinaria Landulpho Alve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Refinaria Presidente Getúlio Varg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m 2" descr=""/>
          <p:cNvPicPr/>
          <p:nvPr/>
        </p:nvPicPr>
        <p:blipFill>
          <a:blip r:embed="rId2"/>
          <a:stretch/>
        </p:blipFill>
        <p:spPr>
          <a:xfrm>
            <a:off x="12600" y="-110808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1" name="CaixaDeTexto 5"/>
          <p:cNvSpPr/>
          <p:nvPr/>
        </p:nvSpPr>
        <p:spPr>
          <a:xfrm>
            <a:off x="395280" y="3716280"/>
            <a:ext cx="840096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ssinada no último dia 3, “dispõe sobre o cancelamento de registro profissional por má conduta pública, escândalo ou crime infamante”, como importante instrumento criado pelo Conselho Federal para o processo de criminalização do exercício ilegal das profissõ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tângulo 10"/>
          <p:cNvSpPr/>
          <p:nvPr/>
        </p:nvSpPr>
        <p:spPr>
          <a:xfrm>
            <a:off x="5867280" y="189000"/>
            <a:ext cx="2792520" cy="319392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0c2344"/>
          </a:solidFill>
          <a:ln w="25560">
            <a:solidFill>
              <a:srgbClr val="407f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tângulo 2"/>
          <p:cNvSpPr/>
          <p:nvPr/>
        </p:nvSpPr>
        <p:spPr>
          <a:xfrm>
            <a:off x="5965560" y="1185840"/>
            <a:ext cx="26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000"/>
                </a:solidFill>
                <a:latin typeface="Calibri"/>
              </a:rPr>
              <a:t>RESOLUÇÃO </a:t>
            </a:r>
            <a:br>
              <a:rPr sz="3600"/>
            </a:br>
            <a:r>
              <a:rPr b="1" lang="pt-BR" sz="3600" spc="-1" strike="noStrike">
                <a:solidFill>
                  <a:srgbClr val="ffc000"/>
                </a:solidFill>
                <a:latin typeface="Calibri"/>
              </a:rPr>
              <a:t>Nº 1.0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upo 23"/>
          <p:cNvGrpSpPr/>
          <p:nvPr/>
        </p:nvGrpSpPr>
        <p:grpSpPr>
          <a:xfrm>
            <a:off x="1692360" y="331920"/>
            <a:ext cx="5688000" cy="5473440"/>
            <a:chOff x="1692360" y="331920"/>
            <a:chExt cx="5688000" cy="5473440"/>
          </a:xfrm>
        </p:grpSpPr>
        <p:grpSp>
          <p:nvGrpSpPr>
            <p:cNvPr id="48" name="Grupo 4"/>
            <p:cNvGrpSpPr/>
            <p:nvPr/>
          </p:nvGrpSpPr>
          <p:grpSpPr>
            <a:xfrm>
              <a:off x="1692360" y="371520"/>
              <a:ext cx="2476440" cy="2841120"/>
              <a:chOff x="1692360" y="371520"/>
              <a:chExt cx="2476440" cy="2841120"/>
            </a:xfrm>
          </p:grpSpPr>
          <p:grpSp>
            <p:nvGrpSpPr>
              <p:cNvPr id="49" name="Grupo 5"/>
              <p:cNvGrpSpPr/>
              <p:nvPr/>
            </p:nvGrpSpPr>
            <p:grpSpPr>
              <a:xfrm>
                <a:off x="1692360" y="371520"/>
                <a:ext cx="2476440" cy="2841120"/>
                <a:chOff x="1692360" y="371520"/>
                <a:chExt cx="2476440" cy="2841120"/>
              </a:xfrm>
            </p:grpSpPr>
            <p:sp>
              <p:nvSpPr>
                <p:cNvPr id="50" name="Retângulo 10"/>
                <p:cNvSpPr/>
                <p:nvPr/>
              </p:nvSpPr>
              <p:spPr>
                <a:xfrm>
                  <a:off x="1692360" y="371520"/>
                  <a:ext cx="2476440" cy="2841120"/>
                </a:xfrm>
                <a:custGeom>
                  <a:avLst/>
                  <a:gdLst/>
                  <a:ahLst/>
                  <a:rect l="l" t="t" r="r" b="b"/>
                  <a:pathLst>
                    <a:path w="2314905" h="2655222">
                      <a:moveTo>
                        <a:pt x="1154219" y="0"/>
                      </a:moveTo>
                      <a:lnTo>
                        <a:pt x="2304905" y="664617"/>
                      </a:lnTo>
                      <a:cubicBezTo>
                        <a:pt x="2302953" y="1198623"/>
                        <a:pt x="2316667" y="1454068"/>
                        <a:pt x="2314715" y="1988074"/>
                      </a:cubicBezTo>
                      <a:lnTo>
                        <a:pt x="1131751" y="2655222"/>
                      </a:lnTo>
                      <a:lnTo>
                        <a:pt x="0" y="1994688"/>
                      </a:lnTo>
                      <a:cubicBezTo>
                        <a:pt x="108" y="1488635"/>
                        <a:pt x="1009" y="1162824"/>
                        <a:pt x="1117" y="656771"/>
                      </a:cubicBezTo>
                      <a:lnTo>
                        <a:pt x="1154219" y="0"/>
                      </a:lnTo>
                      <a:close/>
                    </a:path>
                  </a:pathLst>
                </a:custGeom>
                <a:solidFill>
                  <a:srgbClr val="407fdc">
                    <a:alpha val="3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" name="Retângulo 10"/>
                <p:cNvSpPr/>
                <p:nvPr/>
              </p:nvSpPr>
              <p:spPr>
                <a:xfrm>
                  <a:off x="1859040" y="563400"/>
                  <a:ext cx="2143080" cy="2457000"/>
                </a:xfrm>
                <a:custGeom>
                  <a:avLst/>
                  <a:gdLst/>
                  <a:ahLst/>
                  <a:rect l="l" t="t" r="r" b="b"/>
                  <a:pathLst>
                    <a:path w="2314905" h="2655222">
                      <a:moveTo>
                        <a:pt x="1154219" y="0"/>
                      </a:moveTo>
                      <a:lnTo>
                        <a:pt x="2304905" y="664617"/>
                      </a:lnTo>
                      <a:cubicBezTo>
                        <a:pt x="2302953" y="1198623"/>
                        <a:pt x="2316667" y="1454068"/>
                        <a:pt x="2314715" y="1988074"/>
                      </a:cubicBezTo>
                      <a:lnTo>
                        <a:pt x="1131751" y="2655222"/>
                      </a:lnTo>
                      <a:lnTo>
                        <a:pt x="0" y="1994688"/>
                      </a:lnTo>
                      <a:cubicBezTo>
                        <a:pt x="108" y="1488635"/>
                        <a:pt x="1009" y="1162824"/>
                        <a:pt x="1117" y="656771"/>
                      </a:cubicBezTo>
                      <a:lnTo>
                        <a:pt x="1154219" y="0"/>
                      </a:lnTo>
                      <a:close/>
                    </a:path>
                  </a:pathLst>
                </a:custGeom>
                <a:solidFill>
                  <a:srgbClr val="0c2344"/>
                </a:solidFill>
                <a:ln w="25560">
                  <a:solidFill>
                    <a:srgbClr val="407fd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" name="Retângulo 10"/>
                <p:cNvSpPr/>
                <p:nvPr/>
              </p:nvSpPr>
              <p:spPr>
                <a:xfrm>
                  <a:off x="1990800" y="1010520"/>
                  <a:ext cx="179208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" name="Retângulo 2"/>
              <p:cNvSpPr/>
              <p:nvPr/>
            </p:nvSpPr>
            <p:spPr>
              <a:xfrm>
                <a:off x="1859400" y="1443960"/>
                <a:ext cx="214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ONTEM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Grupo 21"/>
            <p:cNvGrpSpPr/>
            <p:nvPr/>
          </p:nvGrpSpPr>
          <p:grpSpPr>
            <a:xfrm>
              <a:off x="4903920" y="331920"/>
              <a:ext cx="2476440" cy="2841120"/>
              <a:chOff x="4903920" y="331920"/>
              <a:chExt cx="2476440" cy="2841120"/>
            </a:xfrm>
          </p:grpSpPr>
          <p:grpSp>
            <p:nvGrpSpPr>
              <p:cNvPr id="55" name="Grupo 11"/>
              <p:cNvGrpSpPr/>
              <p:nvPr/>
            </p:nvGrpSpPr>
            <p:grpSpPr>
              <a:xfrm>
                <a:off x="4903920" y="331920"/>
                <a:ext cx="2476440" cy="2841120"/>
                <a:chOff x="4903920" y="331920"/>
                <a:chExt cx="2476440" cy="2841120"/>
              </a:xfrm>
            </p:grpSpPr>
            <p:sp>
              <p:nvSpPr>
                <p:cNvPr id="56" name="Retângulo 10"/>
                <p:cNvSpPr/>
                <p:nvPr/>
              </p:nvSpPr>
              <p:spPr>
                <a:xfrm>
                  <a:off x="4903920" y="331920"/>
                  <a:ext cx="2476440" cy="2841120"/>
                </a:xfrm>
                <a:custGeom>
                  <a:avLst/>
                  <a:gdLst/>
                  <a:ahLst/>
                  <a:rect l="l" t="t" r="r" b="b"/>
                  <a:pathLst>
                    <a:path w="2314905" h="2655222">
                      <a:moveTo>
                        <a:pt x="1154219" y="0"/>
                      </a:moveTo>
                      <a:lnTo>
                        <a:pt x="2304905" y="664617"/>
                      </a:lnTo>
                      <a:cubicBezTo>
                        <a:pt x="2302953" y="1198623"/>
                        <a:pt x="2316667" y="1454068"/>
                        <a:pt x="2314715" y="1988074"/>
                      </a:cubicBezTo>
                      <a:lnTo>
                        <a:pt x="1131751" y="2655222"/>
                      </a:lnTo>
                      <a:lnTo>
                        <a:pt x="0" y="1994688"/>
                      </a:lnTo>
                      <a:cubicBezTo>
                        <a:pt x="108" y="1488635"/>
                        <a:pt x="1009" y="1162824"/>
                        <a:pt x="1117" y="656771"/>
                      </a:cubicBezTo>
                      <a:lnTo>
                        <a:pt x="1154219" y="0"/>
                      </a:lnTo>
                      <a:close/>
                    </a:path>
                  </a:pathLst>
                </a:custGeom>
                <a:solidFill>
                  <a:srgbClr val="407fdc">
                    <a:alpha val="3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" name="Retângulo 10"/>
                <p:cNvSpPr/>
                <p:nvPr/>
              </p:nvSpPr>
              <p:spPr>
                <a:xfrm>
                  <a:off x="5070600" y="523800"/>
                  <a:ext cx="2143080" cy="2457000"/>
                </a:xfrm>
                <a:custGeom>
                  <a:avLst/>
                  <a:gdLst/>
                  <a:ahLst/>
                  <a:rect l="l" t="t" r="r" b="b"/>
                  <a:pathLst>
                    <a:path w="2314905" h="2655222">
                      <a:moveTo>
                        <a:pt x="1154219" y="0"/>
                      </a:moveTo>
                      <a:lnTo>
                        <a:pt x="2304905" y="664617"/>
                      </a:lnTo>
                      <a:cubicBezTo>
                        <a:pt x="2302953" y="1198623"/>
                        <a:pt x="2316667" y="1454068"/>
                        <a:pt x="2314715" y="1988074"/>
                      </a:cubicBezTo>
                      <a:lnTo>
                        <a:pt x="1131751" y="2655222"/>
                      </a:lnTo>
                      <a:lnTo>
                        <a:pt x="0" y="1994688"/>
                      </a:lnTo>
                      <a:cubicBezTo>
                        <a:pt x="108" y="1488635"/>
                        <a:pt x="1009" y="1162824"/>
                        <a:pt x="1117" y="656771"/>
                      </a:cubicBezTo>
                      <a:lnTo>
                        <a:pt x="1154219" y="0"/>
                      </a:lnTo>
                      <a:close/>
                    </a:path>
                  </a:pathLst>
                </a:custGeom>
                <a:solidFill>
                  <a:srgbClr val="0c2344"/>
                </a:solidFill>
                <a:ln w="25560">
                  <a:solidFill>
                    <a:srgbClr val="407fd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" name="Retângulo 14"/>
                <p:cNvSpPr/>
                <p:nvPr/>
              </p:nvSpPr>
              <p:spPr>
                <a:xfrm>
                  <a:off x="5202720" y="970920"/>
                  <a:ext cx="179208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9" name="Retângulo 15"/>
              <p:cNvSpPr/>
              <p:nvPr/>
            </p:nvSpPr>
            <p:spPr>
              <a:xfrm>
                <a:off x="5070960" y="1371960"/>
                <a:ext cx="214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HOJE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" name="Grupo 22"/>
            <p:cNvGrpSpPr/>
            <p:nvPr/>
          </p:nvGrpSpPr>
          <p:grpSpPr>
            <a:xfrm>
              <a:off x="3319920" y="2964240"/>
              <a:ext cx="2476440" cy="2841120"/>
              <a:chOff x="3319920" y="2964240"/>
              <a:chExt cx="2476440" cy="2841120"/>
            </a:xfrm>
          </p:grpSpPr>
          <p:grpSp>
            <p:nvGrpSpPr>
              <p:cNvPr id="61" name="Grupo 16"/>
              <p:cNvGrpSpPr/>
              <p:nvPr/>
            </p:nvGrpSpPr>
            <p:grpSpPr>
              <a:xfrm>
                <a:off x="3319920" y="2964240"/>
                <a:ext cx="2476440" cy="2841120"/>
                <a:chOff x="3319920" y="2964240"/>
                <a:chExt cx="2476440" cy="2841120"/>
              </a:xfrm>
            </p:grpSpPr>
            <p:sp>
              <p:nvSpPr>
                <p:cNvPr id="62" name="Retângulo 10"/>
                <p:cNvSpPr/>
                <p:nvPr/>
              </p:nvSpPr>
              <p:spPr>
                <a:xfrm>
                  <a:off x="3319920" y="2964240"/>
                  <a:ext cx="2476440" cy="2841120"/>
                </a:xfrm>
                <a:custGeom>
                  <a:avLst/>
                  <a:gdLst/>
                  <a:ahLst/>
                  <a:rect l="l" t="t" r="r" b="b"/>
                  <a:pathLst>
                    <a:path w="2314905" h="2655222">
                      <a:moveTo>
                        <a:pt x="1154219" y="0"/>
                      </a:moveTo>
                      <a:lnTo>
                        <a:pt x="2304905" y="664617"/>
                      </a:lnTo>
                      <a:cubicBezTo>
                        <a:pt x="2302953" y="1198623"/>
                        <a:pt x="2316667" y="1454068"/>
                        <a:pt x="2314715" y="1988074"/>
                      </a:cubicBezTo>
                      <a:lnTo>
                        <a:pt x="1131751" y="2655222"/>
                      </a:lnTo>
                      <a:lnTo>
                        <a:pt x="0" y="1994688"/>
                      </a:lnTo>
                      <a:cubicBezTo>
                        <a:pt x="108" y="1488635"/>
                        <a:pt x="1009" y="1162824"/>
                        <a:pt x="1117" y="656771"/>
                      </a:cubicBezTo>
                      <a:lnTo>
                        <a:pt x="1154219" y="0"/>
                      </a:lnTo>
                      <a:close/>
                    </a:path>
                  </a:pathLst>
                </a:custGeom>
                <a:solidFill>
                  <a:srgbClr val="fca320">
                    <a:alpha val="3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tângulo 10"/>
                <p:cNvSpPr/>
                <p:nvPr/>
              </p:nvSpPr>
              <p:spPr>
                <a:xfrm>
                  <a:off x="3486600" y="3156120"/>
                  <a:ext cx="2143080" cy="2457000"/>
                </a:xfrm>
                <a:custGeom>
                  <a:avLst/>
                  <a:gdLst/>
                  <a:ahLst/>
                  <a:rect l="l" t="t" r="r" b="b"/>
                  <a:pathLst>
                    <a:path w="2314905" h="2655222">
                      <a:moveTo>
                        <a:pt x="1154219" y="0"/>
                      </a:moveTo>
                      <a:lnTo>
                        <a:pt x="2304905" y="664617"/>
                      </a:lnTo>
                      <a:cubicBezTo>
                        <a:pt x="2302953" y="1198623"/>
                        <a:pt x="2316667" y="1454068"/>
                        <a:pt x="2314715" y="1988074"/>
                      </a:cubicBezTo>
                      <a:lnTo>
                        <a:pt x="1131751" y="2655222"/>
                      </a:lnTo>
                      <a:lnTo>
                        <a:pt x="0" y="1994688"/>
                      </a:lnTo>
                      <a:cubicBezTo>
                        <a:pt x="108" y="1488635"/>
                        <a:pt x="1009" y="1162824"/>
                        <a:pt x="1117" y="656771"/>
                      </a:cubicBezTo>
                      <a:lnTo>
                        <a:pt x="1154219" y="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25560">
                  <a:solidFill>
                    <a:srgbClr val="fca3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tângulo 19"/>
                <p:cNvSpPr/>
                <p:nvPr/>
              </p:nvSpPr>
              <p:spPr>
                <a:xfrm>
                  <a:off x="3619080" y="3603600"/>
                  <a:ext cx="179208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5" name="Retângulo 20"/>
              <p:cNvSpPr/>
              <p:nvPr/>
            </p:nvSpPr>
            <p:spPr>
              <a:xfrm>
                <a:off x="3486960" y="4036680"/>
                <a:ext cx="214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AMANHÃ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" name="Retângulo 2"/>
          <p:cNvSpPr/>
          <p:nvPr/>
        </p:nvSpPr>
        <p:spPr>
          <a:xfrm>
            <a:off x="33480" y="6019920"/>
            <a:ext cx="8961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76092"/>
                </a:solidFill>
                <a:latin typeface="Calibri"/>
                <a:ea typeface="Arial"/>
              </a:rPr>
              <a:t>HISTÓRIA E PERSPECTIVAS DAS </a:t>
            </a:r>
            <a:r>
              <a:rPr b="1" lang="pt-BR" sz="2000" spc="-1" strike="noStrike">
                <a:solidFill>
                  <a:srgbClr val="17375e"/>
                </a:solidFill>
                <a:latin typeface="Calibri"/>
                <a:ea typeface="Arial"/>
              </a:rPr>
              <a:t>ENGENHARIAS NO BRAS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55" name="Retângulo 2"/>
          <p:cNvSpPr/>
          <p:nvPr/>
        </p:nvSpPr>
        <p:spPr>
          <a:xfrm>
            <a:off x="453960" y="6524640"/>
            <a:ext cx="823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Fonte: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http://www.valor.com.br/brasil/4891164/governo-faz-pacote-de-concessoes-e-preve-investimento-de-r-45-bilh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tângulo 10"/>
          <p:cNvSpPr/>
          <p:nvPr/>
        </p:nvSpPr>
        <p:spPr>
          <a:xfrm>
            <a:off x="7494480" y="12600"/>
            <a:ext cx="1627200" cy="179244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407fd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tângulo 10"/>
          <p:cNvSpPr/>
          <p:nvPr/>
        </p:nvSpPr>
        <p:spPr>
          <a:xfrm>
            <a:off x="7596360" y="157320"/>
            <a:ext cx="1407960" cy="152388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0c2344"/>
          </a:solidFill>
          <a:ln w="25560">
            <a:solidFill>
              <a:srgbClr val="407f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ângulo 18"/>
          <p:cNvSpPr/>
          <p:nvPr/>
        </p:nvSpPr>
        <p:spPr>
          <a:xfrm>
            <a:off x="7597800" y="81108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  <a:ea typeface="Arial"/>
              </a:rPr>
              <a:t>INVESTIM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322280" y="142920"/>
            <a:ext cx="6562800" cy="6310440"/>
          </a:xfrm>
          <a:prstGeom prst="rect">
            <a:avLst/>
          </a:prstGeom>
          <a:ln w="0">
            <a:noFill/>
          </a:ln>
        </p:spPr>
      </p:pic>
      <p:sp>
        <p:nvSpPr>
          <p:cNvPr id="160" name="Retângulo 2"/>
          <p:cNvSpPr/>
          <p:nvPr/>
        </p:nvSpPr>
        <p:spPr>
          <a:xfrm>
            <a:off x="324000" y="6524640"/>
            <a:ext cx="85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10253f"/>
                </a:solidFill>
                <a:latin typeface="Calibri"/>
              </a:rPr>
              <a:t>Fonte:  </a:t>
            </a:r>
            <a:r>
              <a:rPr b="0" lang="pt-BR" sz="1200" spc="-1" strike="noStrike">
                <a:solidFill>
                  <a:srgbClr val="10253f"/>
                </a:solidFill>
                <a:latin typeface="Calibri"/>
              </a:rPr>
              <a:t>http://g1.globo.com/economia/noticia/previa-do-pib-do-bc-sobe-11-no-1-trimestre-e-indica-fim-da-recessao.g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tângulo 10"/>
          <p:cNvSpPr/>
          <p:nvPr/>
        </p:nvSpPr>
        <p:spPr>
          <a:xfrm>
            <a:off x="276120" y="2644920"/>
            <a:ext cx="1744920" cy="193644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407fd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tângulo 10"/>
          <p:cNvSpPr/>
          <p:nvPr/>
        </p:nvSpPr>
        <p:spPr>
          <a:xfrm>
            <a:off x="393840" y="2789280"/>
            <a:ext cx="1509480" cy="164772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0c2344"/>
          </a:solidFill>
          <a:ln w="25560">
            <a:solidFill>
              <a:srgbClr val="407f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tângulo 18"/>
          <p:cNvSpPr/>
          <p:nvPr/>
        </p:nvSpPr>
        <p:spPr>
          <a:xfrm>
            <a:off x="395280" y="325908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PI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tângulo 10"/>
          <p:cNvSpPr/>
          <p:nvPr/>
        </p:nvSpPr>
        <p:spPr>
          <a:xfrm>
            <a:off x="7155000" y="222120"/>
            <a:ext cx="1744560" cy="193680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407fd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tângulo 10"/>
          <p:cNvSpPr/>
          <p:nvPr/>
        </p:nvSpPr>
        <p:spPr>
          <a:xfrm>
            <a:off x="7272360" y="366840"/>
            <a:ext cx="1509840" cy="164772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0c2344"/>
          </a:solidFill>
          <a:ln w="25560">
            <a:solidFill>
              <a:srgbClr val="407f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ângulo 18"/>
          <p:cNvSpPr/>
          <p:nvPr/>
        </p:nvSpPr>
        <p:spPr>
          <a:xfrm>
            <a:off x="7273800" y="836640"/>
            <a:ext cx="15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  <a:ea typeface="Arial"/>
              </a:rPr>
              <a:t>BOL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eta para cima 5"/>
          <p:cNvSpPr/>
          <p:nvPr/>
        </p:nvSpPr>
        <p:spPr>
          <a:xfrm rot="10800000">
            <a:off x="7812000" y="1353600"/>
            <a:ext cx="432000" cy="366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tângulo 6"/>
          <p:cNvSpPr/>
          <p:nvPr/>
        </p:nvSpPr>
        <p:spPr>
          <a:xfrm>
            <a:off x="297000" y="6351480"/>
            <a:ext cx="855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http://g1.globo.com/economia/mercados/noticia/entenda-o-circuit-breaker-e-relembre-momentos-de-turbulencia-na-bolsa.g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Imagem 1" descr=""/>
          <p:cNvPicPr/>
          <p:nvPr/>
        </p:nvPicPr>
        <p:blipFill>
          <a:blip r:embed="rId1"/>
          <a:stretch/>
        </p:blipFill>
        <p:spPr>
          <a:xfrm>
            <a:off x="2884320" y="115920"/>
            <a:ext cx="30672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52360" y="0"/>
            <a:ext cx="8562960" cy="6222960"/>
          </a:xfrm>
          <a:prstGeom prst="rect">
            <a:avLst/>
          </a:prstGeom>
          <a:ln w="0">
            <a:noFill/>
          </a:ln>
        </p:spPr>
      </p:pic>
      <p:sp>
        <p:nvSpPr>
          <p:cNvPr id="171" name="Retângulo 1"/>
          <p:cNvSpPr/>
          <p:nvPr/>
        </p:nvSpPr>
        <p:spPr>
          <a:xfrm>
            <a:off x="684360" y="63817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libri"/>
                <a:ea typeface="Arial"/>
              </a:rPr>
              <a:t>Fonte: </a:t>
            </a:r>
            <a:r>
              <a:rPr b="0" lang="pt-BR" sz="1200" spc="-1" strike="noStrike">
                <a:solidFill>
                  <a:srgbClr val="ffffff"/>
                </a:solidFill>
                <a:latin typeface="Calibri"/>
                <a:ea typeface="Arial"/>
              </a:rPr>
              <a:t>http://cbn.globoradio.globo.com/media/audio/93515/impacto-de-julgamento-da-chapa-dilma-temer-no-tse-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upo 2"/>
          <p:cNvGrpSpPr/>
          <p:nvPr/>
        </p:nvGrpSpPr>
        <p:grpSpPr>
          <a:xfrm>
            <a:off x="7380360" y="490680"/>
            <a:ext cx="1290600" cy="1498320"/>
            <a:chOff x="7380360" y="490680"/>
            <a:chExt cx="1290600" cy="1498320"/>
          </a:xfrm>
        </p:grpSpPr>
        <p:sp>
          <p:nvSpPr>
            <p:cNvPr id="173" name="Retângulo 10"/>
            <p:cNvSpPr/>
            <p:nvPr/>
          </p:nvSpPr>
          <p:spPr>
            <a:xfrm>
              <a:off x="7380360" y="490680"/>
              <a:ext cx="1290600" cy="149832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407fdc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etângulo 10"/>
            <p:cNvSpPr/>
            <p:nvPr/>
          </p:nvSpPr>
          <p:spPr>
            <a:xfrm>
              <a:off x="7467480" y="601560"/>
              <a:ext cx="1116000" cy="127620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0c2344"/>
            </a:solidFill>
            <a:ln w="25560">
              <a:solidFill>
                <a:srgbClr val="407f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tângulo 18"/>
            <p:cNvSpPr/>
            <p:nvPr/>
          </p:nvSpPr>
          <p:spPr>
            <a:xfrm>
              <a:off x="7450920" y="1037160"/>
              <a:ext cx="11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OL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upo 5"/>
          <p:cNvGrpSpPr/>
          <p:nvPr/>
        </p:nvGrpSpPr>
        <p:grpSpPr>
          <a:xfrm>
            <a:off x="36360" y="115920"/>
            <a:ext cx="9144000" cy="6192720"/>
            <a:chOff x="36360" y="115920"/>
            <a:chExt cx="9144000" cy="619272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tretch/>
          </p:blipFill>
          <p:spPr>
            <a:xfrm>
              <a:off x="36360" y="545760"/>
              <a:ext cx="9144000" cy="57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" descr=""/>
            <p:cNvPicPr/>
            <p:nvPr/>
          </p:nvPicPr>
          <p:blipFill>
            <a:blip r:embed="rId2"/>
            <a:stretch/>
          </p:blipFill>
          <p:spPr>
            <a:xfrm>
              <a:off x="4536360" y="115920"/>
              <a:ext cx="4644000" cy="175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tângulo 10"/>
          <p:cNvSpPr/>
          <p:nvPr/>
        </p:nvSpPr>
        <p:spPr>
          <a:xfrm>
            <a:off x="7037280" y="615960"/>
            <a:ext cx="1744920" cy="193680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407fd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tângulo 10"/>
          <p:cNvSpPr/>
          <p:nvPr/>
        </p:nvSpPr>
        <p:spPr>
          <a:xfrm>
            <a:off x="7155000" y="760320"/>
            <a:ext cx="1509480" cy="1648080"/>
          </a:xfrm>
          <a:custGeom>
            <a:avLst/>
            <a:gdLst/>
            <a:ahLst/>
            <a:rect l="l" t="t" r="r" b="b"/>
            <a:pathLst>
              <a:path w="2314905" h="2655222">
                <a:moveTo>
                  <a:pt x="1154219" y="0"/>
                </a:moveTo>
                <a:lnTo>
                  <a:pt x="2304905" y="664617"/>
                </a:lnTo>
                <a:cubicBezTo>
                  <a:pt x="2302953" y="1198623"/>
                  <a:pt x="2316667" y="1454068"/>
                  <a:pt x="2314715" y="1988074"/>
                </a:cubicBezTo>
                <a:lnTo>
                  <a:pt x="1131751" y="2655222"/>
                </a:lnTo>
                <a:lnTo>
                  <a:pt x="0" y="1994688"/>
                </a:lnTo>
                <a:cubicBezTo>
                  <a:pt x="108" y="1488635"/>
                  <a:pt x="1009" y="1162824"/>
                  <a:pt x="1117" y="656771"/>
                </a:cubicBezTo>
                <a:lnTo>
                  <a:pt x="1154219" y="0"/>
                </a:lnTo>
                <a:close/>
              </a:path>
            </a:pathLst>
          </a:custGeom>
          <a:solidFill>
            <a:srgbClr val="0c2344"/>
          </a:solidFill>
          <a:ln w="25560">
            <a:solidFill>
              <a:srgbClr val="407f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tângulo 18"/>
          <p:cNvSpPr/>
          <p:nvPr/>
        </p:nvSpPr>
        <p:spPr>
          <a:xfrm>
            <a:off x="7156440" y="123048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  <a:ea typeface="Arial"/>
              </a:rPr>
              <a:t>BOL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eta para cima 9"/>
          <p:cNvSpPr/>
          <p:nvPr/>
        </p:nvSpPr>
        <p:spPr>
          <a:xfrm>
            <a:off x="7694640" y="1747800"/>
            <a:ext cx="431640" cy="366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tângulo 12"/>
          <p:cNvSpPr/>
          <p:nvPr/>
        </p:nvSpPr>
        <p:spPr>
          <a:xfrm>
            <a:off x="317520" y="6453360"/>
            <a:ext cx="85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10253f"/>
                </a:solidFill>
                <a:latin typeface="Calibri"/>
              </a:rPr>
              <a:t>Fonte:  </a:t>
            </a:r>
            <a:r>
              <a:rPr b="0" lang="pt-BR" sz="1200" spc="-1" strike="noStrike">
                <a:solidFill>
                  <a:srgbClr val="10253f"/>
                </a:solidFill>
                <a:latin typeface="Calibri"/>
              </a:rPr>
              <a:t>http://istoe.com.br/apos-crise-politica-bolsa-se-recupera-e-abre-em-alt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770120" y="0"/>
            <a:ext cx="7410240" cy="6580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upo 1"/>
          <p:cNvGrpSpPr/>
          <p:nvPr/>
        </p:nvGrpSpPr>
        <p:grpSpPr>
          <a:xfrm>
            <a:off x="246240" y="189000"/>
            <a:ext cx="1439640" cy="1584360"/>
            <a:chOff x="246240" y="189000"/>
            <a:chExt cx="1439640" cy="1584360"/>
          </a:xfrm>
        </p:grpSpPr>
        <p:sp>
          <p:nvSpPr>
            <p:cNvPr id="186" name="Retângulo 10"/>
            <p:cNvSpPr/>
            <p:nvPr/>
          </p:nvSpPr>
          <p:spPr>
            <a:xfrm>
              <a:off x="246240" y="189000"/>
              <a:ext cx="1439640" cy="158436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0c2344"/>
            </a:solidFill>
            <a:ln w="25560">
              <a:solidFill>
                <a:srgbClr val="407f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tângulo 10"/>
            <p:cNvSpPr/>
            <p:nvPr/>
          </p:nvSpPr>
          <p:spPr>
            <a:xfrm>
              <a:off x="291960" y="81972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c000"/>
                  </a:solidFill>
                  <a:latin typeface="Calibri"/>
                </a:rPr>
                <a:t>EMPREG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Retângulo 6"/>
          <p:cNvSpPr/>
          <p:nvPr/>
        </p:nvSpPr>
        <p:spPr>
          <a:xfrm>
            <a:off x="297000" y="6622920"/>
            <a:ext cx="8847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  <a:ea typeface="Arial"/>
              </a:rPr>
              <a:t>http://economia.estadao.com.br/noticias/sua-careira,crise-e-lava-jato-fazem-diploma-de-engenharia-voltar-para-a-gaveta,700018732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tângulo 2"/>
          <p:cNvSpPr/>
          <p:nvPr/>
        </p:nvSpPr>
        <p:spPr>
          <a:xfrm>
            <a:off x="3851280" y="139680"/>
            <a:ext cx="5292720" cy="6602400"/>
          </a:xfrm>
          <a:custGeom>
            <a:avLst/>
            <a:gdLst/>
            <a:ahLst/>
            <a:rect l="l" t="t" r="r" b="b"/>
            <a:pathLst>
              <a:path w="4475381" h="6602153">
                <a:moveTo>
                  <a:pt x="0" y="0"/>
                </a:moveTo>
                <a:lnTo>
                  <a:pt x="4475381" y="337457"/>
                </a:lnTo>
                <a:lnTo>
                  <a:pt x="4475381" y="6602153"/>
                </a:lnTo>
                <a:lnTo>
                  <a:pt x="10885" y="6057868"/>
                </a:lnTo>
                <a:cubicBezTo>
                  <a:pt x="7257" y="3857150"/>
                  <a:pt x="3628" y="2200718"/>
                  <a:pt x="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tângulo 11"/>
          <p:cNvSpPr/>
          <p:nvPr/>
        </p:nvSpPr>
        <p:spPr>
          <a:xfrm>
            <a:off x="4211640" y="372960"/>
            <a:ext cx="468144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46c0a"/>
                </a:solidFill>
                <a:latin typeface="Calibri"/>
              </a:rPr>
              <a:t>1.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papel do Confea/Crea e Mútua </a:t>
            </a:r>
            <a:r>
              <a:rPr b="1" lang="pt-BR" sz="1400" spc="-1" strike="noStrike">
                <a:solidFill>
                  <a:srgbClr val="e46c0a"/>
                </a:solidFill>
                <a:latin typeface="Calibri"/>
              </a:rPr>
              <a:t>FISCALIZAÇÃO/DEFESA DA SOCIEDADE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46c0a"/>
                </a:solidFill>
                <a:latin typeface="Calibri"/>
              </a:rPr>
              <a:t>2.</a:t>
            </a:r>
            <a:r>
              <a:rPr b="1" lang="pt-BR" sz="1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pt-BR" sz="1400" spc="-1" strike="noStrike">
                <a:solidFill>
                  <a:srgbClr val="e46c0a"/>
                </a:solidFill>
                <a:latin typeface="Calibri"/>
              </a:rPr>
              <a:t>ENTIDADES DE CLASSE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tualização e aperfeiçoamento profission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46c0a"/>
                </a:solidFill>
                <a:latin typeface="Calibri"/>
              </a:rPr>
              <a:t>3.</a:t>
            </a:r>
            <a:r>
              <a:rPr b="1" lang="pt-BR" sz="1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pt-BR" sz="1400" spc="-1" strike="noStrike">
                <a:solidFill>
                  <a:srgbClr val="e46c0a"/>
                </a:solidFill>
                <a:latin typeface="Calibri"/>
              </a:rPr>
              <a:t>INSTITUIÇÃO DE ENSINO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formação profission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tângulo 2"/>
          <p:cNvSpPr/>
          <p:nvPr/>
        </p:nvSpPr>
        <p:spPr>
          <a:xfrm>
            <a:off x="250920" y="4149720"/>
            <a:ext cx="3386160" cy="596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54061"/>
                </a:solidFill>
                <a:latin typeface="Calibri"/>
                <a:ea typeface="Arial"/>
              </a:rPr>
              <a:t>O DEVER DO SISTE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upo 13"/>
          <p:cNvGrpSpPr/>
          <p:nvPr/>
        </p:nvGrpSpPr>
        <p:grpSpPr>
          <a:xfrm>
            <a:off x="279360" y="695160"/>
            <a:ext cx="5372280" cy="6162840"/>
            <a:chOff x="279360" y="695160"/>
            <a:chExt cx="5372280" cy="6162840"/>
          </a:xfrm>
        </p:grpSpPr>
        <p:sp>
          <p:nvSpPr>
            <p:cNvPr id="193" name="Retângulo 10"/>
            <p:cNvSpPr/>
            <p:nvPr/>
          </p:nvSpPr>
          <p:spPr>
            <a:xfrm>
              <a:off x="279360" y="695160"/>
              <a:ext cx="5372280" cy="61628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407fdc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tângulo 10"/>
            <p:cNvSpPr/>
            <p:nvPr/>
          </p:nvSpPr>
          <p:spPr>
            <a:xfrm>
              <a:off x="641160" y="1110960"/>
              <a:ext cx="4648320" cy="53312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f2f2f2"/>
            </a:solidFill>
            <a:ln w="25560">
              <a:solidFill>
                <a:srgbClr val="407f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tângulo 11"/>
            <p:cNvSpPr/>
            <p:nvPr/>
          </p:nvSpPr>
          <p:spPr>
            <a:xfrm>
              <a:off x="1044360" y="1110960"/>
              <a:ext cx="3841920" cy="53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17375e"/>
                  </a:solidFill>
                  <a:latin typeface="Calibri"/>
                </a:rPr>
                <a:t>No Capital Humano das novas geraçõ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17375e"/>
                  </a:solidFill>
                  <a:latin typeface="Calibri"/>
                </a:rPr>
                <a:t>EXPERIÊNC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17375e"/>
                  </a:solidFill>
                  <a:latin typeface="Calibri"/>
                </a:rPr>
                <a:t>O Sistema precisa praticar gestão política junto a órgãos como o MEC e o Congresso Nacional, visando à aprovação de leis que beneficiem a Categoria e a boa formação na Área Tecnológica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17375e"/>
                  </a:solidFill>
                  <a:latin typeface="Calibri"/>
                </a:rPr>
                <a:t>E POR FALAR EM LEI..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 u="sng">
                  <a:solidFill>
                    <a:srgbClr val="17375e"/>
                  </a:solidFill>
                  <a:uFillTx/>
                  <a:latin typeface="Calibri"/>
                </a:rPr>
                <a:t>Revisão Já </a:t>
              </a:r>
              <a:r>
                <a:rPr b="0" lang="pt-BR" sz="1400" spc="-1" strike="noStrike">
                  <a:solidFill>
                    <a:srgbClr val="17375e"/>
                  </a:solidFill>
                  <a:latin typeface="Calibri"/>
                </a:rPr>
                <a:t>da cinquentenária 5.194/66 e da 8.666/9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17375e"/>
                  </a:solidFill>
                  <a:latin typeface="Calibri"/>
                </a:rPr>
                <a:t>EXPERIÊNCIA + SANGUE NO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17375e"/>
                  </a:solidFill>
                  <a:latin typeface="Calibri"/>
                </a:rPr>
                <a:t>Maior participação no Sistema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upo 16"/>
          <p:cNvGrpSpPr/>
          <p:nvPr/>
        </p:nvGrpSpPr>
        <p:grpSpPr>
          <a:xfrm>
            <a:off x="6172200" y="404640"/>
            <a:ext cx="2476440" cy="2840040"/>
            <a:chOff x="6172200" y="404640"/>
            <a:chExt cx="2476440" cy="2840040"/>
          </a:xfrm>
        </p:grpSpPr>
        <p:grpSp>
          <p:nvGrpSpPr>
            <p:cNvPr id="197" name="Grupo 17"/>
            <p:cNvGrpSpPr/>
            <p:nvPr/>
          </p:nvGrpSpPr>
          <p:grpSpPr>
            <a:xfrm>
              <a:off x="6172200" y="404640"/>
              <a:ext cx="2476440" cy="2840040"/>
              <a:chOff x="6172200" y="404640"/>
              <a:chExt cx="2476440" cy="2840040"/>
            </a:xfrm>
          </p:grpSpPr>
          <p:sp>
            <p:nvSpPr>
              <p:cNvPr id="198" name="Retângulo 10"/>
              <p:cNvSpPr/>
              <p:nvPr/>
            </p:nvSpPr>
            <p:spPr>
              <a:xfrm>
                <a:off x="6172200" y="404640"/>
                <a:ext cx="2476440" cy="284004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407fdc">
                  <a:alpha val="3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tângulo 10"/>
              <p:cNvSpPr/>
              <p:nvPr/>
            </p:nvSpPr>
            <p:spPr>
              <a:xfrm>
                <a:off x="6338880" y="612360"/>
                <a:ext cx="2143080" cy="245592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0c2344"/>
              </a:solidFill>
              <a:ln w="25560">
                <a:solidFill>
                  <a:srgbClr val="407f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Retângulo 21"/>
              <p:cNvSpPr/>
              <p:nvPr/>
            </p:nvSpPr>
            <p:spPr>
              <a:xfrm>
                <a:off x="6470640" y="1043640"/>
                <a:ext cx="1792440" cy="66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Retângulo 18"/>
            <p:cNvSpPr/>
            <p:nvPr/>
          </p:nvSpPr>
          <p:spPr>
            <a:xfrm>
              <a:off x="6339600" y="1178640"/>
              <a:ext cx="214236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CLUSÃO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NDE</a:t>
              </a:r>
              <a:r>
                <a:rPr b="1" lang="pt-BR" sz="3200" spc="-1" strike="noStrike">
                  <a:solidFill>
                    <a:srgbClr val="92d050"/>
                  </a:solidFill>
                  <a:latin typeface="Calibri"/>
                  <a:ea typeface="Arial"/>
                </a:rPr>
                <a:t> INVESTIR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tângulo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7162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Imagem 8" descr=""/>
          <p:cNvPicPr/>
          <p:nvPr/>
        </p:nvPicPr>
        <p:blipFill>
          <a:blip r:embed="rId2"/>
          <a:stretch/>
        </p:blipFill>
        <p:spPr>
          <a:xfrm>
            <a:off x="-2484360" y="-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Imagem 16" descr=""/>
          <p:cNvPicPr/>
          <p:nvPr/>
        </p:nvPicPr>
        <p:blipFill>
          <a:blip r:embed="rId3"/>
          <a:stretch/>
        </p:blipFill>
        <p:spPr>
          <a:xfrm>
            <a:off x="241128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Imagem 5" descr=""/>
          <p:cNvPicPr/>
          <p:nvPr/>
        </p:nvPicPr>
        <p:blipFill>
          <a:blip r:embed="rId4"/>
          <a:stretch/>
        </p:blipFill>
        <p:spPr>
          <a:xfrm>
            <a:off x="2778120" y="4659480"/>
            <a:ext cx="2952720" cy="664920"/>
          </a:xfrm>
          <a:prstGeom prst="rect">
            <a:avLst/>
          </a:prstGeom>
          <a:ln w="0">
            <a:noFill/>
          </a:ln>
        </p:spPr>
      </p:pic>
      <p:sp>
        <p:nvSpPr>
          <p:cNvPr id="206" name="Retângulo 2"/>
          <p:cNvSpPr/>
          <p:nvPr/>
        </p:nvSpPr>
        <p:spPr>
          <a:xfrm>
            <a:off x="1403280" y="1965240"/>
            <a:ext cx="6121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Calibri"/>
                <a:ea typeface="Arial"/>
              </a:rPr>
              <a:t>OBRIGADO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tângulo 2"/>
          <p:cNvSpPr/>
          <p:nvPr/>
        </p:nvSpPr>
        <p:spPr>
          <a:xfrm>
            <a:off x="1069920" y="3137040"/>
            <a:ext cx="66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Eng. Vinicius Marchese Marinelli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Presid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2"/>
          <p:cNvSpPr/>
          <p:nvPr/>
        </p:nvSpPr>
        <p:spPr>
          <a:xfrm>
            <a:off x="3851280" y="139680"/>
            <a:ext cx="5292720" cy="6602400"/>
          </a:xfrm>
          <a:custGeom>
            <a:avLst/>
            <a:gdLst/>
            <a:ahLst/>
            <a:rect l="l" t="t" r="r" b="b"/>
            <a:pathLst>
              <a:path w="4475381" h="6602153">
                <a:moveTo>
                  <a:pt x="0" y="0"/>
                </a:moveTo>
                <a:lnTo>
                  <a:pt x="4475381" y="337457"/>
                </a:lnTo>
                <a:lnTo>
                  <a:pt x="4475381" y="6602153"/>
                </a:lnTo>
                <a:lnTo>
                  <a:pt x="10885" y="6057868"/>
                </a:lnTo>
                <a:cubicBezTo>
                  <a:pt x="7257" y="3857150"/>
                  <a:pt x="3628" y="2200718"/>
                  <a:pt x="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ângulo 11"/>
          <p:cNvSpPr/>
          <p:nvPr/>
        </p:nvSpPr>
        <p:spPr>
          <a:xfrm>
            <a:off x="3995640" y="1773360"/>
            <a:ext cx="4032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Século 19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surgem as Escolas de Engenharia Militar, para aprimorar a mão de obra na edificação de fortificaçõ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876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 criação do Liceu de Artes e Ofícios de São Paul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880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fundação do Clube de Engenharia do Rio de Janei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upo 12"/>
          <p:cNvGrpSpPr/>
          <p:nvPr/>
        </p:nvGrpSpPr>
        <p:grpSpPr>
          <a:xfrm>
            <a:off x="684360" y="2008080"/>
            <a:ext cx="2476440" cy="2840040"/>
            <a:chOff x="684360" y="2008080"/>
            <a:chExt cx="2476440" cy="2840040"/>
          </a:xfrm>
        </p:grpSpPr>
        <p:grpSp>
          <p:nvGrpSpPr>
            <p:cNvPr id="70" name="Grupo 17"/>
            <p:cNvGrpSpPr/>
            <p:nvPr/>
          </p:nvGrpSpPr>
          <p:grpSpPr>
            <a:xfrm>
              <a:off x="684360" y="2008080"/>
              <a:ext cx="2476440" cy="2840040"/>
              <a:chOff x="684360" y="2008080"/>
              <a:chExt cx="2476440" cy="2840040"/>
            </a:xfrm>
          </p:grpSpPr>
          <p:sp>
            <p:nvSpPr>
              <p:cNvPr id="71" name="Retângulo 10"/>
              <p:cNvSpPr/>
              <p:nvPr/>
            </p:nvSpPr>
            <p:spPr>
              <a:xfrm>
                <a:off x="684360" y="2008080"/>
                <a:ext cx="2476440" cy="284004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95b3d7">
                  <a:alpha val="3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Retângulo 10"/>
              <p:cNvSpPr/>
              <p:nvPr/>
            </p:nvSpPr>
            <p:spPr>
              <a:xfrm>
                <a:off x="851040" y="2199960"/>
                <a:ext cx="2143080" cy="245592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376092"/>
              </a:solidFill>
              <a:ln w="25560">
                <a:solidFill>
                  <a:srgbClr val="1025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tângulo 21"/>
              <p:cNvSpPr/>
              <p:nvPr/>
            </p:nvSpPr>
            <p:spPr>
              <a:xfrm>
                <a:off x="982800" y="2647080"/>
                <a:ext cx="1792440" cy="66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tângulo 18"/>
            <p:cNvSpPr/>
            <p:nvPr/>
          </p:nvSpPr>
          <p:spPr>
            <a:xfrm>
              <a:off x="851040" y="2781000"/>
              <a:ext cx="21416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b9cde5"/>
                  </a:solidFill>
                  <a:latin typeface="Calibri"/>
                  <a:ea typeface="Arial"/>
                </a:rPr>
                <a:t>PRIMEIRAS</a:t>
              </a:r>
              <a:r>
                <a:rPr b="1" lang="pt-BR" sz="2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INSTITUIÇÕES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 ENTIDADE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ângulo 2"/>
          <p:cNvSpPr/>
          <p:nvPr/>
        </p:nvSpPr>
        <p:spPr>
          <a:xfrm>
            <a:off x="3851280" y="139680"/>
            <a:ext cx="5292720" cy="6602400"/>
          </a:xfrm>
          <a:custGeom>
            <a:avLst/>
            <a:gdLst/>
            <a:ahLst/>
            <a:rect l="l" t="t" r="r" b="b"/>
            <a:pathLst>
              <a:path w="4475381" h="6602153">
                <a:moveTo>
                  <a:pt x="0" y="0"/>
                </a:moveTo>
                <a:lnTo>
                  <a:pt x="4475381" y="337457"/>
                </a:lnTo>
                <a:lnTo>
                  <a:pt x="4475381" y="6602153"/>
                </a:lnTo>
                <a:lnTo>
                  <a:pt x="10885" y="6057868"/>
                </a:lnTo>
                <a:cubicBezTo>
                  <a:pt x="7257" y="3857150"/>
                  <a:pt x="3628" y="2200718"/>
                  <a:pt x="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tângulo 11"/>
          <p:cNvSpPr/>
          <p:nvPr/>
        </p:nvSpPr>
        <p:spPr>
          <a:xfrm>
            <a:off x="3995640" y="1225440"/>
            <a:ext cx="403236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886 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criação da Comissão Geográfica e Geológica do Estado de São Paulo (hoje Instituto de Astronomia, Geofísica e Ciências Atmosféricas da USP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893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Escola Politécnica de São Paulo inicia as atividad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901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criação da Escola Agrícola Prática de Piracicaba (atual ESALQ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916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fundação do Instituto de Engenharia de São Paul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2"/>
          <p:cNvSpPr/>
          <p:nvPr/>
        </p:nvSpPr>
        <p:spPr>
          <a:xfrm>
            <a:off x="3851280" y="139680"/>
            <a:ext cx="5292720" cy="6602400"/>
          </a:xfrm>
          <a:custGeom>
            <a:avLst/>
            <a:gdLst/>
            <a:ahLst/>
            <a:rect l="l" t="t" r="r" b="b"/>
            <a:pathLst>
              <a:path w="4475381" h="6602153">
                <a:moveTo>
                  <a:pt x="0" y="0"/>
                </a:moveTo>
                <a:lnTo>
                  <a:pt x="4475381" y="337457"/>
                </a:lnTo>
                <a:lnTo>
                  <a:pt x="4475381" y="6602153"/>
                </a:lnTo>
                <a:lnTo>
                  <a:pt x="10885" y="6057868"/>
                </a:lnTo>
                <a:cubicBezTo>
                  <a:pt x="7257" y="3857150"/>
                  <a:pt x="3628" y="2200718"/>
                  <a:pt x="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tângulo 11"/>
          <p:cNvSpPr/>
          <p:nvPr/>
        </p:nvSpPr>
        <p:spPr>
          <a:xfrm>
            <a:off x="4024440" y="763560"/>
            <a:ext cx="443520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930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 criação da primeira Autarquia de Fiscalização do Exercício Profissional = OA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933/1934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criação do Sistema Confea/Crea – Conselho Federal + 8 Regiona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934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criação da Universidade de São Paulo (POLI e ESALQ são incorporadas à USP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947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criação da Faculdade e Arquitetura do Instituto Mackenz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948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criação da Faculdade de Arquitetura e Urbanismo da USP (FAU).</a:t>
            </a:r>
            <a:br>
              <a:rPr sz="1800"/>
            </a:br>
            <a:r>
              <a:rPr b="1" lang="pt-BR" sz="1800" spc="-1" strike="noStrike" u="sng">
                <a:solidFill>
                  <a:srgbClr val="17375e"/>
                </a:solidFill>
                <a:uFillTx/>
                <a:latin typeface="Calibri"/>
              </a:rPr>
              <a:t>1955</a:t>
            </a:r>
            <a:r>
              <a:rPr b="1" lang="pt-BR" sz="1800" spc="-1" strike="noStrike">
                <a:solidFill>
                  <a:srgbClr val="17375e"/>
                </a:solidFill>
                <a:latin typeface="Calibri"/>
              </a:rPr>
              <a:t> |</a:t>
            </a:r>
            <a:r>
              <a:rPr b="0" lang="pt-BR" sz="1800" spc="-1" strike="noStrike">
                <a:solidFill>
                  <a:srgbClr val="17375e"/>
                </a:solidFill>
                <a:latin typeface="Calibri"/>
              </a:rPr>
              <a:t> início da construção de Brasíl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tângulo 2"/>
          <p:cNvSpPr/>
          <p:nvPr/>
        </p:nvSpPr>
        <p:spPr>
          <a:xfrm>
            <a:off x="3851280" y="139680"/>
            <a:ext cx="5292720" cy="6602400"/>
          </a:xfrm>
          <a:custGeom>
            <a:avLst/>
            <a:gdLst/>
            <a:ahLst/>
            <a:rect l="l" t="t" r="r" b="b"/>
            <a:pathLst>
              <a:path w="4475381" h="6602153">
                <a:moveTo>
                  <a:pt x="0" y="0"/>
                </a:moveTo>
                <a:lnTo>
                  <a:pt x="4475381" y="337457"/>
                </a:lnTo>
                <a:lnTo>
                  <a:pt x="4475381" y="6602153"/>
                </a:lnTo>
                <a:lnTo>
                  <a:pt x="10885" y="6057868"/>
                </a:lnTo>
                <a:cubicBezTo>
                  <a:pt x="7257" y="3857150"/>
                  <a:pt x="3628" y="2200718"/>
                  <a:pt x="0" y="0"/>
                </a:cubicBezTo>
                <a:close/>
              </a:path>
            </a:pathLst>
          </a:cu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ângulo 11"/>
          <p:cNvSpPr/>
          <p:nvPr/>
        </p:nvSpPr>
        <p:spPr>
          <a:xfrm>
            <a:off x="4067280" y="709560"/>
            <a:ext cx="48258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1966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ei Federal nº 5.194, de 24 de dezembro de 1966. Com a regulamentação, Engenharias ganham visibilidade no Governo Milit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1966-1983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|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oom da Engenharia no Brasil – Megaempreendi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Mais estradas e grandes hidrelétricas, ênfase à petroquímica, à construção civil do mercado imobiliário, além de novos aeroportos, usinas nucleares e desenvolvimento da aeronáutica, estaleiros, automação na indústria automobilística, mecanização na agricultura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ângulo 2"/>
          <p:cNvSpPr/>
          <p:nvPr/>
        </p:nvSpPr>
        <p:spPr>
          <a:xfrm>
            <a:off x="3851280" y="139680"/>
            <a:ext cx="5292720" cy="6602400"/>
          </a:xfrm>
          <a:custGeom>
            <a:avLst/>
            <a:gdLst/>
            <a:ahLst/>
            <a:rect l="l" t="t" r="r" b="b"/>
            <a:pathLst>
              <a:path w="4475381" h="6602153">
                <a:moveTo>
                  <a:pt x="0" y="0"/>
                </a:moveTo>
                <a:lnTo>
                  <a:pt x="4475381" y="337457"/>
                </a:lnTo>
                <a:lnTo>
                  <a:pt x="4475381" y="6602153"/>
                </a:lnTo>
                <a:lnTo>
                  <a:pt x="10885" y="6057868"/>
                </a:lnTo>
                <a:cubicBezTo>
                  <a:pt x="7257" y="3857150"/>
                  <a:pt x="3628" y="2200718"/>
                  <a:pt x="0" y="0"/>
                </a:cubicBezTo>
                <a:close/>
              </a:path>
            </a:pathLst>
          </a:cu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tângulo 11"/>
          <p:cNvSpPr/>
          <p:nvPr/>
        </p:nvSpPr>
        <p:spPr>
          <a:xfrm>
            <a:off x="4067280" y="957240"/>
            <a:ext cx="496872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1980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A história do engenheiro que virou suco (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fissional que abriu casa de sucos porque não conseguia trabalh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) – Declínio do mercado para os profissionais da Engenhar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Hoje (1987- 20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randes construtoras e políticos envolvidos na prática da prop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liferação desenfreada de cursos de Engenh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rescimento das tentativas de registro com documentação fal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realidade dos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caneteiros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no 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viltamento do Salário Mínimo Profiss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2" descr=""/>
          <p:cNvPicPr/>
          <p:nvPr/>
        </p:nvPicPr>
        <p:blipFill>
          <a:blip r:embed="rId2"/>
          <a:stretch/>
        </p:blipFill>
        <p:spPr>
          <a:xfrm>
            <a:off x="12600" y="-161136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84" name="Imagem 3" descr=""/>
          <p:cNvPicPr/>
          <p:nvPr/>
        </p:nvPicPr>
        <p:blipFill>
          <a:blip r:embed="rId3"/>
          <a:stretch/>
        </p:blipFill>
        <p:spPr>
          <a:xfrm>
            <a:off x="2301840" y="-110664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5"/>
          <p:cNvSpPr/>
          <p:nvPr/>
        </p:nvSpPr>
        <p:spPr>
          <a:xfrm>
            <a:off x="0" y="1989000"/>
            <a:ext cx="915984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76092"/>
                </a:solidFill>
                <a:uFillTx/>
                <a:latin typeface="Calibri"/>
              </a:rPr>
              <a:t>A CULPA É DOS ENGENHEIROS COMO UM TODO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76092"/>
                </a:solidFill>
                <a:latin typeface="Calibri"/>
              </a:rPr>
              <a:t>NÃO! Só se for pela falta de engajamento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76092"/>
                </a:solidFill>
                <a:uFillTx/>
                <a:latin typeface="Calibri"/>
              </a:rPr>
              <a:t>MESMO ASSIM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a maioria dos jovens quer ser Engenheiro, porque há mercado e ainda paga melhor que as outras profissões. Vejamos os dados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upo 13"/>
          <p:cNvGrpSpPr/>
          <p:nvPr/>
        </p:nvGrpSpPr>
        <p:grpSpPr>
          <a:xfrm>
            <a:off x="3276720" y="695160"/>
            <a:ext cx="5371920" cy="6162840"/>
            <a:chOff x="3276720" y="695160"/>
            <a:chExt cx="5371920" cy="6162840"/>
          </a:xfrm>
        </p:grpSpPr>
        <p:sp>
          <p:nvSpPr>
            <p:cNvPr id="87" name="Retângulo 10"/>
            <p:cNvSpPr/>
            <p:nvPr/>
          </p:nvSpPr>
          <p:spPr>
            <a:xfrm>
              <a:off x="3276720" y="695160"/>
              <a:ext cx="5371920" cy="61628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407fdc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tângulo 10"/>
            <p:cNvSpPr/>
            <p:nvPr/>
          </p:nvSpPr>
          <p:spPr>
            <a:xfrm>
              <a:off x="3638520" y="1110960"/>
              <a:ext cx="4648320" cy="5331240"/>
            </a:xfrm>
            <a:custGeom>
              <a:avLst/>
              <a:gdLst/>
              <a:ahLst/>
              <a:rect l="l" t="t" r="r" b="b"/>
              <a:pathLst>
                <a:path w="2314905" h="2655222">
                  <a:moveTo>
                    <a:pt x="1154219" y="0"/>
                  </a:moveTo>
                  <a:lnTo>
                    <a:pt x="2304905" y="664617"/>
                  </a:lnTo>
                  <a:cubicBezTo>
                    <a:pt x="2302953" y="1198623"/>
                    <a:pt x="2316667" y="1454068"/>
                    <a:pt x="2314715" y="1988074"/>
                  </a:cubicBezTo>
                  <a:lnTo>
                    <a:pt x="1131751" y="2655222"/>
                  </a:lnTo>
                  <a:lnTo>
                    <a:pt x="0" y="1994688"/>
                  </a:lnTo>
                  <a:cubicBezTo>
                    <a:pt x="108" y="1488635"/>
                    <a:pt x="1009" y="1162824"/>
                    <a:pt x="1117" y="656771"/>
                  </a:cubicBezTo>
                  <a:lnTo>
                    <a:pt x="1154219" y="0"/>
                  </a:lnTo>
                  <a:close/>
                </a:path>
              </a:pathLst>
            </a:custGeom>
            <a:solidFill>
              <a:srgbClr val="f2f2f2"/>
            </a:solidFill>
            <a:ln w="25560">
              <a:solidFill>
                <a:srgbClr val="407f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tângulo 11"/>
            <p:cNvSpPr/>
            <p:nvPr/>
          </p:nvSpPr>
          <p:spPr>
            <a:xfrm>
              <a:off x="3638520" y="1110960"/>
              <a:ext cx="4648320" cy="53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17375e"/>
                  </a:solidFill>
                  <a:latin typeface="Calibri"/>
                </a:rPr>
                <a:t>Sim, segundo o..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17375e"/>
                  </a:solidFill>
                  <a:latin typeface="Calibri"/>
                </a:rPr>
                <a:t>RELATÓRIO ENGENHARIADATA 2015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17375e"/>
                  </a:solidFill>
                  <a:latin typeface="Calibri"/>
                </a:rPr>
                <a:t>Formação e Mercado de Trabalho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17375e"/>
                  </a:solidFill>
                  <a:latin typeface="Calibri"/>
                </a:rPr>
                <a:t>em Engenharia no Brasil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17375e"/>
                  </a:solidFill>
                  <a:latin typeface="Calibri"/>
                </a:rPr>
                <a:t>Observatório da Inovação e Competitividade da Universidade de São Paulo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upo 16"/>
          <p:cNvGrpSpPr/>
          <p:nvPr/>
        </p:nvGrpSpPr>
        <p:grpSpPr>
          <a:xfrm>
            <a:off x="511200" y="804960"/>
            <a:ext cx="2476440" cy="2840040"/>
            <a:chOff x="511200" y="804960"/>
            <a:chExt cx="2476440" cy="2840040"/>
          </a:xfrm>
        </p:grpSpPr>
        <p:grpSp>
          <p:nvGrpSpPr>
            <p:cNvPr id="91" name="Grupo 17"/>
            <p:cNvGrpSpPr/>
            <p:nvPr/>
          </p:nvGrpSpPr>
          <p:grpSpPr>
            <a:xfrm>
              <a:off x="511200" y="804960"/>
              <a:ext cx="2476440" cy="2840040"/>
              <a:chOff x="511200" y="804960"/>
              <a:chExt cx="2476440" cy="2840040"/>
            </a:xfrm>
          </p:grpSpPr>
          <p:sp>
            <p:nvSpPr>
              <p:cNvPr id="92" name="Retângulo 10"/>
              <p:cNvSpPr/>
              <p:nvPr/>
            </p:nvSpPr>
            <p:spPr>
              <a:xfrm>
                <a:off x="511200" y="804960"/>
                <a:ext cx="2476440" cy="284004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407fdc">
                  <a:alpha val="3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tângulo 10"/>
              <p:cNvSpPr/>
              <p:nvPr/>
            </p:nvSpPr>
            <p:spPr>
              <a:xfrm>
                <a:off x="677880" y="996840"/>
                <a:ext cx="2143080" cy="2455920"/>
              </a:xfrm>
              <a:custGeom>
                <a:avLst/>
                <a:gdLst/>
                <a:ahLst/>
                <a:rect l="l" t="t" r="r" b="b"/>
                <a:pathLst>
                  <a:path w="2314905" h="2655222">
                    <a:moveTo>
                      <a:pt x="1154219" y="0"/>
                    </a:moveTo>
                    <a:lnTo>
                      <a:pt x="2304905" y="664617"/>
                    </a:lnTo>
                    <a:cubicBezTo>
                      <a:pt x="2302953" y="1198623"/>
                      <a:pt x="2316667" y="1454068"/>
                      <a:pt x="2314715" y="1988074"/>
                    </a:cubicBezTo>
                    <a:lnTo>
                      <a:pt x="1131751" y="2655222"/>
                    </a:lnTo>
                    <a:lnTo>
                      <a:pt x="0" y="1994688"/>
                    </a:lnTo>
                    <a:cubicBezTo>
                      <a:pt x="108" y="1488635"/>
                      <a:pt x="1009" y="1162824"/>
                      <a:pt x="1117" y="656771"/>
                    </a:cubicBezTo>
                    <a:lnTo>
                      <a:pt x="1154219" y="0"/>
                    </a:lnTo>
                    <a:close/>
                  </a:path>
                </a:pathLst>
              </a:custGeom>
              <a:solidFill>
                <a:srgbClr val="0c2344"/>
              </a:solidFill>
              <a:ln w="25560">
                <a:solidFill>
                  <a:srgbClr val="407f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tângulo 21"/>
              <p:cNvSpPr/>
              <p:nvPr/>
            </p:nvSpPr>
            <p:spPr>
              <a:xfrm>
                <a:off x="809640" y="1443960"/>
                <a:ext cx="1792440" cy="66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" name="Retângulo 18"/>
            <p:cNvSpPr/>
            <p:nvPr/>
          </p:nvSpPr>
          <p:spPr>
            <a:xfrm>
              <a:off x="677880" y="1809720"/>
              <a:ext cx="214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s perspectivas </a:t>
              </a:r>
              <a:r>
                <a:rPr b="1" lang="pt-BR" sz="2400" spc="-1" strike="noStrike">
                  <a:solidFill>
                    <a:srgbClr val="8eb4e3"/>
                  </a:solidFill>
                  <a:latin typeface="Calibri"/>
                  <a:ea typeface="Arial"/>
                </a:rPr>
                <a:t>são boas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tângulo 2"/>
          <p:cNvSpPr/>
          <p:nvPr/>
        </p:nvSpPr>
        <p:spPr>
          <a:xfrm>
            <a:off x="33480" y="1440"/>
            <a:ext cx="896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54061"/>
                </a:solidFill>
                <a:latin typeface="Calibri"/>
                <a:ea typeface="Arial"/>
              </a:rPr>
              <a:t>FORMAÇÃO, MERCADO E A </a:t>
            </a:r>
            <a:r>
              <a:rPr b="1" lang="pt-BR" sz="2200" spc="-1" strike="noStrike">
                <a:solidFill>
                  <a:srgbClr val="254061"/>
                </a:solidFill>
                <a:latin typeface="Calibri"/>
                <a:ea typeface="Arial"/>
              </a:rPr>
              <a:t>NECESSIDADE DO MARKETING ÉT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5T10:49:11Z</dcterms:created>
  <dc:creator>SUSAN PEREIRA SIQUEIRA</dc:creator>
  <dc:description/>
  <dc:language>en-US</dc:language>
  <cp:lastModifiedBy>usuario</cp:lastModifiedBy>
  <cp:lastPrinted>2017-04-12T15:32:42Z</cp:lastPrinted>
  <dcterms:modified xsi:type="dcterms:W3CDTF">2017-07-05T12:40:59Z</dcterms:modified>
  <cp:revision>403</cp:revision>
  <dc:subject/>
  <dc:title>Apresentação do PowerPoint</dc:title>
</cp:coreProperties>
</file>