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16F1-BA44-43FA-8233-D271B27A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AB97-F38D-4D88-9D1A-FFA432F8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A68A-D91A-4158-9378-463F8D5B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CD76-B6DA-41DA-9620-4CEB4FA3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4147-E08A-4203-81DC-EB5555B5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4D95-36EA-480C-8F1D-EBD76293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77C8-F274-47B8-A99B-647E352B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2977-E8AF-47B9-AE3A-2F458317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84A3-F16C-411C-9336-3C226D93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7315-2B62-42EE-BBA0-08016913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B0AF-0829-4C09-A53D-6BAA5F70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6E6E-E4BF-45A6-A88A-98238844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536D-628C-4755-A5D7-4E582386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47A4-9314-4A85-ADEB-29E01C90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7DC1-FAC2-45A9-AEDC-1363DDB2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8D09-6F94-4BF1-B538-76725EF7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A4D8-0CC3-4601-9EAA-74F5A987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C9028-6A71-48F9-ADBE-C6C4F851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FAEFC-1876-47F4-84D0-9825D6A3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A6168-8638-4FF5-99E3-48BC12F0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58899-912E-46E2-BBFA-0501E523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A854A-25A0-4485-811C-4E2E60E9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A3F-245F-4AE7-8E61-CAB54368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CE4F6-F01E-48D9-AD5C-92C5E7D8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CE790-3E5C-4413-A2A2-E41ADE79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29D52-DB5E-4398-B0E9-53C82D4E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7BBED-A5E0-41DE-A414-A7F11CF2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8CB85-F43C-4547-9DC6-DDF3BD4A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9D294-C02F-4FE5-8669-B906F05E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ED03A-CD9F-4CAD-9B57-DB25601C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B757C-58B8-4204-A6FE-0F077144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6164C-3039-49F1-8128-78E4C948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D3C79-C075-4126-89FD-FD6D7AEF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0A7-18AC-4B97-8A6D-4611A0F5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B3A12-5058-41B8-84CA-974E6688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3CE36-CBA5-4BE1-91F9-9E4298D6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C5A9B-DD9A-4C3D-AC94-CC459EC6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D1893-4864-465B-89E7-5B2DF955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CC150-5F93-454B-B297-191B75C1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A43FA-1CE3-46E2-AE54-299CCC17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C40C4-1595-4A3C-A5C2-F681BC4E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79641-1E36-45C7-8946-E9E81C50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3E1F7-512C-4F7F-87A5-DED06FEA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949D-98C1-4A2D-BA60-83245202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E83D-8372-414A-AFD6-AAE09F41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349-AB1B-4023-B7F9-146A791B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9638-5F1D-40B7-8BE0-11963BA2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61C-0DF2-4CAD-BC85-965AE64E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709D-05AA-4613-B6E6-3464A323E001}" type="slidenum">
              <a:rPr b="0" lang="pt-B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B60D-C31B-4D74-832B-7F9343C1DDB3}" type="slidenum">
              <a:rPr b="0" lang="pt-BR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C9AA-EE43-4040-AA78-1D8EAE0F87C5}" type="slidenum">
              <a:rPr b="0" lang="pt-BR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ECA3-5ACE-4146-8624-C9101CE8A590}" type="slidenum">
              <a:rPr b="0" lang="pt-B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MODELO%20DE%20RELAT&#211;RIO/Pauta%20de%20reuni&#227;o%20de%20CAF%20UOP.doc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MODELO%20DE%20RELAT&#211;RIO/Pauta%20de%20reuni&#227;o%20de%20CAF%20UGI.doc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mailto:supfis@creasp.org.br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Arial Black"/>
                <a:ea typeface="Aharoni"/>
              </a:rPr>
              <a:t>6.º SEMINÁRIO DE INTEGRAÇÃO DE INSPETORES E CORPO GERENCIAL DO CREA-SP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 Black"/>
                <a:ea typeface="Aharon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44672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Black"/>
                <a:ea typeface="Aharoni"/>
              </a:rPr>
              <a:t>REUNIÃO DE  CAF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APRESENTAÇÃO DE MODELO DE PAU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44672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Black"/>
              </a:rPr>
              <a:t>UTILIDADE DA PAUTA PARA OS INSPETORES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Conhecimento dos trabalhos desenvolvidos pela fiscalização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Auxílio nas atividades de fiscalizaçã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44672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 Black"/>
              </a:rPr>
              <a:t>MODELO DE PAUTA PARA UOP’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44672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f49100"/>
                </a:solidFill>
                <a:uFillTx/>
                <a:latin typeface="Arial Black"/>
                <a:hlinkClick r:id="rId1"/>
              </a:rPr>
              <a:t>MODELO DE RELATÓRIO\Pauta de reunião de CAF UOP.do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44672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 Black"/>
              </a:rPr>
              <a:t>MODELO DE PAUTA PARA UGI’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44672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4467240" cy="10288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611280" y="29239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MODELO DE RELATÓRIO\Pauta de reunião de CAF UGI.do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Black"/>
              </a:rPr>
              <a:t>MODELO DE PAUTA DE UOP: MAIS DETALHAD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Black"/>
              </a:rPr>
              <a:t>MODELO DE PAUTA DE UGI: POR QUANTIFICAÇÃO EM RAZÃO DO VOLUME DE SERVIÇO</a:t>
            </a: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44672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4467240" cy="1028880"/>
          </a:xfrm>
          <a:prstGeom prst="rect">
            <a:avLst/>
          </a:prstGeom>
          <a:ln w="0">
            <a:noFill/>
          </a:ln>
        </p:spPr>
      </p:pic>
      <p:sp>
        <p:nvSpPr>
          <p:cNvPr id="212" name="Retângulo 2"/>
          <p:cNvSpPr/>
          <p:nvPr/>
        </p:nvSpPr>
        <p:spPr>
          <a:xfrm>
            <a:off x="900000" y="2338560"/>
            <a:ext cx="748836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MUITO OBRIGADO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Eng. Civ. Luiz Roberto Sega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Superintendente de Fiscalização</a:t>
            </a:r>
            <a:br>
              <a:rPr sz="2800"/>
            </a:br>
            <a:br>
              <a:rPr sz="2800"/>
            </a:br>
            <a:r>
              <a:rPr b="0" lang="pt-BR" sz="2800" spc="-1" strike="noStrike" u="sng">
                <a:solidFill>
                  <a:srgbClr val="f49100"/>
                </a:solidFill>
                <a:uFillTx/>
                <a:latin typeface="Arial Black"/>
                <a:hlinkClick r:id="rId2"/>
              </a:rPr>
              <a:t>supfis@creasp.org.br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SUPFIS - CREA-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8:11:22Z</dcterms:created>
  <dc:creator>Usuario</dc:creator>
  <dc:description/>
  <dc:language>en-US</dc:language>
  <cp:lastModifiedBy>Usuario</cp:lastModifiedBy>
  <dcterms:modified xsi:type="dcterms:W3CDTF">2012-04-16T16:26:16Z</dcterms:modified>
  <cp:revision>5</cp:revision>
  <dc:subject/>
  <dc:title>Apresentação do PowerPoint</dc:title>
</cp:coreProperties>
</file>