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F7F-EB2F-4422-AD6D-1088B028B3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26C4-12BE-467F-AF7A-0E3870BDD5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1138-B73C-4771-B5AF-77ED703A759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C1D-9DE2-44E8-BC1D-4A9EFE5930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A18-0722-4A25-A8E3-5E57466977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443-076B-4790-9F1E-3EEF191777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50A6-DA62-4B0A-9300-F7FE3F0D6F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85E-BC68-47BE-9F78-AF7D294BC6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510-870A-448C-92BC-1595D68A03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EDC-C06C-4C7F-ABE1-84E05274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08F-1F42-4735-BAE7-00A1263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65A-4EF3-400C-99C2-58A7B372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3D7-C5DB-48D6-9262-6E8CEEDA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FEE-2A8F-4D73-BE40-EFDD73BD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7D3-BF9C-4D99-ABF8-596E5EE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092-BD80-45EC-9899-A5C318A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1C7-E25E-4F42-8830-6094405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A40-6252-4095-9466-FEA322B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ADE-B979-46C6-910F-DFD9DAA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CD0-52B6-4919-9AE9-BD610CD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826-79C8-4EF0-8F52-D0457BB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2C9-BFCC-4834-91B3-BEBC0878BB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333cc"/>
                </a:solidFill>
                <a:latin typeface="Times New Roman"/>
              </a:rPr>
              <a:t>Lei 5.194/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gula o exercício das profissões de Engenheiro, Arquiteto e Engenheiro-Agrônomo, e dá outras providênci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4 - A aplicação do que dispõe esta Lei, a verificação e a fiscalização do exercício e atividades das profissões nela reguladas serão exercidas por um Conselho Federal de Engenharia, Arquitetura e Agronomia (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fea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Conselhos Regionais de Engenharia, Arquitetura e Agronomia (CRE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34 - São atribuições dos Conselhos Regio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) criar inspetorias e nomear inspetores especiais para maior eficiência da fiscal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01592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4 - Cada Conselho Regional terá inspetorias, para fins de fiscalização nas cidades ou zonas onde se fizerem necessá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5 - As Câmaras Especializadas são os órgãos dos Conselhos Regionais encarregados de julgar e decidir sobre os assuntos de fiscalização pertinentes às respectivas especializações profissionais e infrações do Código de É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582560" y="719280"/>
            <a:ext cx="586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ÂMARAS ESPECI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Conselheir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840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7640" y="5545080"/>
            <a:ext cx="5977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8000"/>
                </a:solidFill>
                <a:latin typeface="Impact"/>
                <a:ea typeface="Lucida Sans Unicode"/>
              </a:rPr>
              <a:t>SUPERINTENDÊNCIA DE FISCALIZA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Departamentos / Unidades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 rot="16200000">
            <a:off x="2356560" y="3054960"/>
            <a:ext cx="336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51280" y="3132000"/>
            <a:ext cx="316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6633"/>
                </a:solidFill>
                <a:latin typeface="Impact"/>
                <a:ea typeface="Lucida Sans Unicode"/>
              </a:rPr>
              <a:t>CICLO  DA FISCALIZ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-144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 rot="2700000">
            <a:off x="6648840" y="186768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 rot="8580000">
            <a:off x="6575040" y="453636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 rot="13200000">
            <a:off x="1280880" y="453816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18840000">
            <a:off x="1284840" y="186948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5 - Os profissionais habilitados na forma estabelecida nesta Lei só poderão exercer a profissão após o registro no Conselho Regional sob cuja jurisdição se achar o local de sua ativ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8 - Se o profissional, firma ou organização, registrado em qualquer Conselho Regional, exercer atividade em outra Região, ficará obrigado a visar, nela, o seu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59 - As firmas, sociedades, associações, companhias, cooperativas e empresas em geral, que se organizem para executar obras ou serviços relacionados na forma estabelecida nesta Lei, só poderão iniciar suas atividades depois de promoverem o competente registro nos Conselhos Regionais, bem como o dos profissionais do seu quadro téc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60 - Toda e qualquer firma ou organização que, embora não enquadrada no artigo anterior, tenha alguma seção ligada ao exercício profissional da Engenharia, Arquitetura e Agronomia, na forma estabelecida nesta Lei, é obrigada a requerer o seu registro e a anotação dos profissionais, legalmente habilitados, delas encar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4 - Será automaticamente cancelado o registro do profissional ou da pessoa jurídica que deixar de efetuar o pagamento da anuidade, a que estiver sujeito, durante 2(dois) anos consecutivos sem prejuízo da obrigatoriedade do pagamento da dí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7 - Embora legalmente registrado, só será considerado no legítimo exercício da profissão e atividades de que trata a presente Lei o profissional ou pessoa jurídica que esteja em dia com o pagamento da respectiva anu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89080" y="2057400"/>
            <a:ext cx="2523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C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19520" y="1676520"/>
            <a:ext cx="5921280" cy="1295280"/>
          </a:xfrm>
          <a:prstGeom prst="leftArrowCallout">
            <a:avLst>
              <a:gd name="adj1" fmla="val 22798"/>
              <a:gd name="adj2" fmla="val 25000"/>
              <a:gd name="adj3" fmla="val 55048"/>
              <a:gd name="adj4" fmla="val 77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PROFISS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MPRESAS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INSTITUIÇÃO DE ENSINO / 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NTIDADES DE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219320" y="2666880"/>
            <a:ext cx="701640" cy="1143000"/>
          </a:xfrm>
          <a:prstGeom prst="downArrow">
            <a:avLst>
              <a:gd name="adj1" fmla="val 50000"/>
              <a:gd name="adj2" fmla="val 40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00" y="3846600"/>
            <a:ext cx="252540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74960" y="3276720"/>
            <a:ext cx="5865840" cy="1581120"/>
          </a:xfrm>
          <a:prstGeom prst="leftArrowCallout">
            <a:avLst>
              <a:gd name="adj1" fmla="val 28021"/>
              <a:gd name="adj2" fmla="val 25000"/>
              <a:gd name="adj3" fmla="val 39315"/>
              <a:gd name="adj4" fmla="val 799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IBIR O EXERCÍCIO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6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EGAL DAS PROFISS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R QUEM 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 OU N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 flipV="1">
            <a:off x="1295280" y="4419000"/>
            <a:ext cx="696960" cy="990360"/>
          </a:xfrm>
          <a:prstGeom prst="downArrow">
            <a:avLst>
              <a:gd name="adj1" fmla="val 50000"/>
              <a:gd name="adj2" fmla="val 355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28600" y="5486400"/>
            <a:ext cx="2790720" cy="9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(artigo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o funciona a fiscalizaç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419640" y="5084640"/>
            <a:ext cx="4103640" cy="1152720"/>
          </a:xfrm>
          <a:prstGeom prst="leftArrow">
            <a:avLst>
              <a:gd name="adj1" fmla="val 50000"/>
              <a:gd name="adj2" fmla="val 889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RT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Resolução 10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1 - As penalidades aplicáveis por infração da presente Lei são as seguintes, de acordo com a gravidade da fal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dvertência reserv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censura públ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mu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suspensão temporária do exercício profiss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cancelamento definitivo do regi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2 - As penas de advertência reservada e de censura pública são aplicáveis aos profissionais que deixarem de cumprir disposições do Código de Ética, tendo em vista a gravidade da falta e os casos de reincidência, a critério das respectivas Câmaras Especi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3 - As multas são estipuladas em função do maior valor de referência fixada pelo Poder Executiv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único - As multas referidas neste artigo serão aplicadas em dobro nos casos de reinci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4 - Nos casos de nova reincidência das infrações previstas no artigo anterior, alíneas "c", "d" e "e", será imposta, a critério das Câmaras Especializadas, suspensão temporária do exercício profissional, por prazos variáveis de 6 (seis) meses a 2 (dois) anos e, pelos Conselhos Regionais em pleno, de 2 (dois) a 5 (cinco)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5 - O cancelamento do registro será efetuado por má conduta pública e escândalos praticados pelo profissional ou sua condenação definitiva por crime considerado infa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6 - As pessoas não habilitadas que exercerem as profissões reguladas nesta Lei, independentemente da multa estabelecida, estão sujeitas às penalidades previstas na Lei de Contravenções Pe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7 - São competentes para lavrar autos de infração das disposições a que se refere a presente Lei os funcionários designados para esse fim pelos Conselhos Regionais de Engenharia, Arquitetura e Agronomia nas respectivas Regi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1º- As profissões de engenheiro, arquiteto e engenheiro-agrônomo são caracterizadas pelas realizações de interesse social e humano que importem na realização dos seguintes empreendi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proveitamento e utilização de recursos natur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meios de locomoção e comunic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edificações, serviços e equipamentos urbanos, rurais e regionais, nos seus aspectos técnicos e artíst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instalações e meios de acesso a costas, cursos, e massas de água e extensões terrest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desenvolvimento industrial e agropec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2 - As remunerações iniciais dos engenheiros, arquitetos e engenheiros-agrônomos, qualquer que seja a fonte pagadora, não poderão ser inferiores a 6 (seis) vezes o salário mínimo da respectiva região (Ver também Lei 4.950-A, de 22 ABR 1966 e Res. 397, de 11 AGO 1995).(VETADO, no que se refere aos servidores públicos regidos pelo RJ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5 - As entidades que contratarem profissionais nos termos da alínea "c" do artigo 2º são obrigadas a manter, junto a eles, um assistente brasileiro do ramo profissional respe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ítulo 1"/>
          <p:cNvSpPr/>
          <p:nvPr/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g. Ademir Alves do Amaral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ARTAMENTO OPERACIONAL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ademir.amaral848@creasp.org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2425680" cy="159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2108160" cy="137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75248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179280" y="2205000"/>
            <a:ext cx="2514600" cy="165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3276720" y="2421000"/>
            <a:ext cx="2514600" cy="188604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6372360" y="2565360"/>
            <a:ext cx="243828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7" name="Picture 9" descr=""/>
          <p:cNvPicPr/>
          <p:nvPr/>
        </p:nvPicPr>
        <p:blipFill>
          <a:blip r:embed="rId7"/>
          <a:stretch/>
        </p:blipFill>
        <p:spPr>
          <a:xfrm>
            <a:off x="4191120" y="4648320"/>
            <a:ext cx="228600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8" name="Picture 10" descr=""/>
          <p:cNvPicPr/>
          <p:nvPr/>
        </p:nvPicPr>
        <p:blipFill>
          <a:blip r:embed="rId8"/>
          <a:stretch/>
        </p:blipFill>
        <p:spPr>
          <a:xfrm>
            <a:off x="179280" y="4548240"/>
            <a:ext cx="142884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9" name="Picture 11" descr=""/>
          <p:cNvPicPr/>
          <p:nvPr/>
        </p:nvPicPr>
        <p:blipFill>
          <a:blip r:embed="rId9"/>
          <a:stretch/>
        </p:blipFill>
        <p:spPr>
          <a:xfrm>
            <a:off x="1692360" y="4803840"/>
            <a:ext cx="2286000" cy="15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0" name="Picture 12" descr=""/>
          <p:cNvPicPr/>
          <p:nvPr/>
        </p:nvPicPr>
        <p:blipFill>
          <a:blip r:embed="rId10"/>
          <a:stretch/>
        </p:blipFill>
        <p:spPr>
          <a:xfrm>
            <a:off x="6705720" y="4724280"/>
            <a:ext cx="2286000" cy="164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1" name="WordArt 13"/>
          <p:cNvSpPr txBox="1"/>
          <p:nvPr/>
        </p:nvSpPr>
        <p:spPr>
          <a:xfrm rot="20073600">
            <a:off x="1186920" y="2781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Picture 16" descr="plataforma_petroleo2"/>
          <p:cNvPicPr/>
          <p:nvPr/>
        </p:nvPicPr>
        <p:blipFill>
          <a:blip r:embed="rId11"/>
          <a:stretch/>
        </p:blipFill>
        <p:spPr>
          <a:xfrm>
            <a:off x="108000" y="189000"/>
            <a:ext cx="21603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27600" y="981000"/>
            <a:ext cx="2011320" cy="272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529080" cy="247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00720" cy="216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227640" y="1027080"/>
            <a:ext cx="2722680" cy="204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Text Box 7"/>
          <p:cNvSpPr/>
          <p:nvPr/>
        </p:nvSpPr>
        <p:spPr>
          <a:xfrm>
            <a:off x="849240" y="35733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63309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CONJUNTOS HABITA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666960" y="3789360"/>
            <a:ext cx="33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GRANDES EDIFÍCIOS RESIDENCIAIS/ COMER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705720" y="32846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S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4284720" y="4384800"/>
            <a:ext cx="1692360" cy="228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13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727360" cy="17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3" name="Text Box 14"/>
          <p:cNvSpPr/>
          <p:nvPr/>
        </p:nvSpPr>
        <p:spPr>
          <a:xfrm>
            <a:off x="6948360" y="6308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2484360" y="189000"/>
            <a:ext cx="43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º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exercício, no País, da profissão de engenheiro, arquiteto ou engenheiro-agrônomo, observadas as condições de capacidade e demais exigências legais, é assegu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os que possuam, devidamente registrado, diploma de faculdade ou escola superior de Engenharia, Arquitetura ou Agronomia, oficiais ou reconhecidas, existentes no Paí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aos que possuam, devidamente revalidado e registrado no País, diploma de faculdade ou escola estrangeira de ensino superior de Engenharia, Arquitetura ou Agronomia, bem como os que tenham esse exercício amparado por convênios internacionais de intercâmb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aos estrangeiros contratados que, a critério dos Conselhos Federal e Regionais de Engenharia, Arquitetura e Agronomia, considerados a escassez de profissionais de determinada especialidade e o interesse nacional, tenham seus títulos registrados tempor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6º- Exerce ilegalmente a profissão de engenheiro, arquiteto ou engenheiro-agrôn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) a pessoa física ou jurídica que realizar atos ou prestar serviços, públicos ou privados, reservados aos profissionais de que trata esta Lei e que não possua registro nos Conselhos Region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) o profissional que se incumbir de atividades estranhas às atribuições discriminadas em seu regist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) o profissional que emprestar seu nome a pessoas, firmas, organizações ou empresas executoras de obras e serviços sem sua real participação nos trabalhos del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) o profissional que, suspenso de seu exercício, continue em ativ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) a firma, organização ou sociedade que, na qualidade de pessoa jurídica, exercer atribuições reservadas aos profissionais da Engenharia, da Arquitetura e da Agronomia, com infringência do disposto no parágrafo único do Art. 8º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2 - Na União, nos Estados e nos Municípios, nas entidades autárquicas, paraestatais e de economia mista, os cargos e funções que exijam conhecimentos de Engenharia, Arquitetura e Agronomia, relacionados conforme o disposto na alínea "g" do Art. 27, somente poderão ser exercidos por profissionais habilitados de acordo com 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5 - São nulos de pleno direito os contratos referentes a qualquer ramo da Engenharia, Arquitetura ou da Agronomia, inclusive a elaboração de projeto, direção ou execução de obras, quando firmados por entidade pública ou particular com pessoa física ou jurídica não legalmente habilitada a praticar a atividade nos termos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6 - Enquanto durar a execução de obras, instalações e serviços de qualquer natureza, é obrigatória a colocação e manutenção de placas visíveis e legíveis ao público, contendo o nome do autor e co-autores do projeto, em todos os seus aspectos técnicos e artísticos, assim como os dos responsáveis pela execução dos trabal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449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7 - Os direitos de autoria de um plano ou projeto de Engenharia, Arquitetura ou Agronomia, respeitadas as relações contratuais expressas entre o autor e outros interessados, são do profissional que os elabo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Cabem ao profissional que os tenha elaborado os prêmios ou distinções honoríficas concedidas a projetos, planos, obras ou serviços téc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8 - As alterações do projeto ou plano original só poderão ser feitas pelo profissional que o tenha elabo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Estando impedido ou recusando-se o autor do projeto ou plano original a prestar sua colaboração profissional, comprovada a solicitação, as alterações ou modificações deles poderão ser feitas por outro profissional habilitado, a quem caberá a responsabilidade pelo projeto ou plano modifi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9 - Quando a concepção geral que caracteriza um plano ou projeto for elaborada em conjunto por profissionais legalmente habilitados, todos serão considerados coautores do projeto, com os direitos e deveres correspond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78000"/>
            <a:ext cx="77724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0 - Os profissionais ou organizações de técnicos especializados que colaborarem numa parte do projeto deverão ser mencionados explicitamente como autores da parte que lhes tiver sido confiada, tornando-se mister que todos os documentos, como plantas, desenhos, cálculos, pareceres, relatórios, análises, normas, especificações e outros documentos relativos ao projeto sejam por eles ass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A responsabilidade técnica pela ampliação, prosseguimento ou conclusão de qualquer empreendimento de engenharia, arquitetura ou agronomia caberá ao profissional ou entidade registrada que aceitar esse encargo, sendo-lhe, também, atribuída a responsabilidade das obras, devendo o Conselho Federal adotar resolução quanto às responsabilidades das partes já executadas ou concluídas por outros profission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1 - Sempre que o autor do projeto convocar, para o desempenho do seu encargo, o concurso de profissionais da organização de profissionais especializados e legalmente habilitados, serão estes havidos como co-responsáveis na parte que lhes diga respe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35:28Z</dcterms:created>
  <dc:creator>OEM</dc:creator>
  <dc:description/>
  <dc:language>en-US</dc:language>
  <cp:lastModifiedBy>Usuario</cp:lastModifiedBy>
  <dcterms:modified xsi:type="dcterms:W3CDTF">2012-04-17T16:40:19Z</dcterms:modified>
  <cp:revision>108</cp:revision>
  <dc:subject/>
  <dc:title>Apresentação do PowerPoint</dc:title>
</cp:coreProperties>
</file>