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404-650F-40C8-8ACC-B4AF1056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00D-6F11-4165-8C21-DD8F7B88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E73-2515-470C-9F10-E9D5D774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A2D-F6FD-49D2-BC19-94C16C22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41F4-100D-416C-A308-89D9D9B0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C7D-90EC-4867-81A1-F4D57CD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FFFF-39DC-469F-B3A5-4052B26D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FC5A-45BA-4E32-BE1B-A74340FE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E717-304B-43D8-889A-9EA6F6B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FEB7-D0ED-432A-8792-C3C35B08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75A-54D3-4062-BC25-C5282AD7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590-9D69-4FBC-B468-F4B1DAC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647C-244F-478D-BA62-B593373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A2FD-083D-4F5E-879A-272BC82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7570-FC49-4C3A-BEDA-65891741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B252-3181-4916-9F14-EC04835A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2A63-4E05-4A38-ADFF-FD908118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847-B98E-4243-A8E8-3D5C60B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3C8-38B8-46C1-9FD6-8E8497F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7D6-89EE-482A-B66C-570803E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3A7-2916-46F3-A980-43DB41B1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1A8-9A60-45E7-906C-08DEE46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8B7-91A8-49F1-8187-716283F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74F-E083-4A21-9D6D-FDB279C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5240FC-DBDB-4B03-A8C9-B65D80C986B8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E33949-A034-4AE3-A9A6-82DC8646553C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supfis@creasp.org.b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Resolução 102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“</a:t>
            </a: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LIVRO DE ORDEM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Imagem 3" descr="SAO PAULO Crea_Color"/>
          <p:cNvPicPr/>
          <p:nvPr/>
        </p:nvPicPr>
        <p:blipFill>
          <a:blip r:embed="rId1"/>
          <a:stretch/>
        </p:blipFill>
        <p:spPr>
          <a:xfrm>
            <a:off x="1403280" y="1052640"/>
            <a:ext cx="6840720" cy="180000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4572000" y="537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Black"/>
              </a:rPr>
              <a:t>6º Seminário de Integração de Inspetores e Corpo Gerencial do CREA-S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É O RESPONSÁVEL PEL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786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3366"/>
                </a:solidFill>
                <a:latin typeface="Arial"/>
              </a:rPr>
              <a:t>O PROFISSIONA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PODE REALIZAR ANO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76932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s autores dos projetos;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 contratante;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 profissiona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40720" y="837360"/>
            <a:ext cx="8088840" cy="10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NTAS VIAS POSSU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632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3366"/>
                </a:solidFill>
                <a:latin typeface="Arial Black"/>
              </a:rPr>
              <a:t>3 VIAS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Primeir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recolhidas pela fiscalização ou devolvidas junto com o pedido de baixa da AR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Segund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responsável técnico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Terceir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proprietário do empreendime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480" y="833040"/>
            <a:ext cx="778068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 QUE PODE SUBSTITUI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63272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003366"/>
                </a:solidFill>
                <a:latin typeface="Arial Black"/>
              </a:rPr>
              <a:t>Boletim Diário,  Livro de Ocorrências Diárias,  Diário de Obras,  Cadernetas de Obras,  Livro de Atas: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 devem ter Termos de Abertura visados pelo Crea, além de atender a Resolução 102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AS CADERNETAS DE OBRAS SERÃO EXTINTA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6932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S CADERNETAS DE OBR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 ATENDAM A RES. 102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PODEM SER USAD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NORMALMEN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EM BREVE, O LIVRO SERÁ </a:t>
            </a:r>
            <a:r>
              <a:rPr b="1" lang="pt-BR" sz="4000" spc="-1" strike="noStrike">
                <a:solidFill>
                  <a:srgbClr val="003366"/>
                </a:solidFill>
                <a:latin typeface="Arial Black"/>
                <a:ea typeface="Arial"/>
              </a:rPr>
              <a:t>GERADO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 “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ON-LINE”, MAS PREENCHIDO NO LOCAL DOS SERVIÇ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762120" y="907920"/>
            <a:ext cx="7924680" cy="852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POSSO PREENCHER O LIVRO DE ORDEM </a:t>
            </a:r>
            <a:r>
              <a:rPr b="1" i="1" lang="pt-BR" sz="3600" spc="-1" strike="noStrike">
                <a:solidFill>
                  <a:srgbClr val="006666"/>
                </a:solidFill>
                <a:latin typeface="Arial Black"/>
              </a:rPr>
              <a:t>“ON-LINE”</a:t>
            </a: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3366"/>
                </a:solidFill>
                <a:latin typeface="Arial"/>
                <a:ea typeface="Arial"/>
              </a:rPr>
              <a:t>DEVEMOS LEMBRAR QUE A FISCALIZAÇÃO DO CREA-SP ESTÁ FOCADA PRIORITARIAMENTE NA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3366"/>
                </a:solidFill>
                <a:latin typeface="Arial"/>
                <a:ea typeface="Arial"/>
              </a:rPr>
              <a:t>AÇÕES ORIENTATIVA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762120" y="836640"/>
            <a:ext cx="7924680" cy="1068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E SE O LIVRO DE ORDEM NÃO ESTIVER NA OBR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8346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Mas como o livro também é uma ferram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para combater os maus profissionais, esse f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somado a outros indícios, poderá indicar 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sinal de a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obertamen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Nesse caso, ensejará </a:t>
            </a:r>
            <a:r>
              <a:rPr b="1" lang="pt-BR" sz="2800" spc="-1" strike="noStrike">
                <a:solidFill>
                  <a:srgbClr val="003366"/>
                </a:solidFill>
                <a:latin typeface="Arial Black"/>
                <a:ea typeface="Arial"/>
              </a:rPr>
              <a:t>APURAÇÃO</a:t>
            </a:r>
            <a:r>
              <a:rPr b="0" lang="pt-BR" sz="2800" spc="-1" strike="noStrike">
                <a:solidFill>
                  <a:srgbClr val="003366"/>
                </a:solidFill>
                <a:latin typeface="Arial Black"/>
                <a:ea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de infração 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alínea “c” do art. 6º da Lei 5194/66 e ao art. 9º 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ódigo de ética profissional,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onfor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art. 10 da Res. 102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762120" y="836640"/>
            <a:ext cx="7924680" cy="1068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E SE O LIVRO DE ORDEM NÃO ESTIVER NA OBR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2920" y="834120"/>
            <a:ext cx="8569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 Black"/>
              </a:rPr>
              <a:t>POR QUE FOI INSTITUÍDO O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 Black"/>
              </a:rPr>
              <a:t>LIVRO DE ORD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CaixaDeTexto 1"/>
          <p:cNvSpPr/>
          <p:nvPr/>
        </p:nvSpPr>
        <p:spPr>
          <a:xfrm>
            <a:off x="755640" y="249228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DELIMITAR OBJETIVAMENTE AS RESPONSABILIDADES DE CADA PROFISSIONA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MAIOR PROTEÇÃO À SOCIEDA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AJUDAR A COMBATER OS MAUS PROFISSIONA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04320" y="5736960"/>
            <a:ext cx="7916400" cy="64080"/>
          </a:xfrm>
          <a:prstGeom prst="rect">
            <a:avLst/>
          </a:prstGeom>
          <a:noFill/>
          <a:ln w="0">
            <a:noFill/>
          </a:ln>
        </p:spPr>
        <p:txBody>
          <a:bodyPr tIns="18360" bIns="183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4000" spc="-1" strike="noStrike">
                <a:solidFill>
                  <a:srgbClr val="00264d"/>
                </a:solidFill>
                <a:latin typeface="Arial"/>
              </a:rPr>
              <a:t>MUITO OBRIGADO</a:t>
            </a:r>
            <a:br>
              <a:rPr sz="4000"/>
            </a:br>
            <a:br>
              <a:rPr sz="2400"/>
            </a:br>
            <a:r>
              <a:rPr b="1" lang="pt-BR" sz="1800" spc="-1" strike="noStrike">
                <a:solidFill>
                  <a:srgbClr val="00264d"/>
                </a:solidFill>
                <a:latin typeface="Arial"/>
              </a:rPr>
              <a:t>Eng. Civ. Luiz Roberto Sega</a:t>
            </a:r>
            <a:br>
              <a:rPr sz="1800"/>
            </a:br>
            <a:r>
              <a:rPr b="1" lang="pt-BR" sz="1800" spc="-1" strike="noStrike">
                <a:solidFill>
                  <a:srgbClr val="00264d"/>
                </a:solidFill>
                <a:latin typeface="Arial"/>
              </a:rPr>
              <a:t>Superintendente de Fiscalização</a:t>
            </a:r>
            <a:br>
              <a:rPr sz="300"/>
            </a:br>
            <a:br>
              <a:rPr sz="1800"/>
            </a:br>
            <a:r>
              <a:rPr b="1" lang="pt-BR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upfis@creasp.org.br</a:t>
            </a:r>
            <a:br>
              <a:rPr sz="1800"/>
            </a:br>
            <a:br>
              <a:rPr sz="2400"/>
            </a:br>
            <a:r>
              <a:rPr b="1" lang="pt-BR" sz="2000" spc="-1" strike="noStrike">
                <a:solidFill>
                  <a:srgbClr val="00264d"/>
                </a:solidFill>
                <a:latin typeface="Arial"/>
              </a:rPr>
              <a:t>SUPFIS - CREA-SP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55640" y="692280"/>
            <a:ext cx="7772400" cy="1873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RESOLUÇÃO 1024 – CONFE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“</a:t>
            </a: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LIVRO DE ORDEM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CaixaDeTexto 4"/>
          <p:cNvSpPr/>
          <p:nvPr/>
        </p:nvSpPr>
        <p:spPr>
          <a:xfrm>
            <a:off x="755640" y="6254640"/>
            <a:ext cx="83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Black"/>
              </a:rPr>
              <a:t>6º Seminário de Integração de Inspetores e Corpo Gerencial do CREA-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Conector reto 2"/>
          <p:cNvSpPr/>
          <p:nvPr/>
        </p:nvSpPr>
        <p:spPr>
          <a:xfrm>
            <a:off x="1042920" y="6093000"/>
            <a:ext cx="770580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O FOI CRIADO O</a:t>
            </a:r>
            <a:br>
              <a:rPr sz="36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FOI INSTITUÍDO PELO CONFEA, ATRAVÉS DA RESOLUÇÃO 1.024/2009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ANTAGENS PAR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O PROFISSIONAL: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REGISTRO FORMAL DAS SUAS ORIENTAÇÕES; BASE PARA MEDIDA DE SUA PARTICIPAÇÃO, INCLUSIVE PARA EXPEDIÇÃO DE CA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 Black"/>
              </a:rPr>
              <a:t>O CONTRATANTE</a:t>
            </a: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: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VALIAR MOTIVOS DE EVENTUAIS FALHAS TÉCNICAS, GASTOS IMPREVISTO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 Black"/>
              </a:rPr>
              <a:t>A SOCIEDADE</a:t>
            </a: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: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GURANÇA DA EFETIVA PARTICIPAÇÃO DO PROFISSIONAL E AVALIAÇÃO DAS CAUSAS DE EVENTUAIS ACIDENTES DE TRABALH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POR QUE US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4400" y="940320"/>
            <a:ext cx="7804800" cy="8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L A FUNÇÃO D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7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É a </a:t>
            </a:r>
            <a:r>
              <a:rPr b="1" i="1" lang="pt-BR" sz="2800" spc="-1" strike="noStrike">
                <a:solidFill>
                  <a:srgbClr val="003366"/>
                </a:solidFill>
                <a:latin typeface="Arial"/>
              </a:rPr>
              <a:t>MEMÓRIA ESCRITA (O REGI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s atividades para fins da identificaç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autoria de trabalho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cumprimento de orientações técnic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clareza nas ordens e instruções dad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 falhas técnicas, gastos não previstos, ...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s causas de acidentes de trabalho, 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66"/>
                </a:solidFill>
                <a:latin typeface="Arial"/>
              </a:rPr>
              <a:t>Poderá ser importante fonte de dados estatístico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4400" y="940320"/>
            <a:ext cx="7804800" cy="8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L A RELAÇÃO ENTRE O LIVRO DE ORDEM E A CA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O correto preenchimento d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Livro de Ordem somado a ART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onstitui prova da efetiva d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participação do profissional 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fornecerá os dados necessário par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 emissão da C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843280" y="5516640"/>
            <a:ext cx="203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 QUE DEVE SER ANOTADO N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640" y="2276280"/>
            <a:ext cx="72612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 responsável técnico deverá registrar </a:t>
            </a:r>
            <a:r>
              <a:rPr b="1" i="1" lang="pt-BR" sz="3200" spc="-1" strike="noStrike">
                <a:solidFill>
                  <a:srgbClr val="003366"/>
                </a:solidFill>
                <a:latin typeface="Arial"/>
              </a:rPr>
              <a:t>TODAS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as ocorrências relevantes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Dados do empreendimento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Dat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Orientações dad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Acident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Receitas agronômica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DEVE ASSIN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2276280"/>
            <a:ext cx="72612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O PROFISSIONAL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O ORIENTADO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PROPRIETÁRI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NDE DEVE FIC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786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everá ser mantido </a:t>
            </a: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PERMANENTEMEN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no local da atividade durante 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tempo de duração dos trabalh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18:24Z</dcterms:created>
  <dc:creator>crea</dc:creator>
  <dc:description/>
  <dc:language>en-US</dc:language>
  <cp:lastModifiedBy>Usuario</cp:lastModifiedBy>
  <dcterms:modified xsi:type="dcterms:W3CDTF">2012-04-18T17:36:27Z</dcterms:modified>
  <cp:revision>157</cp:revision>
  <dc:subject/>
  <dc:title>UGI  NORTE     GRE-5</dc:title>
</cp:coreProperties>
</file>