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0A86-B9D6-4F59-8479-E96015F268B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8936-02BA-40A3-99F4-A90C046C407B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D51-BFC9-4E18-8D5A-1103662B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5C2-798D-4DB6-9C6F-E24499C6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1D7-D239-47B6-9D65-74D65C67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B9D-E87B-48E5-B225-DD7813AB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E3E-631E-4CBC-99EF-40AFEE2A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853-AE74-42E8-BAE7-1913E9DF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D6D-1B86-45CB-8247-33C85162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F32-7F76-455A-B2F8-6247F5CC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6CB-6E93-4E36-BFA8-5CEDB2E0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D4C-E0E1-4701-9349-0B376C4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21D-B308-47F7-9846-95E5AFE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93F-37F7-43FB-817E-91DD35C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E5B5-62FA-44DB-8026-1189F726712F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luciana.ferrer3638@creasp.org.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15796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LEI Nº 12.378/10</a:t>
            </a:r>
            <a:br>
              <a:rPr sz="4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Regulamenta o exercício da Arquitetura e Urbanismo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cria o Conselho de Arquitetura e Urbanismo do Brasil - CAU/BR e os Conselhos de Arquitetura e Urbanismo dos Estados e do Distrito Federal - CAUs; e dá outras providênci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ixaDeTexto 3"/>
          <p:cNvSpPr/>
          <p:nvPr/>
        </p:nvSpPr>
        <p:spPr>
          <a:xfrm>
            <a:off x="539640" y="69228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6º Seminário de Integração de Inspetores e Corpo Gerencial do CREA-S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tângulo 1"/>
          <p:cNvSpPr/>
          <p:nvPr/>
        </p:nvSpPr>
        <p:spPr>
          <a:xfrm>
            <a:off x="544680" y="620640"/>
            <a:ext cx="8208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6. ACERVO TÉC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Acervo Técnico de Arquitetos e Urbanistas, bem como aqueles que possuem mais de um título, cuja atividade realizada foi na área da Arquitetura e Urbanismo, serão remetid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CAT’s – Certidões de Acervo Técnico que estão em pronta entrega no Crea-SP, foram entregues pelo CREA-SP. Havendo exigências, foram remetidos os process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edidos de CAT em tramitação, protocolizados até 26/12/2011, com ou sem atendimento de exigências, foram encaminhados ao CAU-SP, uma vez que os arquivos eletrônicos  com os dados dos arquitetos já foram enviados àquele Conselh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684360" y="836640"/>
            <a:ext cx="777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7. PROCESSOS DE FISCALIZ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rocessos de apuração de irregularidades em tramitação, que envolvam atividades mistas (exemplo: Arquitetura e Engenharia de Segurança do Trabalho) tiveram cópia enviada ao CAU-SP no que se refere à área de Arquitetura, e encaminhado o processo original para análise da Câmara Especializada competen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tângulo 1"/>
          <p:cNvSpPr/>
          <p:nvPr/>
        </p:nvSpPr>
        <p:spPr>
          <a:xfrm>
            <a:off x="611280" y="83664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8.INSTITUIÇÕES DE ENSIN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cursos e suas Instituições de Ensino exclusivas de Arquitetura e Urbanismo, foram enviad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Instituições de Ensino que possuem cursos de Arquitetura e Urbanismo e outros pertinentes à área do Crea-SP, tiveram cópias extraídas para envio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1"/>
          <p:cNvSpPr/>
          <p:nvPr/>
        </p:nvSpPr>
        <p:spPr>
          <a:xfrm>
            <a:off x="468360" y="620640"/>
            <a:ext cx="818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9. COBRANÇA DE ANUIDADES E TAX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anuidades dos Arquitetos e Urbanistas e das empresas exclusivamente de arquitetura são devidas ao CAU-SP, a partir de 2012, sendo vedada sua cobrança pelo Crea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anuidades dos profissionais que possuem os títulos de Arquitetos e Urbanistas e outro(s) da área do Crea-SP (Engenheiros, Geólogos, Tecnólogos, Técnicos, etc.), serão devidas de acordo com a área de atuação profissional. Caso exerçam atividades afetas ao CAU-SP e ao Crea-SP, pagarão anuidades aos dois Conselhos, no nível do título remanescente (superior ou médio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tângulo 1"/>
          <p:cNvSpPr/>
          <p:nvPr/>
        </p:nvSpPr>
        <p:spPr>
          <a:xfrm>
            <a:off x="395280" y="620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10. REVISÃO DO CANCELAMENTOS DE REGISTROS DE EMPRES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Foram apurados alguns cancelamentos indevidos de registros de profissionais (que possuíam mais de um título) e empresas (com atividades também afetas à engenharia/agronomia) e as Inspetorias do CREA-SP, mediante conferência com o relatório, estão providenciando a correção cadastr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380600" cy="76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SUPERINTENDÊNCIA DE FISCALIZAÇÃO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Geol. Luciana M. Ferrer</a:t>
            </a:r>
            <a:br>
              <a:rPr sz="28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PARTAMENTO DE REGISTRO</a:t>
            </a:r>
            <a:br>
              <a:rPr sz="3200"/>
            </a:br>
            <a:br>
              <a:rPr sz="3200"/>
            </a:b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uciana.ferrer3638@creasp.org.br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IGO 24</a:t>
            </a:r>
            <a:br>
              <a:rPr sz="2800"/>
            </a:br>
            <a:br>
              <a:rPr sz="28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Ficam criados o Conselho de Arquitetura e Urbanismo do Brasil - CAU/BR e os Conselhos de Arquitetura e Urbanismo dos Estados e do Distrito Federal - CAUs, como autarquias dotadas de personalidade jurídica de direito público, com autonomia administrativa e financeira e estrutura federativa, cujas atividades serão custeadas exclusivamente pelas próprias rendas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IGO 55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fissionais com título de arquitetos e urbanistas, arquitetos e engenheiro arquiteto, com registro nos atuais Conselhos Regionais de Engenharia, Arquitetura e Agronomia – CREA’s terão, automaticamente, registro nos CAUs com o título único de arquiteto e urbanista. 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arágrafo único.  Os CREA’s enviarão aos CAUs a relação dos arquitetos e urbanistas, arquitetos e engenheiro arquiteto inscritos, no prazo de 30 (trinta) dias da instalação do CAU, bem como os prontuários, dados profissionais, registros e acervo de todas as ART’s emitidas pelos profissionais e todos os processos em tramitação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6" name="Retângulo 2"/>
          <p:cNvSpPr/>
          <p:nvPr/>
        </p:nvSpPr>
        <p:spPr>
          <a:xfrm>
            <a:off x="358920" y="1413000"/>
            <a:ext cx="457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PROCEDIMENTOS DE TRANSIÇÃO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CREA-SP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&amp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CAU-SP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Imagem 3" descr=""/>
          <p:cNvPicPr/>
          <p:nvPr/>
        </p:nvPicPr>
        <p:blipFill>
          <a:blip r:embed="rId2"/>
          <a:stretch/>
        </p:blipFill>
        <p:spPr>
          <a:xfrm>
            <a:off x="5867280" y="1650960"/>
            <a:ext cx="23432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9" name="Retângulo 1"/>
          <p:cNvSpPr/>
          <p:nvPr/>
        </p:nvSpPr>
        <p:spPr>
          <a:xfrm>
            <a:off x="96840" y="1197000"/>
            <a:ext cx="893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BAIXA DOS REGISTROS DE ARQUITETOS E URBANISTAS E EMPRESAS DE ARQUITETURA NO CREA-S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 CREA-SP efetuou a baixa </a:t>
            </a: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de todos os registros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dos profissionais e empresas afetos ao CAU, com a data de instalação daquele Conselho – 26/12/11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Notificou o CAU-SP, para a respectiva retirada dos processos e prontuários relativos aos Arquitetos e Urbanistas, não obstante os arquivos eletrônicos já terem sido enviados, conforme previsto na Le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1"/>
          <p:cNvSpPr/>
          <p:nvPr/>
        </p:nvSpPr>
        <p:spPr>
          <a:xfrm>
            <a:off x="271440" y="1125360"/>
            <a:ext cx="864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2. ARQUITETOS E URBANISTAS COM MAIS DE UM TÍTUL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rquitetos, Arquitetos e Urbanistas ou Engenheiros Arquitetos que possuem registro de outros cursos de nível técnico, graduação, Engenheiro de Segurança do Trabalho ou Especialista em Engenharia de Segurança do Trabalho continuarão a ter registro destes outros títulos no CRE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Técnicos em decoração continuarão com seus registros no Sistema CONFEA/CREA. A Lei 12.378 não os incluiu em seu tex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1"/>
          <p:cNvSpPr/>
          <p:nvPr/>
        </p:nvSpPr>
        <p:spPr>
          <a:xfrm>
            <a:off x="395280" y="119700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3.SOLICITAÇÕES DO PODER JUDICIÁRIO, MINISTÉRIO PÚBLICO E DELEGACIAS DE POLÍC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dados cadastrais, referentes ao período até 31/12/11, dos Arquitetos e Urbanistas ou empresas de arquitetura deverão ser informados pelo CREA-SP a estas entidades, todavia, sempre esclarecendo que a partir de 26/12/2011 a competência de registro e fiscalização daqueles profissionais passou a ser do CAU, nos termos da Lei 12.378/20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1"/>
          <p:cNvSpPr/>
          <p:nvPr/>
        </p:nvSpPr>
        <p:spPr>
          <a:xfrm>
            <a:off x="468360" y="98100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4. EMPRESAS MISTAS DE ENGENHARIA &amp; ARQUITETU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rocessos de empresas mistas (área da arquitetura &amp; engenharia/agronomia constantes do objeto social) tiveram os documentos referentes à arquitetura desentranhados do processo, sendo aberto novo processo, para juntada destes e envio ao CAU-SP. Nos processos do CREA- SP ficou somente a documentação da área da engenhari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ângulo 1"/>
          <p:cNvSpPr/>
          <p:nvPr/>
        </p:nvSpPr>
        <p:spPr>
          <a:xfrm>
            <a:off x="611280" y="119700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5. ART DE ARQUITET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Todos os dados de profissionais Arquitetos e Urbanistas e de  empresas de arquitetura migrados para o CAU-SP permitirão o preenchimento da ART, agora designada RRT – Registro de Responsabilidade Técnica, pela Lei 12.378/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1:27:51Z</dcterms:created>
  <dc:creator>usuariosuprin</dc:creator>
  <dc:description/>
  <dc:language>en-US</dc:language>
  <cp:lastModifiedBy>Usuario</cp:lastModifiedBy>
  <dcterms:modified xsi:type="dcterms:W3CDTF">2012-04-18T17:35:56Z</dcterms:modified>
  <cp:revision>220</cp:revision>
  <dc:subject/>
  <dc:title>Apresentação do PowerPoint</dc:title>
</cp:coreProperties>
</file>