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6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82F5-282E-4A33-977C-3178326369D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1F882708-3E4D-4C1F-AEC8-B0E937D3C9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1131840" y="744480"/>
            <a:ext cx="45324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B19B9941-F0B7-4984-8460-1EA15F467E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131840" y="744480"/>
            <a:ext cx="45324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CAD17C43-2D6E-447E-BD02-F44E3F09CC6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1133640" y="744480"/>
            <a:ext cx="45288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1A88E1AF-0BE8-4C78-8F86-91D4C2938F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1133640" y="744480"/>
            <a:ext cx="45288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483D6418-B40F-4C1D-A211-02D68FE909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133640" y="744480"/>
            <a:ext cx="45288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78D6F2BB-5E4D-4ACC-B123-B37FF5F0CF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133640" y="744480"/>
            <a:ext cx="45288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D3E31A37-58B8-4221-9183-077C075E5D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1133640" y="744480"/>
            <a:ext cx="45288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66CC33E7-794B-4B33-B04D-D2F75A6EBF7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1133640" y="744480"/>
            <a:ext cx="45288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B2A7A14A-7CBE-46A3-818B-C186FF0E52C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E8B2BE7E-A1CC-49B1-912A-9F00795443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1133640" y="744480"/>
            <a:ext cx="45288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45E8E2C8-EED0-4349-8586-2A960FFF73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1133640" y="744480"/>
            <a:ext cx="45288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8BFB2062-DFD8-423D-9E88-CED3EB357F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968C7C0F-11C7-48AE-903B-2A85674082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131840" y="744480"/>
            <a:ext cx="45324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38E5802D-95E8-4DB4-A729-A3476A5EC1E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131840" y="744480"/>
            <a:ext cx="45324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186-8E2F-4F07-8FC4-5A554E64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ED56-6FD3-4DF7-884D-0E93C3DE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8B05-C5DB-45E4-B472-415B2151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F5EE-D5E5-4395-9D4B-7DE06F58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B4FA-651E-4451-9941-ABBFECB5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E5F2-F76B-4F54-A58A-89B8474E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BBB-F834-47FD-86ED-F0858EB6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A0F-5F2B-4A86-B9BE-BA717D6E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DA97-A5CF-4708-A27A-A303C1F8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8FE-BA3D-49AC-A3E2-4DD2BFDE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7BCB-D0B9-45A4-8293-FDFD7A63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D74-6300-4CB8-92A5-49917E45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26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3"/>
          <p:cNvSpPr/>
          <p:nvPr/>
        </p:nvSpPr>
        <p:spPr>
          <a:xfrm>
            <a:off x="0" y="26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"/>
          <p:cNvPicPr/>
          <p:nvPr/>
        </p:nvPicPr>
        <p:blipFill>
          <a:blip r:embed="rId2"/>
          <a:stretch/>
        </p:blipFill>
        <p:spPr>
          <a:xfrm>
            <a:off x="2517840" y="189000"/>
            <a:ext cx="4181400" cy="17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7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2"/>
          <a:stretch/>
        </p:blipFill>
        <p:spPr>
          <a:xfrm>
            <a:off x="2698920" y="69840"/>
            <a:ext cx="3511440" cy="14320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6B45-C6D3-4AFC-B9AF-BCB70CB8760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022400" y="825480"/>
            <a:ext cx="7134120" cy="4464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"/>
          <p:cNvSpPr/>
          <p:nvPr/>
        </p:nvSpPr>
        <p:spPr>
          <a:xfrm>
            <a:off x="395280" y="5732640"/>
            <a:ext cx="83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UPERINTENDÊNCIA DE FISCALIZAÇÃO - SUPF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PARTAMENTO DE RELAÇÕES INSTITUCIONAIS -D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152280" y="1700280"/>
            <a:ext cx="888372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MPETÊ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INSPETOR ESPECIA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(§ 2º do A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rt. 17)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cisos I a XI do Regulam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I-agir com imparcialidade e transparência nas ações referentes à fiscalização das profissões abrangidas pelo Sistema CONFEA/C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I-comparecer às reuniões quando convocado formalm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135000" y="1628640"/>
            <a:ext cx="89010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ET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SPETOR CHEFE, INSPETOR E INSPETOR 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(A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rt. 17)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cisos I a XXIX do Regulam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II-comunicar ao Gerente Regional ou ao Chefe da Unidade de Gestão da Inspetoria de sua jurisdição qualquer irregularidade inerente ao exercício das profissões abrangidas pelo Sistema CONFEA/CRE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380880" y="1628640"/>
            <a:ext cx="8467920" cy="49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INSPETOR E A CÂMARA ESPECIAL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s Câmaras Especializadas têm a atribuição legal de produzir as normas  e plano de fiscalização de suas respectivas modalida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380880" y="1628640"/>
            <a:ext cx="8467920" cy="49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INSPETOR E A CÂMARA ESPECIAL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Inspetor, como auxiliar da Câmara Eapecializad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ra maior eficiência da  fiscalização do CREA-SP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m conformidade com o disposto n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rt. 34, alíne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 Lei nº 5.194, de 1966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l-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riar inspetorias e nomear inspetores especiais para maior eficiência da fiscalizaçã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vincula-se normativamente com a Câmara Especializada de sua modalidade profiss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108000" y="1628640"/>
            <a:ext cx="88567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r ser o CREA um órgão público e o Inspetor uma função pública prevista em lei, sua função equipara-se à de um Agente Público, tanto em direitos quanto em deveres e está sujeito às determinações e sanções legais aplicáveis ao funciona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aixaDeTexto 2"/>
          <p:cNvSpPr/>
          <p:nvPr/>
        </p:nvSpPr>
        <p:spPr>
          <a:xfrm>
            <a:off x="250920" y="2016000"/>
            <a:ext cx="85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 INSPETOR COMO FUNÇÃO PÚ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108000" y="1628640"/>
            <a:ext cx="88567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aixaDeTexto 2"/>
          <p:cNvSpPr/>
          <p:nvPr/>
        </p:nvSpPr>
        <p:spPr>
          <a:xfrm>
            <a:off x="264960" y="1773360"/>
            <a:ext cx="8569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 INSPETOR COMO FUNÇÃO PÚ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276120" y="3068640"/>
            <a:ext cx="85917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108000" y="1628640"/>
            <a:ext cx="88567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340000" y="1598760"/>
            <a:ext cx="4029120" cy="51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216000" y="2276640"/>
            <a:ext cx="892800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PÍTUL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ção 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 Natureza e Finalidade das Represent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RT. 6. É composta por Inspetores Especiais, em conformidade com o disposto n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rt. 34, alínea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l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 Lei nº 5.194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 1966, até o número de 02 (dois) Inspetores por município no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tado de São Paulo, sendo dos Grupos da Engenharia e da Agronomia, regulamentados pela mencionada le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PÍTULO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çã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 Natureza e Finalidade da C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RT. 22 . A CAF é composta pelos Inspetores e por até 03 (três) Conselheiros pertencentes à mesma jurisdição da Inspetoria, todos nomeados pelo Presidente do CREASP e considerando membros da Comissão Auxiliar de Fiscalização – CA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1"/>
          <p:cNvSpPr/>
          <p:nvPr/>
        </p:nvSpPr>
        <p:spPr>
          <a:xfrm>
            <a:off x="184320" y="1628640"/>
            <a:ext cx="86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NCIPAIS ALTERAÇÕES NO REGULA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0"/>
          <p:cNvSpPr/>
          <p:nvPr/>
        </p:nvSpPr>
        <p:spPr>
          <a:xfrm>
            <a:off x="250920" y="6292800"/>
            <a:ext cx="8677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http://www.creasp.org.br/institucional/inspetorias_inspe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77080" cy="5832720"/>
          </a:xfrm>
          <a:prstGeom prst="rect">
            <a:avLst/>
          </a:prstGeom>
          <a:ln w="0">
            <a:noFill/>
          </a:ln>
        </p:spPr>
      </p:pic>
      <p:sp>
        <p:nvSpPr>
          <p:cNvPr id="162" name="Retângulo 1"/>
          <p:cNvSpPr/>
          <p:nvPr/>
        </p:nvSpPr>
        <p:spPr>
          <a:xfrm>
            <a:off x="2340000" y="4653000"/>
            <a:ext cx="1584360" cy="144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Inspetorias/ Inspet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ângulo 2"/>
          <p:cNvSpPr/>
          <p:nvPr/>
        </p:nvSpPr>
        <p:spPr>
          <a:xfrm>
            <a:off x="2176560" y="2335320"/>
            <a:ext cx="934920" cy="144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INSTITUIÇÃ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08000" y="1844640"/>
            <a:ext cx="8928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UPERINTENDÊCIA DE FISCALIZ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UP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PARTAMENTO DE  RELAÇÕES INSTITUCIONAIS - DR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spetores@creasp.org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ência Nelson de Oliveira Sil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2000" y="1723680"/>
            <a:ext cx="572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NTIDADES DE CLA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aixaDeTexto 3"/>
          <p:cNvSpPr/>
          <p:nvPr/>
        </p:nvSpPr>
        <p:spPr>
          <a:xfrm>
            <a:off x="128520" y="2708280"/>
            <a:ext cx="4078440" cy="76428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GISTRO E REVISÃO DE ENTIDADES DE CLA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tângulo 10"/>
          <p:cNvSpPr/>
          <p:nvPr/>
        </p:nvSpPr>
        <p:spPr>
          <a:xfrm>
            <a:off x="4646520" y="5162040"/>
            <a:ext cx="4407120" cy="109944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TRATOS DE PRESTAÇÃO DE SERVIÇOS E CESSÃO DE USO DE INSTAL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aixaDeTexto 9"/>
          <p:cNvSpPr/>
          <p:nvPr/>
        </p:nvSpPr>
        <p:spPr>
          <a:xfrm>
            <a:off x="3203640" y="3722760"/>
            <a:ext cx="2448000" cy="1099440"/>
          </a:xfrm>
          <a:prstGeom prst="rect">
            <a:avLst/>
          </a:prstGeom>
          <a:solidFill>
            <a:srgbClr val="d9d9d9"/>
          </a:solidFill>
          <a:ln w="19080">
            <a:solidFill>
              <a:srgbClr val="000000"/>
            </a:solidFill>
            <a:miter/>
          </a:ln>
          <a:effectLst>
            <a:outerShdw dist="50760" dir="5400000" blurRad="0" rotWithShape="0">
              <a:srgbClr val="b3b3b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GISTRO DE TABELA DE HONORÁ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4000" y="2708280"/>
            <a:ext cx="4132080" cy="12254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VÊNIOS ANOTAÇÃO DE RESPONSABILIDADE TÉCNICA – 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tângulo 13"/>
          <p:cNvSpPr/>
          <p:nvPr/>
        </p:nvSpPr>
        <p:spPr>
          <a:xfrm>
            <a:off x="4218120" y="4876920"/>
            <a:ext cx="4824360" cy="1769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ONTROLE DA EXECUÇÃO/PRESTAÇÃO DE CONTAS DE CONTRATOS E CONVÊNIOS COM ENTIDADES DE CLA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tângulo 14"/>
          <p:cNvSpPr/>
          <p:nvPr/>
        </p:nvSpPr>
        <p:spPr>
          <a:xfrm>
            <a:off x="2771640" y="3860640"/>
            <a:ext cx="2646360" cy="1099440"/>
          </a:xfrm>
          <a:prstGeom prst="rect">
            <a:avLst/>
          </a:prstGeom>
          <a:solidFill>
            <a:srgbClr val="bfbfb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VÊNIOS INSTITUCIONAIS E DE BENEFÍ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ítulo 2"/>
          <p:cNvSpPr/>
          <p:nvPr/>
        </p:nvSpPr>
        <p:spPr>
          <a:xfrm>
            <a:off x="1763640" y="1773360"/>
            <a:ext cx="57247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CONVÊN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2960" y="1773360"/>
            <a:ext cx="5194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INSPE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ixaDeTexto 15"/>
          <p:cNvSpPr/>
          <p:nvPr/>
        </p:nvSpPr>
        <p:spPr>
          <a:xfrm>
            <a:off x="3780000" y="3687840"/>
            <a:ext cx="3313080" cy="10087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OME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aixaDeTexto 16"/>
          <p:cNvSpPr/>
          <p:nvPr/>
        </p:nvSpPr>
        <p:spPr>
          <a:xfrm>
            <a:off x="1155600" y="2924280"/>
            <a:ext cx="2952720" cy="10087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D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tângulo 1"/>
          <p:cNvSpPr/>
          <p:nvPr/>
        </p:nvSpPr>
        <p:spPr>
          <a:xfrm>
            <a:off x="6516720" y="4508640"/>
            <a:ext cx="2376360" cy="1313640"/>
          </a:xfrm>
          <a:prstGeom prst="rect">
            <a:avLst/>
          </a:prstGeom>
          <a:solidFill>
            <a:srgbClr val="bfbfb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UPORTE ADMINIST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179280" y="2924280"/>
            <a:ext cx="885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ahoma"/>
              </a:rPr>
              <a:t>Representar o CREA-SP no município para o qual foi nomeado, para junto à comunidade, melhorar a eficiência das ações da fiscalização, em defesa do exercício profissional e da segurança da socied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ixaDeTexto 2"/>
          <p:cNvSpPr/>
          <p:nvPr/>
        </p:nvSpPr>
        <p:spPr>
          <a:xfrm>
            <a:off x="212256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ER INSPETOR 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412920" y="1628640"/>
            <a:ext cx="83055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SPE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(Art. 1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ahoma"/>
              </a:rPr>
              <a:t>O profissional nomeado deve estar  legalmente habilitado e em situação regular perante o CREA-S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(Art. 1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ahoma"/>
              </a:rPr>
              <a:t>O Inspetor deverá possuir domicílio no município para o qual foi indicado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609480" y="1773360"/>
            <a:ext cx="8153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SPE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(Art. 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ahoma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ahoma"/>
              </a:rPr>
              <a:t>O exercício da função de Inspetor é honorífico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135000" y="1628640"/>
            <a:ext cx="89010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ET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SPETOR-CHE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Ar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17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cisos I a XXIX do Regulam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-representar o Sistema CONFEA/CREA perante os profissionais, comunidade, órgãos públicos e municipais e entidades privadas, mediante nomeação do Presidente do CREA-S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I-agir com imparcialidade e transparência nas ações referentes à fiscalização das profissões abrangidas pelo Sistema CONFEA/C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168120" y="1628640"/>
            <a:ext cx="866952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ET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SPE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(§ 1º do A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rt. 17 do Regulamento)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cisos I a XVI do Regulam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V-reconhecer que, depois de indicado e nomeado, é membro efetivo da Comissão Auxiliar de Fiscalização-CAF de seu município para exercer as funções que competirem ao Inspe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VI-emitir análise prévia e formalizar sugestão em processo encaminhado à CA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5:38:28Z</dcterms:created>
  <dc:creator>usuario</dc:creator>
  <dc:description/>
  <dc:language>en-US</dc:language>
  <cp:lastModifiedBy>Usuario</cp:lastModifiedBy>
  <cp:lastPrinted>2012-03-23T14:44:36Z</cp:lastPrinted>
  <dcterms:modified xsi:type="dcterms:W3CDTF">2012-04-17T13:08:51Z</dcterms:modified>
  <cp:revision>517</cp:revision>
  <dc:subject/>
  <dc:title>PEGS</dc:title>
</cp:coreProperties>
</file>