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0EB3C-CB50-4380-981C-7E79220FEA5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CE669-DF61-4C77-ADC2-C990689EC65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156C2-4AE8-4229-A81C-FAA43749A52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"/>
          <p:cNvSpPr/>
          <p:nvPr/>
        </p:nvSpPr>
        <p:spPr>
          <a:xfrm>
            <a:off x="1143000" y="685800"/>
            <a:ext cx="45705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E23AD-B2AC-4E64-86DB-FE8967047FB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8F156-145C-4082-896C-85962F91FF3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2"/>
          <p:cNvSpPr/>
          <p:nvPr/>
        </p:nvSpPr>
        <p:spPr>
          <a:xfrm>
            <a:off x="933480" y="690480"/>
            <a:ext cx="4994280" cy="34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914400" y="4344480"/>
            <a:ext cx="502920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039D6-8AAB-4606-95F9-DA357939994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3B21D-6E12-47AB-A612-CAE7C4E4597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933480" y="690480"/>
            <a:ext cx="4994280" cy="34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14400" y="4344480"/>
            <a:ext cx="502920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7B7C8-800A-4D91-83C9-8E64BE50D4F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5C322-B572-461F-8919-C2958185419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933480" y="690480"/>
            <a:ext cx="4994280" cy="34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914400" y="4344480"/>
            <a:ext cx="502920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7364-5AB9-401B-BE30-10FF0BC65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705B-4B7E-4D67-B5B8-A40FCF53A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8C3D-8726-4912-8B8F-00722CC30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87B9-E7DC-44AC-83DB-7EFD89E0B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5D0D-B5F5-47DE-9420-54154D67F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763E-AAD0-4616-AFF4-B947841D1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5B9D-FA68-4A9A-B3CA-8BAB885B9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5B8F-68E9-41DD-8A15-5E722D357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4B2A-8C50-4442-9E6A-75CACE56D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436E-2AE8-4A8B-9C86-95EA5A64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EB0E-DC30-49A5-A03E-45696495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50BC-5C7F-4D63-9BB3-FFD14481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32AC7-1B70-429F-AAFB-2CF671094A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Lei 5.194/6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573360"/>
            <a:ext cx="6400800" cy="18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gula o exercício das profissões de Engenheiro, Arquiteto e Engenheiro-Agrônomo, e dá outras providência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85800" y="981000"/>
            <a:ext cx="77724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rt. 24 - A aplicação do que dispõe esta Lei, a verificação e a fiscalização do exercício e atividades das profissões nela reguladas serão exercidas por um Conselho Federal de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Confea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– Conselho Federal de Engenharia, Arquitetura e Agronomia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LDR -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Leis Decretos, Resoluções Engenharia, Arquitetura e Agronomia (CONFEA), e Conselhos Regionais de Engenharia, Arquitetura e Agronomia (CREA), organizados de forma a assegurarem unidade de açã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rt. 34 - São atribuições dos Conselhos Regiona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l) criar inspetorias e nomear inspetores especiais para maior eficiência da fiscalizaçã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85800" y="1015920"/>
            <a:ext cx="7772400" cy="48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rt. 44 - Cada Conselho Regional terá inspetorias, para fins de fiscalização nas cidades ou zonas onde se fizerem necessár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rt. 45 - As Câmaras Especializadas são os órgãos dos Conselhos Regionais encarregados de julgar e decidir sobre os assuntos de fiscalização pertinentes às respectivas especializações profissionais e infrações do Código de Ét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1582560" y="719280"/>
            <a:ext cx="586908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Impact"/>
                <a:ea typeface="Lucida Sans Unicode"/>
              </a:rPr>
              <a:t>CÂMARAS ESPECIALIZA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Impact"/>
                <a:ea typeface="Lucida Sans Unicode"/>
              </a:rPr>
              <a:t>( Conselheiros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6840360" y="3240000"/>
            <a:ext cx="23400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Impact"/>
                <a:ea typeface="Lucida Sans Unicode"/>
              </a:rPr>
              <a:t>CAF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Impact"/>
                <a:ea typeface="Lucida Sans Unicode"/>
              </a:rPr>
              <a:t>( Inspetores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1547640" y="5545080"/>
            <a:ext cx="5977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100" spc="-1" strike="noStrike">
                <a:solidFill>
                  <a:srgbClr val="008000"/>
                </a:solidFill>
                <a:latin typeface="Impact"/>
                <a:ea typeface="Lucida Sans Unicode"/>
              </a:rPr>
              <a:t>SUPERINTENDÊNCIA DE FISCALIZAÇÃO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Impact"/>
                <a:ea typeface="Lucida Sans Unicode"/>
              </a:rPr>
              <a:t>( Departamentos / Unidades 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"/>
          <p:cNvSpPr/>
          <p:nvPr/>
        </p:nvSpPr>
        <p:spPr>
          <a:xfrm rot="16200000">
            <a:off x="2356560" y="3054960"/>
            <a:ext cx="336240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2951280" y="3132000"/>
            <a:ext cx="3168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7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6633"/>
                </a:solidFill>
                <a:latin typeface="Impact"/>
                <a:ea typeface="Lucida Sans Unicode"/>
              </a:rPr>
              <a:t>CICLO  DA FISCALIZA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-144360" y="3240000"/>
            <a:ext cx="23400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Impact"/>
                <a:ea typeface="Lucida Sans Unicode"/>
              </a:rPr>
              <a:t>CAF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Impact"/>
                <a:ea typeface="Lucida Sans Unicode"/>
              </a:rPr>
              <a:t>( Inspetores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7"/>
          <p:cNvSpPr/>
          <p:nvPr/>
        </p:nvSpPr>
        <p:spPr>
          <a:xfrm rot="2700000">
            <a:off x="6648840" y="1867680"/>
            <a:ext cx="974520" cy="360360"/>
          </a:xfrm>
          <a:prstGeom prst="rightArrow">
            <a:avLst>
              <a:gd name="adj1" fmla="val 63444"/>
              <a:gd name="adj2" fmla="val 80002"/>
            </a:avLst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8"/>
          <p:cNvSpPr/>
          <p:nvPr/>
        </p:nvSpPr>
        <p:spPr>
          <a:xfrm rot="8580000">
            <a:off x="6575040" y="4536360"/>
            <a:ext cx="974880" cy="360360"/>
          </a:xfrm>
          <a:prstGeom prst="rightArrow">
            <a:avLst>
              <a:gd name="adj1" fmla="val 63444"/>
              <a:gd name="adj2" fmla="val 80031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9"/>
          <p:cNvSpPr/>
          <p:nvPr/>
        </p:nvSpPr>
        <p:spPr>
          <a:xfrm rot="13200000">
            <a:off x="1280880" y="4538160"/>
            <a:ext cx="974520" cy="360360"/>
          </a:xfrm>
          <a:prstGeom prst="rightArrow">
            <a:avLst>
              <a:gd name="adj1" fmla="val 63444"/>
              <a:gd name="adj2" fmla="val 80002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10"/>
          <p:cNvSpPr/>
          <p:nvPr/>
        </p:nvSpPr>
        <p:spPr>
          <a:xfrm rot="18840000">
            <a:off x="1284840" y="1869480"/>
            <a:ext cx="974880" cy="360360"/>
          </a:xfrm>
          <a:prstGeom prst="rightArrow">
            <a:avLst>
              <a:gd name="adj1" fmla="val 63444"/>
              <a:gd name="adj2" fmla="val 80031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rt. 55 - Os profissionais habilitados na forma estabelecida nesta Lei só poderão exercer a profissão após o registro no Conselho Regional sob cuja jurisdição se achar o local de sua ativida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rt. 58 - Se o profissional, firma ou organização, registrado em qualquer Conselho Regional, exercer atividade em outra Região, ficará obrigado a visar, nela, o seu regist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rt. 59 - As firmas, sociedades, associações, companhias, cooperativas e empresas em geral, que se organizem para executar obras ou serviços relacionados na forma estabelecida nesta Lei, só poderão iniciar suas atividades depois de promoverem o competente registro nos Conselhos Regionais, bem como o dos profissionais do seu quadro técn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rt. 60 - Toda e qualquer firma ou organização que, embora não enquadrada no artigo anterior, tenha alguma seção ligada ao exercício profissional da Engenharia, Arquitetura e Agronomia, na forma estabelecida nesta Lei, é obrigada a requerer o seu registro e a anotação dos profissionais, legalmente habilitados, delas encarreg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836280"/>
            <a:ext cx="7772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rt. 64 - Será automaticamente cancelado o registro do profissional ou da pessoa jurídica que deixar de efetuar o pagamento da anuidade, a que estiver sujeito, durante 2(dois) anos consecutivos sem prejuízo da obrigatoriedade do pagamento da dívi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rt. 67 - Embora legalmente registrado, só será considerado no legítimo exercício da profissão e atividades de que trata a presente Lei o profissional ou pessoa jurídica que esteja em dia com o pagamento da respectiva anuida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289080" y="2057400"/>
            <a:ext cx="252396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GIS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O C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2819520" y="1676520"/>
            <a:ext cx="5921280" cy="1295280"/>
          </a:xfrm>
          <a:prstGeom prst="leftArrowCallout">
            <a:avLst>
              <a:gd name="adj1" fmla="val 22798"/>
              <a:gd name="adj2" fmla="val 25000"/>
              <a:gd name="adj3" fmla="val 55048"/>
              <a:gd name="adj4" fmla="val 777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- PROFISSIONAI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3333cc"/>
                </a:solidFill>
                <a:latin typeface="Arial"/>
              </a:rPr>
              <a:t>(artigo 5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- EMPRESAS </a:t>
            </a:r>
            <a:r>
              <a:rPr b="0" lang="pt-BR" sz="1800" spc="-1" strike="noStrike">
                <a:solidFill>
                  <a:srgbClr val="3333cc"/>
                </a:solidFill>
                <a:latin typeface="Arial"/>
              </a:rPr>
              <a:t>(artigo 5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- INSTITUIÇÃO DE ENSINO / CUR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- ENTIDADES DE CLA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4"/>
          <p:cNvSpPr/>
          <p:nvPr/>
        </p:nvSpPr>
        <p:spPr>
          <a:xfrm>
            <a:off x="1219320" y="2666880"/>
            <a:ext cx="701640" cy="1143000"/>
          </a:xfrm>
          <a:prstGeom prst="downArrow">
            <a:avLst>
              <a:gd name="adj1" fmla="val 50000"/>
              <a:gd name="adj2" fmla="val 4072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324000" y="3846600"/>
            <a:ext cx="2525400" cy="49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ISCALIZ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2874960" y="3276720"/>
            <a:ext cx="5865840" cy="1581120"/>
          </a:xfrm>
          <a:prstGeom prst="leftArrowCallout">
            <a:avLst>
              <a:gd name="adj1" fmla="val 28021"/>
              <a:gd name="adj2" fmla="val 25000"/>
              <a:gd name="adj3" fmla="val 39315"/>
              <a:gd name="adj4" fmla="val 799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IBIR O EXERCÍCIO </a:t>
            </a:r>
            <a:r>
              <a:rPr b="0" lang="pt-BR" sz="1800" spc="-1" strike="noStrike">
                <a:solidFill>
                  <a:srgbClr val="3333cc"/>
                </a:solidFill>
                <a:latin typeface="Arial"/>
              </a:rPr>
              <a:t>(artigo 6º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LEGAL DAS PROFISSÕ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ERIFICAR QUEM É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GISTRADO OU NÃ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7"/>
          <p:cNvSpPr/>
          <p:nvPr/>
        </p:nvSpPr>
        <p:spPr>
          <a:xfrm flipV="1">
            <a:off x="1295280" y="4419000"/>
            <a:ext cx="696960" cy="990360"/>
          </a:xfrm>
          <a:prstGeom prst="downArrow">
            <a:avLst>
              <a:gd name="adj1" fmla="val 50000"/>
              <a:gd name="adj2" fmla="val 3552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228600" y="5486400"/>
            <a:ext cx="2790720" cy="966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GENTES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ISCALIZ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(artigo 2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omo funciona a fiscalizaçã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10"/>
          <p:cNvSpPr/>
          <p:nvPr/>
        </p:nvSpPr>
        <p:spPr>
          <a:xfrm>
            <a:off x="3419640" y="5084640"/>
            <a:ext cx="4103640" cy="1152720"/>
          </a:xfrm>
          <a:prstGeom prst="leftArrow">
            <a:avLst>
              <a:gd name="adj1" fmla="val 50000"/>
              <a:gd name="adj2" fmla="val 8899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ART 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(Resolução 102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907920"/>
            <a:ext cx="77724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rt. 71 - As penalidades aplicáveis por infração da presente Lei são as seguintes, de acordo com a gravidade da fal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) advertência reservad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) censura públic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) mult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) suspensão temporária do exercício profission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) cancelamento definitivo do regist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rt. 72 - As penas de advertência reservada e de censura pública são aplicáveis aos profissionais que deixarem de cumprir disposições do Código de Ética, tendo em vista a gravidade da falta e os casos de reincidência, a critério das respectivas Câmaras Especializ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rt. 73 - As multas são estipuladas em função do maior valor de referência fixada pelo Poder Executiv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arágrafo único - As multas referidas neste artigo serão aplicadas em dobro nos casos de reincidê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rt. 74 - Nos casos de nova reincidência das infrações previstas no artigo anterior, alíneas "c", "d" e "e", será imposta, a critério das Câmaras Especializadas, suspensão temporária do exercício profissional, por prazos variáveis de 6 (seis) meses a 2 (dois) anos e, pelos Conselhos Regionais em pleno, de 2 (dois) a 5 (cinco) an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69228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rt. 75 - O cancelamento do registro será efetuado por má conduta pública e escândalos praticados pelo profissional ou sua condenação definitiva por crime considerado infam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rt. 76 - As pessoas não habilitadas que exercerem as profissões reguladas nesta Lei, independentemente da multa estabelecida, estão sujeitas às penalidades previstas na Lei de Contravenções Pena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rt. 77 - São competentes para lavrar autos de infração das disposições a que se refere a presente Lei os funcionários designados para esse fim pelos Conselhos Regionais de Engenharia, Arquitetura e Agronomia nas respectivas Regiõ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rt. 1º- As profissões de engenheiro, arquiteto e engenheiro-agrônomo são caracterizadas pelas realizações de interesse social e humano que importem na realização dos seguintes empreendime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) aproveitamento e utilização de recursos naturai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) meios de locomoção e comunicaçõ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) edificações, serviços e equipamentos urbanos, rurais e regionais, nos seus aspectos técnicos e artístico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) instalações e meios de acesso a costas, cursos, e massas de água e extensões terrestr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) desenvolvimento industrial e agropecuá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692280"/>
            <a:ext cx="777240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rt. 82 - As remunerações iniciais dos engenheiros, arquitetos e engenheiros-agrônomos, qualquer que seja a fonte pagadora, não poderão ser inferiores a 6 (seis) vezes o salário mínimo da respectiva região (Ver também Lei 4.950-A, de 22 ABR 1966 e Res. 397, de 11 AGO 1995).(VETADO, no que se refere aos servidores públicos regidos pelo RJU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rt. 85 - As entidades que contratarem profissionais nos termos da alínea "c" do artigo 2º são obrigadas a manter, junto a eles, um assistente brasileiro do ramo profissional respect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2340000" y="189000"/>
            <a:ext cx="2425680" cy="1593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4876920" y="380880"/>
            <a:ext cx="2108160" cy="13766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53" name="Picture 5" descr=""/>
          <p:cNvPicPr/>
          <p:nvPr/>
        </p:nvPicPr>
        <p:blipFill>
          <a:blip r:embed="rId3"/>
          <a:stretch/>
        </p:blipFill>
        <p:spPr>
          <a:xfrm>
            <a:off x="7162920" y="380880"/>
            <a:ext cx="1752480" cy="20336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54" name="Picture 6" descr=""/>
          <p:cNvPicPr/>
          <p:nvPr/>
        </p:nvPicPr>
        <p:blipFill>
          <a:blip r:embed="rId4"/>
          <a:stretch/>
        </p:blipFill>
        <p:spPr>
          <a:xfrm>
            <a:off x="179280" y="2205000"/>
            <a:ext cx="2514600" cy="1650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55" name="Picture 7" descr=""/>
          <p:cNvPicPr/>
          <p:nvPr/>
        </p:nvPicPr>
        <p:blipFill>
          <a:blip r:embed="rId5"/>
          <a:stretch/>
        </p:blipFill>
        <p:spPr>
          <a:xfrm>
            <a:off x="3276720" y="2421000"/>
            <a:ext cx="2514600" cy="1886040"/>
          </a:xfrm>
          <a:prstGeom prst="rect">
            <a:avLst/>
          </a:prstGeom>
          <a:ln w="9360">
            <a:solidFill>
              <a:srgbClr val="008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56" name="Picture 8" descr=""/>
          <p:cNvPicPr/>
          <p:nvPr/>
        </p:nvPicPr>
        <p:blipFill>
          <a:blip r:embed="rId6"/>
          <a:stretch/>
        </p:blipFill>
        <p:spPr>
          <a:xfrm>
            <a:off x="6372360" y="2565360"/>
            <a:ext cx="2438280" cy="1828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57" name="Picture 9" descr=""/>
          <p:cNvPicPr/>
          <p:nvPr/>
        </p:nvPicPr>
        <p:blipFill>
          <a:blip r:embed="rId7"/>
          <a:stretch/>
        </p:blipFill>
        <p:spPr>
          <a:xfrm>
            <a:off x="4191120" y="4648320"/>
            <a:ext cx="2286000" cy="2011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58" name="Picture 10" descr=""/>
          <p:cNvPicPr/>
          <p:nvPr/>
        </p:nvPicPr>
        <p:blipFill>
          <a:blip r:embed="rId8"/>
          <a:stretch/>
        </p:blipFill>
        <p:spPr>
          <a:xfrm>
            <a:off x="179280" y="4548240"/>
            <a:ext cx="1428840" cy="19051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59" name="Picture 11" descr=""/>
          <p:cNvPicPr/>
          <p:nvPr/>
        </p:nvPicPr>
        <p:blipFill>
          <a:blip r:embed="rId9"/>
          <a:stretch/>
        </p:blipFill>
        <p:spPr>
          <a:xfrm>
            <a:off x="1692360" y="4803840"/>
            <a:ext cx="2286000" cy="1504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60" name="Picture 12" descr=""/>
          <p:cNvPicPr/>
          <p:nvPr/>
        </p:nvPicPr>
        <p:blipFill>
          <a:blip r:embed="rId10"/>
          <a:stretch/>
        </p:blipFill>
        <p:spPr>
          <a:xfrm>
            <a:off x="6705720" y="4724280"/>
            <a:ext cx="2286000" cy="164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61" name="WordArt 13"/>
          <p:cNvSpPr txBox="1"/>
          <p:nvPr/>
        </p:nvSpPr>
        <p:spPr>
          <a:xfrm rot="20073600">
            <a:off x="1186920" y="2781360"/>
            <a:ext cx="6337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Arial Black"/>
              </a:rPr>
              <a:t>Áreas de atuaçã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2" name="Picture 16" descr="plataforma_petroleo2"/>
          <p:cNvPicPr/>
          <p:nvPr/>
        </p:nvPicPr>
        <p:blipFill>
          <a:blip r:embed="rId11"/>
          <a:stretch/>
        </p:blipFill>
        <p:spPr>
          <a:xfrm>
            <a:off x="108000" y="189000"/>
            <a:ext cx="2160360" cy="169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3927600" y="981000"/>
            <a:ext cx="2011320" cy="2725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179280" y="981000"/>
            <a:ext cx="3529080" cy="2471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65" name="Picture 5" descr=""/>
          <p:cNvPicPr/>
          <p:nvPr/>
        </p:nvPicPr>
        <p:blipFill>
          <a:blip r:embed="rId3"/>
          <a:stretch/>
        </p:blipFill>
        <p:spPr>
          <a:xfrm>
            <a:off x="179280" y="4005360"/>
            <a:ext cx="3600720" cy="2160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66" name="Picture 6" descr=""/>
          <p:cNvPicPr/>
          <p:nvPr/>
        </p:nvPicPr>
        <p:blipFill>
          <a:blip r:embed="rId4"/>
          <a:stretch/>
        </p:blipFill>
        <p:spPr>
          <a:xfrm>
            <a:off x="6227640" y="1027080"/>
            <a:ext cx="2722680" cy="2041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67" name="Text Box 7"/>
          <p:cNvSpPr/>
          <p:nvPr/>
        </p:nvSpPr>
        <p:spPr>
          <a:xfrm>
            <a:off x="849240" y="3573360"/>
            <a:ext cx="22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Simpson"/>
                <a:ea typeface="Lucida Sans Unicode"/>
              </a:rPr>
              <a:t>ESCOL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228600" y="6330960"/>
            <a:ext cx="335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Simpson"/>
                <a:ea typeface="Lucida Sans Unicode"/>
              </a:rPr>
              <a:t>CONJUNTOS HABITACION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3666960" y="3789360"/>
            <a:ext cx="33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Simpson"/>
                <a:ea typeface="Lucida Sans Unicode"/>
              </a:rPr>
              <a:t>GRANDES EDIFÍCIOS RESIDENCIAIS/ COMERCI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6705720" y="328464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Simpson"/>
                <a:ea typeface="Lucida Sans Unicode"/>
              </a:rPr>
              <a:t>SHOPP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1" descr=""/>
          <p:cNvPicPr/>
          <p:nvPr/>
        </p:nvPicPr>
        <p:blipFill>
          <a:blip r:embed="rId5"/>
          <a:stretch/>
        </p:blipFill>
        <p:spPr>
          <a:xfrm>
            <a:off x="4284720" y="4384800"/>
            <a:ext cx="1692360" cy="2284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72" name="Picture 13" descr=""/>
          <p:cNvPicPr/>
          <p:nvPr/>
        </p:nvPicPr>
        <p:blipFill>
          <a:blip r:embed="rId6"/>
          <a:stretch/>
        </p:blipFill>
        <p:spPr>
          <a:xfrm>
            <a:off x="6227640" y="4365720"/>
            <a:ext cx="2727360" cy="1727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73" name="Text Box 14"/>
          <p:cNvSpPr/>
          <p:nvPr/>
        </p:nvSpPr>
        <p:spPr>
          <a:xfrm>
            <a:off x="6948360" y="630864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Simpson"/>
                <a:ea typeface="Lucida Sans Unicode"/>
              </a:rPr>
              <a:t>HOSPIT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WordArt 15"/>
          <p:cNvSpPr txBox="1"/>
          <p:nvPr/>
        </p:nvSpPr>
        <p:spPr>
          <a:xfrm>
            <a:off x="2484360" y="189000"/>
            <a:ext cx="4381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Arial Black"/>
              </a:rPr>
              <a:t>Áreas de atuaçã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772400" cy="55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rt. 2º-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 exercício, no País, da profissão de engenheiro, arquiteto ou engenheiro-agrônomo, observadas as condições de capacidade e demais exigências legais, é assegura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) aos que possuam, devidamente registrado, diploma de faculdade ou escola superior de Engenharia, Arquitetura ou Agronomia, oficiais ou reconhecidas, existentes no Paí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) aos que possuam, devidamente revalidado e registrado no País, diploma de faculdade ou escola estrangeira de ensino superior de Engenharia, Arquitetura ou Agronomia, bem como os que tenham esse exercício amparado por convênios internacionais de intercâmbi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) aos estrangeiros contratados que, a critério dos Conselhos Federal e Regionais de Engenharia, Arquitetura e Agronomia, considerados a escassez de profissionais de determinada especialidade e o interesse nacional, tenham seus títulos registrados temporari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800" y="1125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rt. 6º- Exerce ilegalmente a profissão de engenheiro, arquiteto ou engenheiro-agrônom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) a pessoa física ou jurídica que realizar atos ou prestar serviços, públicos ou privados, reservados aos profissionais de que trata esta Lei e que não possua registro nos Conselhos Regiona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b) o profissional que se incumbir de atividades estranhas às atribuições discriminadas em seu registr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c) o profissional que emprestar seu nome a pessoas, firmas, organizações ou empresas executoras de obras e serviços sem sua real participação nos trabalhos dela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d) o profissional que, suspenso de seu exercício, continue em atividad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e) a firma, organização ou sociedade que, na qualidade de pessoa jurídica, exercer atribuições reservadas aos profissionais da Engenharia, da Arquitetura e da Agronomia, com infringência do disposto no parágrafo único do Art. 8º desta Le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5800" y="765000"/>
            <a:ext cx="77724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rt. 12 - Na União, nos Estados e nos Municípios, nas entidades autárquicas, paraestatais e de economia mista, os cargos e funções que exijam conhecimentos de Engenharia, Arquitetura e Agronomia, relacionados conforme o disposto na alínea "g" do Art. 27, somente poderão ser exercidos por profissionais habilitados de acordo com esta Le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rt. 15 - São nulos de pleno direito os contratos referentes a qualquer ramo da Engenharia, Arquitetura ou da Agronomia, inclusive a elaboração de projeto, direção ou execução de obras, quando firmados por entidade pública ou particular com pessoa física ou jurídica não legalmente habilitada a praticar a atividade nos termos desta Le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rt. 16 - Enquanto durar a execução de obras, instalações e serviços de qualquer natureza, é obrigatória a colocação e manutenção de placas visíveis e legíveis ao público, contendo o nome do autor e co-autores do projeto, em todos os seus aspectos técnicos e artísticos, assim como os dos responsáveis pela execução dos trabalh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685800" y="449280"/>
            <a:ext cx="77724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rt. 17 - Os direitos de autoria de um plano ou projeto de Engenharia, Arquitetura ou Agronomia, respeitadas as relações contratuais expressas entre o autor e outros interessados, são do profissional que os elabor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arágrafo único - Cabem ao profissional que os tenha elaborado os prêmios ou distinções honoríficas concedidas a projetos, planos, obras ou serviços técn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rt. 18 - As alterações do projeto ou plano original só poderão ser feitas pelo profissional que o tenha elabor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arágrafo único - Estando impedido ou recusando-se o autor do projeto ou plano original a prestar sua colaboração profissional, comprovada a solicitação, as alterações ou modificações deles poderão ser feitas por outro profissional habilitado, a quem caberá a responsabilidade pelo projeto ou plano modific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rt. 19 - Quando a concepção geral que caracteriza um plano ou projeto for elaborada em conjunto por profissionais legalmente habilitados, todos serão considerados coautores do projeto, com os direitos e deveres correspond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378000"/>
            <a:ext cx="7772400" cy="59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rt. 20 - Os profissionais ou organizações de técnicos especializados que colaborarem numa parte do projeto deverão ser mencionados explicitamente como autores da parte que lhes tiver sido confiada, tornando-se mister que todos os documentos, como plantas, desenhos, cálculos, pareceres, relatórios, análises, normas, especificações e outros documentos relativos ao projeto sejam por eles assin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arágrafo único - A responsabilidade técnica pela ampliação, prosseguimento ou conclusão de qualquer empreendimento de engenharia, arquitetura ou agronomia caberá ao profissional ou entidade registrada que aceitar esse encargo, sendo-lhe, também, atribuída a responsabilidade das obras, devendo o Conselho Federal adotar resolução quanto às responsabilidades das partes já executadas ou concluídas por outros profissiona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rt. 21 - Sempre que o autor do projeto convocar, para o desempenho do seu encargo, o concurso de profissionais da organização de profissionais especializados e legalmente habilitados, serão estes havidos como co-responsáveis na parte que lhes diga respei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13:35:28Z</dcterms:created>
  <dc:creator>OEM</dc:creator>
  <dc:description/>
  <dc:language>en-US</dc:language>
  <cp:lastModifiedBy>Crea-SP</cp:lastModifiedBy>
  <dcterms:modified xsi:type="dcterms:W3CDTF">2012-04-12T12:19:28Z</dcterms:modified>
  <cp:revision>103</cp:revision>
  <dc:subject/>
  <dc:title>Apresentação do PowerPoint</dc:title>
</cp:coreProperties>
</file>