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2C8-E067-47E1-9248-41ED5FD7AB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D84236C8-0278-405E-AEA5-933558C7C7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125D9406-D11A-44CF-9051-48132BBDAD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77C3B958-FA9E-4F8E-B909-436FB67BDB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F5307F28-15DA-44F5-A9D9-311CFA9506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122F9E55-4673-42FD-A387-097D09C990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9C3AAD2C-A853-494E-BEB4-658662EE02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2DC1388E-1A15-4C85-9C3E-613D16EFA1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D9C45787-BE9B-436C-B0D9-2777246DDD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70CB8232-CBE7-4B5E-AFE7-EA223E59F6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336BB680-A946-4B85-8A71-4E45387629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2E83CDE8-8FA8-4E7B-8F0C-E1A2D58BF2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D396AA59-E4D0-41C7-92BC-3EA3D6AEB5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10193CC4-C3F9-4873-B80F-38F7A9AFAA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B2332855-3FC8-4D0A-A389-84224B963F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C7B-DA3A-4D85-8210-223A8A4C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49A-E85A-4EA6-8503-32F52529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311-B62A-41D7-8B23-FAC17B7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A63-B827-4414-88FA-0C7B6EF1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B0E-99B7-4A80-87A2-41971DB5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E68-389C-4B1F-8C8A-E7CA4EEA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049-8F08-4FB0-88B5-EFC46E94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AF3-F4D2-4561-89EB-DD07B600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990-CE6C-47DC-BAC6-9190FCCC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C2F-B91E-4B8F-8134-3863090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644-DBCF-4561-A313-07457B0E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A8F-1370-4BE8-B4D5-46DAD0A2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tretch/>
        </p:blipFill>
        <p:spPr>
          <a:xfrm>
            <a:off x="2517840" y="189000"/>
            <a:ext cx="4181400" cy="17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2698920" y="69840"/>
            <a:ext cx="3511440" cy="1432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68CE-80F4-49B8-8072-EC051B69004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22400" y="825480"/>
            <a:ext cx="7134120" cy="446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395280" y="573264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ERINTENDÊNCIA DE FISCALIZAÇÃO - SUPF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ARTAMENTO DE RELAÇÕES INSTITUCIONAIS -D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152280" y="1700280"/>
            <a:ext cx="88837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NSPETOR ESPECI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§ 2º do 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I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-agir com imparcialidade e transparência nas ações referentes à fiscalização das profissões abrangidas pelo Sistema CONFEA/C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I-comparecer às reuniões quando convocado formal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35000" y="1628640"/>
            <a:ext cx="89010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 CHEFE, INSPETOR E INSPETOR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XIX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I-comunicar ao Gerente Regional ou ao Chefe da Unidade de Gestão da Inspetoria de sua jurisdição qualquer irregularidade inerente ao exercício das profissões abrangidas pelo Sistema CONFEA/C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80880" y="1628640"/>
            <a:ext cx="8467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 E A CÂMARA ESPE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 Câmaras Especializadas têm a atribuição legal de produzir as normas  e plano de fiscalização de suas respectivas modal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380880" y="1628640"/>
            <a:ext cx="8467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 E A CÂMARA ESPE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, como auxiliar da Câmara Eapecializad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ra maior eficiência da  fiscalização do CREA-SP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conformidade com o disposto n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34, alíne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Lei nº 5.194, de 1966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-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riar inspetorias e nomear inspetores especiais para maior eficiência da fiscalizaçã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vincula-se normativamente com a Câmara Especializada de sua modalidade profis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r ser o CREA um órgão público e o Inspetor uma função pública prevista em lei, sua função equipara-se à de um Agente Público, tanto em direitos quanto em deveres e está sujeito às determinações e sanções legais aplicáveis ao funciona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2"/>
          <p:cNvSpPr/>
          <p:nvPr/>
        </p:nvSpPr>
        <p:spPr>
          <a:xfrm>
            <a:off x="250920" y="2016000"/>
            <a:ext cx="85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INSPETOR COMO FUNÇÃO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2"/>
          <p:cNvSpPr/>
          <p:nvPr/>
        </p:nvSpPr>
        <p:spPr>
          <a:xfrm>
            <a:off x="264960" y="1773360"/>
            <a:ext cx="8569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INSPETOR COMO FUNÇÃO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76120" y="3068640"/>
            <a:ext cx="85917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598760"/>
            <a:ext cx="4029120" cy="51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216000" y="2276640"/>
            <a:ext cx="8928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PÍTUL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ção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Natureza e Finalidade das Represen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6. É composta por Inspetores Especiais, em conformidade com o disposto n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34, alíne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Lei nº 5.194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1966, até o número de 02 (dois) Inspetores por município n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ado de São Paulo, sendo dos Grupos da Engenharia e da Agronomia, regulamentados pela mencionada le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PÍTULO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çã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Natureza e Finalidade da C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22 . A CAF é composta pelos Inspetores e por até 03 (três) Conselheiros pertencentes à mesma jurisdição da Inspetoria, todos nomeados pelo Presidente do CREASP e considerando membros da Comissão Auxiliar de Fiscalização – C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1"/>
          <p:cNvSpPr/>
          <p:nvPr/>
        </p:nvSpPr>
        <p:spPr>
          <a:xfrm>
            <a:off x="184320" y="162864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NCIPAIS ALTERAÇÕES NO REGUL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"/>
          <p:cNvSpPr/>
          <p:nvPr/>
        </p:nvSpPr>
        <p:spPr>
          <a:xfrm>
            <a:off x="250920" y="6292800"/>
            <a:ext cx="8677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ttp://www.creasp.org.br/institucional/inspetorias_insp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77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8000" y="1844640"/>
            <a:ext cx="8928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ERINTENDÊCIA DE FISC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ARTAMENTO DE  RELAÇÕES INSTITUCIONAIS - DR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petores@creasp.org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ência Nelson de Oliveira Si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1723680"/>
            <a:ext cx="57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NTIDADES DE CL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3"/>
          <p:cNvSpPr/>
          <p:nvPr/>
        </p:nvSpPr>
        <p:spPr>
          <a:xfrm>
            <a:off x="128520" y="2708280"/>
            <a:ext cx="4078440" cy="76428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E REVISÃO DE ENTIDADES DE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ângulo 10"/>
          <p:cNvSpPr/>
          <p:nvPr/>
        </p:nvSpPr>
        <p:spPr>
          <a:xfrm>
            <a:off x="4646520" y="5162040"/>
            <a:ext cx="4407120" cy="10994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RATOS DE PRESTAÇÃO DE SERVIÇOS E CESSÃO DE USO DE INSTA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9"/>
          <p:cNvSpPr/>
          <p:nvPr/>
        </p:nvSpPr>
        <p:spPr>
          <a:xfrm>
            <a:off x="3203640" y="3722760"/>
            <a:ext cx="2448000" cy="1099440"/>
          </a:xfrm>
          <a:prstGeom prst="rect">
            <a:avLst/>
          </a:prstGeom>
          <a:solidFill>
            <a:srgbClr val="d9d9d9"/>
          </a:solidFill>
          <a:ln w="19080">
            <a:solidFill>
              <a:srgbClr val="000000"/>
            </a:solidFill>
            <a:miter/>
          </a:ln>
          <a:effectLst>
            <a:outerShdw dist="50760" dir="5400000" blurRad="0" rotWithShape="0">
              <a:srgbClr val="b3b3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DE TABELA DE HONOR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4000" y="2708280"/>
            <a:ext cx="4132080" cy="1225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VÊNIOS ANOTAÇÃO DE RESPONSABILIDADE TÉCNICA – 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13"/>
          <p:cNvSpPr/>
          <p:nvPr/>
        </p:nvSpPr>
        <p:spPr>
          <a:xfrm>
            <a:off x="4218120" y="4876920"/>
            <a:ext cx="4824360" cy="1769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TROLE DA EXECUÇÃO/PRESTAÇÃO DE CONTAS DE CONTRATOS E CONVÊNIOS COM ENTIDADES DE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tângulo 14"/>
          <p:cNvSpPr/>
          <p:nvPr/>
        </p:nvSpPr>
        <p:spPr>
          <a:xfrm>
            <a:off x="2771640" y="3860640"/>
            <a:ext cx="2646360" cy="1099440"/>
          </a:xfrm>
          <a:prstGeom prst="rect">
            <a:avLst/>
          </a:prstGeom>
          <a:solidFill>
            <a:srgbClr val="bfbfb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VÊNIOS INSTITUCIONAIS E DE BENEFÍ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2"/>
          <p:cNvSpPr/>
          <p:nvPr/>
        </p:nvSpPr>
        <p:spPr>
          <a:xfrm>
            <a:off x="1763640" y="1773360"/>
            <a:ext cx="5724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VÊN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2960" y="1773360"/>
            <a:ext cx="5194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SP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15"/>
          <p:cNvSpPr/>
          <p:nvPr/>
        </p:nvSpPr>
        <p:spPr>
          <a:xfrm>
            <a:off x="3780000" y="3687840"/>
            <a:ext cx="3313080" cy="1008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ME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16"/>
          <p:cNvSpPr/>
          <p:nvPr/>
        </p:nvSpPr>
        <p:spPr>
          <a:xfrm>
            <a:off x="1155600" y="2924280"/>
            <a:ext cx="2952720" cy="10087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1"/>
          <p:cNvSpPr/>
          <p:nvPr/>
        </p:nvSpPr>
        <p:spPr>
          <a:xfrm>
            <a:off x="6516720" y="4508640"/>
            <a:ext cx="2376360" cy="1313640"/>
          </a:xfrm>
          <a:prstGeom prst="rect">
            <a:avLst/>
          </a:prstGeom>
          <a:solidFill>
            <a:srgbClr val="bfbfb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PORTE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79280" y="29242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Representar o CREA-SP no município para o qual foi nomeado, para junto à comunidade, melhorar a eficiência das ações da fiscalização, em defesa do exercício profissional e da segurança da socied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2"/>
          <p:cNvSpPr/>
          <p:nvPr/>
        </p:nvSpPr>
        <p:spPr>
          <a:xfrm>
            <a:off x="212256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R INSPETOR 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412920" y="1628640"/>
            <a:ext cx="83055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PE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O profissional nomeado deve estar  legalmente habilitado e em situação regular perante o CREA-S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O Inspetor deverá possuir domicílio no município para o qual foi indicado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609480" y="1773360"/>
            <a:ext cx="8153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PE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ahoma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ahoma"/>
              </a:rPr>
              <a:t>O exercício da função de Inspetor é honorífic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35000" y="1628640"/>
            <a:ext cx="89010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-CHE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17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XIX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-representar o Sistema CONFEA/CREA perante os profissionais, comunidade, órgãos públicos e municipais e entidades privadas, mediante nomeação do Presidente do CREA-S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-agir com imparcialidade e transparência nas ações referentes à fiscalização das profissões abrangidas pelo Sistema CONFEA/C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68120" y="1628640"/>
            <a:ext cx="86695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§ 1º do 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 do Regulamento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VI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V-reconhecer que, depois de indicado e nomeado, é membro efetivo da Comissão Auxiliar de Fiscalização-CAF de seu município para exercer as funções que competirem ao Inspe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VI-emitir análise prévia e formalizar sugestão em processo encaminhado à C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5:38:28Z</dcterms:created>
  <dc:creator>usuario</dc:creator>
  <dc:description/>
  <dc:language>en-US</dc:language>
  <cp:lastModifiedBy>Usuario</cp:lastModifiedBy>
  <cp:lastPrinted>2012-03-23T14:44:36Z</cp:lastPrinted>
  <dcterms:modified xsi:type="dcterms:W3CDTF">2012-04-12T16:10:24Z</dcterms:modified>
  <cp:revision>516</cp:revision>
  <dc:subject/>
  <dc:title>PEGS</dc:title>
</cp:coreProperties>
</file>