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8F7-BAE1-43AE-A0B4-E7EF7507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495-B772-424F-B4F6-2D97D3C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5D5-B0F1-40B3-96D5-90BBE319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419-0F87-4BCC-B139-E0AD0E3C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A8E-FE13-44B7-BE75-60A0644D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616-3EC1-44ED-87D9-E34971E7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54F-9B37-4687-B6F5-0747DFA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35F-8DEB-4DE7-B7EB-78C50848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9BD-9DEA-406A-8432-5F0D3C21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66F-029F-43A8-9DEE-DA709D0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5F0-C8F7-4240-8B19-535C2447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D9C-9B82-4F08-B201-8BE5BDB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463F-36C4-4F78-81F6-6DED803F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hsm.updateordie.com/files/2010/02/carnaval.jpg&amp;imgrefurl=http://hsm.updateordie.com/uncategorized/2010/02/vamos-colocar-a-magia-do-carnaval-dentro-das-empresas/&amp;h=400&amp;w=400&amp;sz=33&amp;tbnid=9QxUZqRlnGiYZM:&amp;tbnh=124&amp;tbnw=124&amp;prev=/images?q=carnaval&amp;hl=pt-BR&amp;usg=__zapXluIwP7EIbjCrZVmkohtloSA=&amp;sa=X&amp;ei=7HQjTIXcI5CinQevgekm&amp;ved=0CDIQ9QEwBQ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hsm.updateordie.com/files/2010/02/carnaval.jpg&amp;imgrefurl=http://hsm.updateordie.com/uncategorized/2010/02/vamos-colocar-a-magia-do-carnaval-dentro-das-empresas/&amp;h=400&amp;w=400&amp;sz=33&amp;tbnid=9QxUZqRlnGiYZM:&amp;tbnh=124&amp;tbnw=124&amp;prev=/images?q=carnaval&amp;hl=pt-BR&amp;usg=__zapXluIwP7EIbjCrZVmkohtloSA=&amp;sa=X&amp;ei=7HQjTIXcI5CinQevgekm&amp;ved=0CDIQ9QEwBQ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hyperlink" Target="http://www.google.com.br/imgres?imgurl=http://hsm.updateordie.com/files/2010/02/carnaval.jpg&amp;imgrefurl=http://hsm.updateordie.com/uncategorized/2010/02/vamos-colocar-a-magia-do-carnaval-dentro-das-empresas/&amp;h=400&amp;w=400&amp;sz=33&amp;tbnid=9QxUZqRlnGiYZM:&amp;tbnh=124&amp;tbnw=124&amp;prev=/images?q=carnaval&amp;hl=pt-BR&amp;usg=__zapXluIwP7EIbjCrZVmkohtloSA=&amp;sa=X&amp;ei=7HQjTIXcI5CinQevgekm&amp;ved=0CDIQ9QEwBQ" TargetMode="External"/><Relationship Id="rId5" Type="http://schemas.openxmlformats.org/officeDocument/2006/relationships/hyperlink" Target="http://www.google.com.br/imgres?imgurl=http://hsm.updateordie.com/files/2010/02/carnaval.jpg&amp;imgrefurl=http://hsm.updateordie.com/uncategorized/2010/02/vamos-colocar-a-magia-do-carnaval-dentro-das-empresas/&amp;h=400&amp;w=400&amp;sz=33&amp;tbnid=9QxUZqRlnGiYZM:&amp;tbnh=124&amp;tbnw=124&amp;prev=/images?q=carnaval&amp;hl=pt-BR&amp;usg=__zapXluIwP7EIbjCrZVmkohtloSA=&amp;sa=X&amp;ei=7HQjTIXcI5CinQevgekm&amp;ved=0CDIQ9QEwBQ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google.com.br/imgres?imgurl=http://hsm.updateordie.com/files/2010/02/carnaval.jpg&amp;imgrefurl=http://hsm.updateordie.com/uncategorized/2010/02/vamos-colocar-a-magia-do-carnaval-dentro-das-empresas/&amp;h=400&amp;w=400&amp;sz=33&amp;tbnid=9QxUZqRlnGiYZM:&amp;tbnh=124&amp;tbnw=124&amp;prev=/images?q=carnaval&amp;hl=pt-BR&amp;usg=__zapXluIwP7EIbjCrZVmkohtloSA=&amp;sa=X&amp;ei=7HQjTIXcI5CinQevgekm&amp;ved=0CDIQ9QEwBQ" TargetMode="External"/><Relationship Id="rId5" Type="http://schemas.openxmlformats.org/officeDocument/2006/relationships/hyperlink" Target="http://www.google.com.br/imgres?imgurl=http://hsm.updateordie.com/files/2010/02/carnaval.jpg&amp;imgrefurl=http://hsm.updateordie.com/uncategorized/2010/02/vamos-colocar-a-magia-do-carnaval-dentro-das-empresas/&amp;h=400&amp;w=400&amp;sz=33&amp;tbnid=9QxUZqRlnGiYZM:&amp;tbnh=124&amp;tbnw=124&amp;prev=/images?q=carnaval&amp;hl=pt-BR&amp;usg=__zapXluIwP7EIbjCrZVmkohtloSA=&amp;sa=X&amp;ei=7HQjTIXcI5CinQevgekm&amp;ved=0CDIQ9QEwBQ" TargetMode="External"/><Relationship Id="rId6" Type="http://schemas.openxmlformats.org/officeDocument/2006/relationships/hyperlink" Target="http://www.google.com.br/imgres?imgurl=http://www.meninomaluquinho.com.br/imagensPaginas/mmp465_carnaval.gif&amp;imgrefurl=http://portuguesembadajoz.wordpress.com/2010/02/06/preparar-o-carnaval-na-escola/&amp;h=308&amp;w=300&amp;sz=47&amp;tbnid=CgLZqIc8iJfdAM:&amp;tbnh=117&amp;tbnw=114&amp;prev=/images?q=carnaval&amp;hl=pt-BR&amp;usg=__QB-7EsLFZ81WvUjKhe_FG_Vnync=&amp;sa=X&amp;ei=7HQjTIXcI5CinQevgekm&amp;ved=0CDgQ9QEwCA" TargetMode="External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46530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uperintendência de Fiscalização - SUPF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tângulo 5"/>
          <p:cNvSpPr/>
          <p:nvPr/>
        </p:nvSpPr>
        <p:spPr>
          <a:xfrm>
            <a:off x="0" y="2349360"/>
            <a:ext cx="9144000" cy="1727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SEMINÁRIO DE INTEGRAÇÃ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 Black"/>
              </a:rPr>
              <a:t>INSPETORES E CORPO GERENCIAL DO CREA-S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6" descr=""/>
          <p:cNvPicPr/>
          <p:nvPr/>
        </p:nvPicPr>
        <p:blipFill>
          <a:blip r:embed="rId1"/>
          <a:stretch/>
        </p:blipFill>
        <p:spPr>
          <a:xfrm>
            <a:off x="1309680" y="4428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08600" y="746280"/>
            <a:ext cx="38890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tângulo 7"/>
          <p:cNvSpPr/>
          <p:nvPr/>
        </p:nvSpPr>
        <p:spPr>
          <a:xfrm>
            <a:off x="0" y="200160"/>
            <a:ext cx="8893080" cy="780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RE-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sp>
        <p:nvSpPr>
          <p:cNvPr id="187" name="Retângulo 11"/>
          <p:cNvSpPr/>
          <p:nvPr/>
        </p:nvSpPr>
        <p:spPr>
          <a:xfrm>
            <a:off x="0" y="6446880"/>
            <a:ext cx="6516720" cy="22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CaixaDeTexto 8"/>
          <p:cNvSpPr/>
          <p:nvPr/>
        </p:nvSpPr>
        <p:spPr>
          <a:xfrm>
            <a:off x="5364000" y="1484280"/>
            <a:ext cx="345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ENTE: VICENTE MALZONI NET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97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233 PROFISS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CaixaDeTexto 10"/>
          <p:cNvSpPr/>
          <p:nvPr/>
        </p:nvSpPr>
        <p:spPr>
          <a:xfrm>
            <a:off x="279360" y="4686480"/>
            <a:ext cx="31402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Inspeto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 Representações Municip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8 Inspe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8 Inspetores Chef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 Inspetores Especi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1" descr="F:\APRESENTAÇÃO - ENCONTRO INSPETORES\mapa\CREA-SP.png"/>
          <p:cNvPicPr/>
          <p:nvPr/>
        </p:nvPicPr>
        <p:blipFill>
          <a:blip r:embed="rId3"/>
          <a:stretch/>
        </p:blipFill>
        <p:spPr>
          <a:xfrm>
            <a:off x="4643280" y="2852640"/>
            <a:ext cx="1792440" cy="1171800"/>
          </a:xfrm>
          <a:prstGeom prst="rect">
            <a:avLst/>
          </a:prstGeom>
          <a:ln w="0">
            <a:noFill/>
          </a:ln>
        </p:spPr>
      </p:pic>
      <p:sp>
        <p:nvSpPr>
          <p:cNvPr id="191" name="Conector reto 13"/>
          <p:cNvSpPr/>
          <p:nvPr/>
        </p:nvSpPr>
        <p:spPr>
          <a:xfrm>
            <a:off x="2698920" y="1195560"/>
            <a:ext cx="2841480" cy="1944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Conector reto 21"/>
          <p:cNvSpPr/>
          <p:nvPr/>
        </p:nvSpPr>
        <p:spPr>
          <a:xfrm flipV="1">
            <a:off x="3635280" y="3320640"/>
            <a:ext cx="2016360" cy="1258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Imagem 2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4078080" cy="3713400"/>
          </a:xfrm>
          <a:prstGeom prst="rect">
            <a:avLst/>
          </a:prstGeom>
          <a:ln w="0">
            <a:noFill/>
          </a:ln>
        </p:spPr>
      </p:pic>
      <p:sp>
        <p:nvSpPr>
          <p:cNvPr id="194" name="CaixaDeTexto 8"/>
          <p:cNvSpPr/>
          <p:nvPr/>
        </p:nvSpPr>
        <p:spPr>
          <a:xfrm>
            <a:off x="1781280" y="3956040"/>
            <a:ext cx="1557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SÃO CARL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fael Mora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CaixaDeTexto 8"/>
          <p:cNvSpPr/>
          <p:nvPr/>
        </p:nvSpPr>
        <p:spPr>
          <a:xfrm>
            <a:off x="2898720" y="1773360"/>
            <a:ext cx="1557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ARARAQUAR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cente Malzon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CaixaDeTexto 10"/>
          <p:cNvSpPr/>
          <p:nvPr/>
        </p:nvSpPr>
        <p:spPr>
          <a:xfrm>
            <a:off x="5065560" y="4149720"/>
            <a:ext cx="352908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 Agrono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 Engª Agrimens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Engª Civ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8 Engª Segurança do Traba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Engª Elét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9 Engª Mecânica e Metalúrgic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 Engª Quím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 Geologia e Engª de Min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425760" y="4986360"/>
            <a:ext cx="1511280" cy="865080"/>
            <a:chOff x="3425760" y="4986360"/>
            <a:chExt cx="1511280" cy="865080"/>
          </a:xfrm>
        </p:grpSpPr>
        <p:sp>
          <p:nvSpPr>
            <p:cNvPr id="198" name=""/>
            <p:cNvSpPr/>
            <p:nvPr/>
          </p:nvSpPr>
          <p:spPr>
            <a:xfrm>
              <a:off x="3425760" y="4986360"/>
              <a:ext cx="1511280" cy="865080"/>
            </a:xfrm>
            <a:custGeom>
              <a:avLst/>
              <a:gdLst>
                <a:gd name="textAreaLeft" fmla="*/ 236160 w 1511280"/>
                <a:gd name="textAreaRight" fmla="*/ 1322640 w 1511280"/>
                <a:gd name="textAreaTop" fmla="*/ 216360 h 865080"/>
                <a:gd name="textAreaBottom" fmla="*/ 6490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68400" y="5279760"/>
              <a:ext cx="11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alida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539640" y="42940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Eng. Civ. Luiz Roberto S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uperintendência de Fiscalização - SUPF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tângulo 5"/>
          <p:cNvSpPr/>
          <p:nvPr/>
        </p:nvSpPr>
        <p:spPr>
          <a:xfrm>
            <a:off x="0" y="2708280"/>
            <a:ext cx="9144000" cy="925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GRADECIMENTOS A ATENÇÃO DE TODO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6" descr=""/>
          <p:cNvPicPr/>
          <p:nvPr/>
        </p:nvPicPr>
        <p:blipFill>
          <a:blip r:embed="rId1"/>
          <a:stretch/>
        </p:blipFill>
        <p:spPr>
          <a:xfrm>
            <a:off x="1222200" y="404640"/>
            <a:ext cx="1698840" cy="1467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45040" y="693720"/>
            <a:ext cx="38894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11"/>
          <p:cNvSpPr/>
          <p:nvPr/>
        </p:nvSpPr>
        <p:spPr>
          <a:xfrm>
            <a:off x="0" y="6446880"/>
            <a:ext cx="6516720" cy="22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72880" y="1303200"/>
            <a:ext cx="8533080" cy="4608720"/>
            <a:chOff x="272880" y="1303200"/>
            <a:chExt cx="8533080" cy="4608720"/>
          </a:xfrm>
        </p:grpSpPr>
        <p:cxnSp>
          <p:nvCxnSpPr>
            <p:cNvPr id="51" name="_s119817"/>
            <p:cNvCxnSpPr/>
            <p:nvPr/>
          </p:nvCxnSpPr>
          <p:spPr>
            <a:xfrm flipV="1">
              <a:off x="4500720" y="1996920"/>
              <a:ext cx="2160" cy="30009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2" name="_s119819"/>
            <p:cNvSpPr/>
            <p:nvPr/>
          </p:nvSpPr>
          <p:spPr>
            <a:xfrm>
              <a:off x="3817800" y="1303200"/>
              <a:ext cx="1368720" cy="682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IDEN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_s119820"/>
            <p:cNvSpPr/>
            <p:nvPr/>
          </p:nvSpPr>
          <p:spPr>
            <a:xfrm>
              <a:off x="4716360" y="2116080"/>
              <a:ext cx="1295640" cy="627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TOR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_s1037"/>
            <p:cNvSpPr/>
            <p:nvPr/>
          </p:nvSpPr>
          <p:spPr>
            <a:xfrm>
              <a:off x="4726080" y="2886120"/>
              <a:ext cx="1358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sessori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rlamentar - AP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16360" y="2886120"/>
              <a:ext cx="1368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sessoria d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sidência - 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6" name="_s1031"/>
            <p:cNvCxnSpPr/>
            <p:nvPr/>
          </p:nvCxnSpPr>
          <p:spPr>
            <a:xfrm rot="10800000">
              <a:off x="4284000" y="3174480"/>
              <a:ext cx="4323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7" name=""/>
            <p:cNvCxnSpPr/>
            <p:nvPr/>
          </p:nvCxnSpPr>
          <p:spPr>
            <a:xfrm rot="10800000">
              <a:off x="3069360" y="5012640"/>
              <a:ext cx="5112720" cy="2160"/>
            </a:xfrm>
            <a:prstGeom prst="bentConnector3">
              <a:avLst>
                <a:gd name="adj1" fmla="val 14253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8" name="_s1037"/>
            <p:cNvSpPr/>
            <p:nvPr/>
          </p:nvSpPr>
          <p:spPr>
            <a:xfrm>
              <a:off x="4554360" y="5208480"/>
              <a:ext cx="1368720" cy="7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intendência de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stão Estratégi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G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3080" y="5191200"/>
              <a:ext cx="136872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intendênc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s Colegi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CO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_s1037"/>
            <p:cNvSpPr/>
            <p:nvPr/>
          </p:nvSpPr>
          <p:spPr>
            <a:xfrm>
              <a:off x="4719600" y="3606840"/>
              <a:ext cx="13651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vidori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6360" y="3606840"/>
              <a:ext cx="1368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binete d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sidência - GP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" name=""/>
            <p:cNvCxnSpPr/>
            <p:nvPr/>
          </p:nvCxnSpPr>
          <p:spPr>
            <a:xfrm rot="10800000">
              <a:off x="4277520" y="3895200"/>
              <a:ext cx="432720" cy="2160"/>
            </a:xfrm>
            <a:prstGeom prst="bentConnector3">
              <a:avLst>
                <a:gd name="adj1" fmla="val 499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3" name="_s1037"/>
            <p:cNvSpPr/>
            <p:nvPr/>
          </p:nvSpPr>
          <p:spPr>
            <a:xfrm>
              <a:off x="4719600" y="4316400"/>
              <a:ext cx="13651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ultori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rídica - CJ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16360" y="4316400"/>
              <a:ext cx="136836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retaria Ger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5" name=""/>
            <p:cNvCxnSpPr/>
            <p:nvPr/>
          </p:nvCxnSpPr>
          <p:spPr>
            <a:xfrm rot="10800000">
              <a:off x="4277520" y="4604760"/>
              <a:ext cx="432720" cy="2160"/>
            </a:xfrm>
            <a:prstGeom prst="bentConnector3">
              <a:avLst>
                <a:gd name="adj1" fmla="val 499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6" name="_s1029"/>
            <p:cNvCxnSpPr/>
            <p:nvPr/>
          </p:nvCxnSpPr>
          <p:spPr>
            <a:xfrm flipH="1" flipV="1" rot="5400000">
              <a:off x="5171040" y="5090040"/>
              <a:ext cx="14364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7" name="_s1029"/>
            <p:cNvCxnSpPr/>
            <p:nvPr/>
          </p:nvCxnSpPr>
          <p:spPr>
            <a:xfrm flipH="1" flipV="1" rot="5400000">
              <a:off x="2237400" y="5083560"/>
              <a:ext cx="14364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8" name=""/>
            <p:cNvSpPr/>
            <p:nvPr/>
          </p:nvSpPr>
          <p:spPr>
            <a:xfrm>
              <a:off x="1692360" y="5191200"/>
              <a:ext cx="122544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intendênci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Fiscalizaçã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FI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2880" y="5191200"/>
              <a:ext cx="12258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intendênc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ntrolador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C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" name=""/>
            <p:cNvCxnSpPr/>
            <p:nvPr/>
          </p:nvCxnSpPr>
          <p:spPr>
            <a:xfrm flipH="1" flipV="1" rot="5400000">
              <a:off x="6629760" y="5083200"/>
              <a:ext cx="1436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1" name=""/>
            <p:cNvSpPr/>
            <p:nvPr/>
          </p:nvSpPr>
          <p:spPr>
            <a:xfrm>
              <a:off x="6084720" y="5191200"/>
              <a:ext cx="12258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intendênci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rídic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J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7440" y="5191200"/>
              <a:ext cx="129852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intendência 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unicação e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os - SUPC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3" name="_s1031"/>
            <p:cNvCxnSpPr>
              <a:stCxn id="53" idx="1"/>
            </p:cNvCxnSpPr>
            <p:nvPr/>
          </p:nvCxnSpPr>
          <p:spPr>
            <a:xfrm rot="10800000">
              <a:off x="4510800" y="2428200"/>
              <a:ext cx="205560" cy="21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4" name=""/>
            <p:cNvCxnSpPr/>
            <p:nvPr/>
          </p:nvCxnSpPr>
          <p:spPr>
            <a:xfrm flipH="1" flipV="1" rot="5400000">
              <a:off x="8101440" y="5094360"/>
              <a:ext cx="1436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5" name=""/>
            <p:cNvCxnSpPr/>
            <p:nvPr/>
          </p:nvCxnSpPr>
          <p:spPr>
            <a:xfrm flipH="1" flipV="1" rot="5400000">
              <a:off x="817920" y="5072040"/>
              <a:ext cx="1436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6" name=""/>
            <p:cNvCxnSpPr/>
            <p:nvPr/>
          </p:nvCxnSpPr>
          <p:spPr>
            <a:xfrm flipH="1" flipV="1" rot="5400000">
              <a:off x="3659760" y="5083560"/>
              <a:ext cx="14364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7" name=""/>
            <p:cNvSpPr/>
            <p:nvPr/>
          </p:nvSpPr>
          <p:spPr>
            <a:xfrm>
              <a:off x="1908000" y="2781360"/>
              <a:ext cx="5481720" cy="33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040" y="3390840"/>
              <a:ext cx="23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UTURA AUXILI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094120"/>
              <a:ext cx="201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UTURA BÁS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Retângulo 7"/>
          <p:cNvSpPr/>
          <p:nvPr/>
        </p:nvSpPr>
        <p:spPr>
          <a:xfrm>
            <a:off x="0" y="165240"/>
            <a:ext cx="8820000" cy="753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Black"/>
              </a:rPr>
              <a:t>ESTRUTURA GERAL  DO CREA-SP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6">
            <a:hlinkClick r:id="rId1"/>
          </p:cNvPr>
          <p:cNvSpPr/>
          <p:nvPr/>
        </p:nvSpPr>
        <p:spPr>
          <a:xfrm>
            <a:off x="4200480" y="305748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tângulo 7"/>
          <p:cNvSpPr/>
          <p:nvPr/>
        </p:nvSpPr>
        <p:spPr>
          <a:xfrm>
            <a:off x="0" y="165240"/>
            <a:ext cx="8820000" cy="792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Black"/>
              </a:rPr>
              <a:t>ESTRUTURA ANTERI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tângulo 11"/>
          <p:cNvSpPr/>
          <p:nvPr/>
        </p:nvSpPr>
        <p:spPr>
          <a:xfrm>
            <a:off x="0" y="6446880"/>
            <a:ext cx="6516720" cy="22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826920" y="1644840"/>
            <a:ext cx="7407360" cy="4160880"/>
            <a:chOff x="826920" y="1644840"/>
            <a:chExt cx="7407360" cy="4160880"/>
          </a:xfrm>
        </p:grpSpPr>
        <p:cxnSp>
          <p:nvCxnSpPr>
            <p:cNvPr id="86" name="_s121864"/>
            <p:cNvCxnSpPr>
              <a:stCxn id="87" idx="0"/>
            </p:cNvCxnSpPr>
            <p:nvPr/>
          </p:nvCxnSpPr>
          <p:spPr>
            <a:xfrm flipH="1" flipV="1" rot="5400000">
              <a:off x="2727720" y="4158360"/>
              <a:ext cx="984960" cy="2160"/>
            </a:xfrm>
            <a:prstGeom prst="bentConnector3">
              <a:avLst>
                <a:gd name="adj1" fmla="val 1159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8" name="_s121865"/>
            <p:cNvCxnSpPr>
              <a:stCxn id="89" idx="0"/>
              <a:endCxn id="90" idx="2"/>
            </p:cNvCxnSpPr>
            <p:nvPr/>
          </p:nvCxnSpPr>
          <p:spPr>
            <a:xfrm flipH="1" flipV="1" rot="5400000">
              <a:off x="3665160" y="2419200"/>
              <a:ext cx="443520" cy="1288080"/>
            </a:xfrm>
            <a:prstGeom prst="bentConnector3">
              <a:avLst>
                <a:gd name="adj1" fmla="val 257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1" name="_s121866"/>
            <p:cNvCxnSpPr/>
            <p:nvPr/>
          </p:nvCxnSpPr>
          <p:spPr>
            <a:xfrm rot="10800000">
              <a:off x="4537800" y="3173040"/>
              <a:ext cx="1394640" cy="94320"/>
            </a:xfrm>
            <a:prstGeom prst="bentConnector3">
              <a:avLst>
                <a:gd name="adj1" fmla="val 818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0" name="_s121867"/>
            <p:cNvSpPr/>
            <p:nvPr/>
          </p:nvSpPr>
          <p:spPr>
            <a:xfrm>
              <a:off x="3343320" y="1689480"/>
              <a:ext cx="2374920" cy="1152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erintendênci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c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OP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121868"/>
            <p:cNvSpPr/>
            <p:nvPr/>
          </p:nvSpPr>
          <p:spPr>
            <a:xfrm>
              <a:off x="2306520" y="3284640"/>
              <a:ext cx="1871640" cy="1204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partamen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 de Regis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E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21869"/>
            <p:cNvSpPr/>
            <p:nvPr/>
          </p:nvSpPr>
          <p:spPr>
            <a:xfrm>
              <a:off x="4876920" y="3284640"/>
              <a:ext cx="1944720" cy="1204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 Departament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ona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6"/>
            <p:cNvSpPr/>
            <p:nvPr/>
          </p:nvSpPr>
          <p:spPr>
            <a:xfrm>
              <a:off x="6073920" y="1656000"/>
              <a:ext cx="2160360" cy="11923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erintendência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ações Instituciona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R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5"/>
            <p:cNvSpPr/>
            <p:nvPr/>
          </p:nvSpPr>
          <p:spPr>
            <a:xfrm>
              <a:off x="826920" y="1644840"/>
              <a:ext cx="2160720" cy="11923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erintendência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ções Especiais de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scalizaçã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F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21872"/>
            <p:cNvSpPr/>
            <p:nvPr/>
          </p:nvSpPr>
          <p:spPr>
            <a:xfrm>
              <a:off x="2225520" y="4651560"/>
              <a:ext cx="1986120" cy="1154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dade de Controle 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endiment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6">
            <a:hlinkClick r:id="rId1"/>
          </p:cNvPr>
          <p:cNvSpPr/>
          <p:nvPr/>
        </p:nvSpPr>
        <p:spPr>
          <a:xfrm>
            <a:off x="4200480" y="305748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tângulo 7"/>
          <p:cNvSpPr/>
          <p:nvPr/>
        </p:nvSpPr>
        <p:spPr>
          <a:xfrm>
            <a:off x="0" y="209520"/>
            <a:ext cx="8820000" cy="792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Black"/>
              </a:rPr>
              <a:t>NOVA ESTRUTU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tângulo 11"/>
          <p:cNvSpPr/>
          <p:nvPr/>
        </p:nvSpPr>
        <p:spPr>
          <a:xfrm>
            <a:off x="0" y="6453360"/>
            <a:ext cx="6516720" cy="22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35080" y="1621080"/>
            <a:ext cx="8540640" cy="3613320"/>
            <a:chOff x="235080" y="1621080"/>
            <a:chExt cx="8540640" cy="3613320"/>
          </a:xfrm>
        </p:grpSpPr>
        <p:cxnSp>
          <p:nvCxnSpPr>
            <p:cNvPr id="100" name="_s10269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934240" y="4099320"/>
              <a:ext cx="146880" cy="2520"/>
            </a:xfrm>
            <a:prstGeom prst="bentConnector3">
              <a:avLst>
                <a:gd name="adj1" fmla="val 4987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3" name="_s10265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6179400" y="1139400"/>
              <a:ext cx="313560" cy="3297960"/>
            </a:xfrm>
            <a:prstGeom prst="bentConnector3">
              <a:avLst>
                <a:gd name="adj1" fmla="val 3643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6" name="_s10263"/>
            <p:cNvCxnSpPr>
              <a:stCxn id="102" idx="0"/>
              <a:endCxn id="105" idx="2"/>
            </p:cNvCxnSpPr>
            <p:nvPr/>
          </p:nvCxnSpPr>
          <p:spPr>
            <a:xfrm flipV="1" rot="16200000">
              <a:off x="5191560" y="2127600"/>
              <a:ext cx="311760" cy="131976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7" name="_s10262"/>
            <p:cNvCxnSpPr>
              <a:stCxn id="108" idx="0"/>
              <a:endCxn id="105" idx="2"/>
            </p:cNvCxnSpPr>
            <p:nvPr/>
          </p:nvCxnSpPr>
          <p:spPr>
            <a:xfrm flipH="1" flipV="1" rot="5400000">
              <a:off x="4101840" y="2357280"/>
              <a:ext cx="311760" cy="8611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9" name="_s10261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2918160" y="1173600"/>
              <a:ext cx="311760" cy="32281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05" name="_s10257"/>
            <p:cNvSpPr/>
            <p:nvPr/>
          </p:nvSpPr>
          <p:spPr>
            <a:xfrm>
              <a:off x="3548160" y="1621080"/>
              <a:ext cx="2278080" cy="1011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erintendência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scalização – SUPF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iz Roberto Seg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258"/>
            <p:cNvSpPr/>
            <p:nvPr/>
          </p:nvSpPr>
          <p:spPr>
            <a:xfrm>
              <a:off x="235080" y="2943360"/>
              <a:ext cx="2449440" cy="1084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partament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ações Institucionais – DR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lson Olivei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259"/>
            <p:cNvSpPr/>
            <p:nvPr/>
          </p:nvSpPr>
          <p:spPr>
            <a:xfrm>
              <a:off x="2827440" y="2943360"/>
              <a:ext cx="1998720" cy="1096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cional – DO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emir Ama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0260"/>
            <p:cNvSpPr/>
            <p:nvPr/>
          </p:nvSpPr>
          <p:spPr>
            <a:xfrm>
              <a:off x="4994280" y="2943360"/>
              <a:ext cx="2023920" cy="10843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 Registro – D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ciana Ferr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0264"/>
            <p:cNvSpPr/>
            <p:nvPr/>
          </p:nvSpPr>
          <p:spPr>
            <a:xfrm>
              <a:off x="7193160" y="2945160"/>
              <a:ext cx="1582560" cy="10746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 Departament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onai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0268"/>
            <p:cNvSpPr/>
            <p:nvPr/>
          </p:nvSpPr>
          <p:spPr>
            <a:xfrm>
              <a:off x="5049720" y="4173840"/>
              <a:ext cx="1917720" cy="1060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dade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endimento – U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onardo Montei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1" name="Picture 11" descr="F:\APRESENTAÇÃO - ENCONTRO INSPETORES\mapa\CREA-SP.png"/>
          <p:cNvPicPr/>
          <p:nvPr/>
        </p:nvPicPr>
        <p:blipFill>
          <a:blip r:embed="rId10"/>
          <a:stretch/>
        </p:blipFill>
        <p:spPr>
          <a:xfrm>
            <a:off x="7164360" y="4076640"/>
            <a:ext cx="17049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\\ginf001\Novell\SUPOPE\MARIA LOPES\APRESENTAÇÕES DIVERSAS\Apresentações diversas\12 DEPARTAMENTOS REGIONAIS - MAPA.gif"/>
          <p:cNvPicPr/>
          <p:nvPr/>
        </p:nvPicPr>
        <p:blipFill>
          <a:blip r:embed="rId1"/>
          <a:srcRect l="6442" t="2840" r="0" b="6298"/>
          <a:stretch/>
        </p:blipFill>
        <p:spPr>
          <a:xfrm>
            <a:off x="351000" y="1046160"/>
            <a:ext cx="8424720" cy="5602320"/>
          </a:xfrm>
          <a:prstGeom prst="rect">
            <a:avLst/>
          </a:prstGeom>
          <a:ln w="0">
            <a:noFill/>
          </a:ln>
        </p:spPr>
      </p:pic>
      <p:sp>
        <p:nvSpPr>
          <p:cNvPr id="113" name="Retângulo 7"/>
          <p:cNvSpPr/>
          <p:nvPr/>
        </p:nvSpPr>
        <p:spPr>
          <a:xfrm>
            <a:off x="0" y="190440"/>
            <a:ext cx="8820000" cy="717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DIVISÃO REGIONAL DO CREA-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2 REGIÕ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ângulo 7"/>
          <p:cNvSpPr/>
          <p:nvPr/>
        </p:nvSpPr>
        <p:spPr>
          <a:xfrm>
            <a:off x="0" y="190440"/>
            <a:ext cx="8893080" cy="574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RE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sp>
        <p:nvSpPr>
          <p:cNvPr id="116" name="Retângulo 11"/>
          <p:cNvSpPr/>
          <p:nvPr/>
        </p:nvSpPr>
        <p:spPr>
          <a:xfrm>
            <a:off x="0" y="6446880"/>
            <a:ext cx="6516720" cy="22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aixaDeTexto 10"/>
          <p:cNvSpPr/>
          <p:nvPr/>
        </p:nvSpPr>
        <p:spPr>
          <a:xfrm>
            <a:off x="250920" y="4724280"/>
            <a:ext cx="3529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 Inspeto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Representações Municip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2 Inspe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Inspetores Chef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 Inspetores Especi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CaixaDeTexto 8"/>
          <p:cNvSpPr/>
          <p:nvPr/>
        </p:nvSpPr>
        <p:spPr>
          <a:xfrm>
            <a:off x="5940360" y="1197000"/>
            <a:ext cx="3203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ENTE: SÉRGIO FRANCISCO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CARVALHO CHI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58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377 PROFISS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aixaDeTexto 10"/>
          <p:cNvSpPr/>
          <p:nvPr/>
        </p:nvSpPr>
        <p:spPr>
          <a:xfrm>
            <a:off x="5076720" y="4149720"/>
            <a:ext cx="352908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 Agrono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Engª Agrimens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3 Engª Civ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Engª Segurança do Traba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 Engª Elét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Engª Mecânica e Metalúrgic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 Engª Quím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 Geologia e Engª de Min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F:\APRESENTAÇÃO - ENCONTRO INSPETORES\mapa\CREA-SP.png"/>
          <p:cNvPicPr/>
          <p:nvPr/>
        </p:nvPicPr>
        <p:blipFill>
          <a:blip r:embed="rId3"/>
          <a:stretch/>
        </p:blipFill>
        <p:spPr>
          <a:xfrm>
            <a:off x="5292720" y="2739960"/>
            <a:ext cx="1582920" cy="12524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4"/>
          </p:cNvPr>
          <p:cNvSpPr/>
          <p:nvPr/>
        </p:nvSpPr>
        <p:spPr>
          <a:xfrm>
            <a:off x="3327480" y="1015920"/>
            <a:ext cx="689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>
            <a:hlinkClick r:id="rId5"/>
          </p:cNvPr>
          <p:cNvSpPr/>
          <p:nvPr/>
        </p:nvSpPr>
        <p:spPr>
          <a:xfrm>
            <a:off x="3327480" y="1015920"/>
            <a:ext cx="689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340080" y="1015920"/>
            <a:ext cx="663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\\ginf001\Novell\SUPOPE\APRESENTAÇÃO - ENCONTRO INSPETORES\mapa\01.png"/>
          <p:cNvPicPr/>
          <p:nvPr/>
        </p:nvPicPr>
        <p:blipFill>
          <a:blip r:embed="rId6"/>
          <a:stretch/>
        </p:blipFill>
        <p:spPr>
          <a:xfrm>
            <a:off x="395280" y="949320"/>
            <a:ext cx="4051440" cy="3559320"/>
          </a:xfrm>
          <a:prstGeom prst="rect">
            <a:avLst/>
          </a:prstGeom>
          <a:ln w="0">
            <a:noFill/>
          </a:ln>
        </p:spPr>
      </p:pic>
      <p:sp>
        <p:nvSpPr>
          <p:cNvPr id="125" name="Conector reto 13"/>
          <p:cNvSpPr/>
          <p:nvPr/>
        </p:nvSpPr>
        <p:spPr>
          <a:xfrm>
            <a:off x="3894120" y="1203480"/>
            <a:ext cx="2019240" cy="1536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ector reto 25"/>
          <p:cNvSpPr/>
          <p:nvPr/>
        </p:nvSpPr>
        <p:spPr>
          <a:xfrm flipV="1">
            <a:off x="2341440" y="3366720"/>
            <a:ext cx="2951280" cy="1136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aixaDeTexto 8"/>
          <p:cNvSpPr/>
          <p:nvPr/>
        </p:nvSpPr>
        <p:spPr>
          <a:xfrm>
            <a:off x="250920" y="1773360"/>
            <a:ext cx="1692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ARAÇATUB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cardo Cur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aixaDeTexto 8"/>
          <p:cNvSpPr/>
          <p:nvPr/>
        </p:nvSpPr>
        <p:spPr>
          <a:xfrm>
            <a:off x="971640" y="836640"/>
            <a:ext cx="1655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JA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cardo Cur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CaixaDeTexto 8"/>
          <p:cNvSpPr/>
          <p:nvPr/>
        </p:nvSpPr>
        <p:spPr>
          <a:xfrm>
            <a:off x="2462040" y="3711600"/>
            <a:ext cx="2257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PRESIDENTE PRUDEN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zio Duart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aixaDeTexto 8"/>
          <p:cNvSpPr/>
          <p:nvPr/>
        </p:nvSpPr>
        <p:spPr>
          <a:xfrm>
            <a:off x="3851280" y="1628640"/>
            <a:ext cx="1709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 SÃO JOSÉ DO RIO PRE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cardo Cur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392640" y="4869000"/>
            <a:ext cx="1511280" cy="865080"/>
            <a:chOff x="3392640" y="4869000"/>
            <a:chExt cx="1511280" cy="865080"/>
          </a:xfrm>
        </p:grpSpPr>
        <p:sp>
          <p:nvSpPr>
            <p:cNvPr id="132" name=""/>
            <p:cNvSpPr/>
            <p:nvPr/>
          </p:nvSpPr>
          <p:spPr>
            <a:xfrm>
              <a:off x="3392640" y="4869000"/>
              <a:ext cx="1511280" cy="865080"/>
            </a:xfrm>
            <a:custGeom>
              <a:avLst/>
              <a:gdLst>
                <a:gd name="textAreaLeft" fmla="*/ 236160 w 1511280"/>
                <a:gd name="textAreaRight" fmla="*/ 1322640 w 1511280"/>
                <a:gd name="textAreaTop" fmla="*/ 216360 h 865080"/>
                <a:gd name="textAreaBottom" fmla="*/ 6490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5280" y="5162400"/>
              <a:ext cx="11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alida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:\APRESENTAÇÃO - ENCONTRO INSPETORES\mapa\03.png"/>
          <p:cNvPicPr/>
          <p:nvPr/>
        </p:nvPicPr>
        <p:blipFill>
          <a:blip r:embed="rId1"/>
          <a:stretch/>
        </p:blipFill>
        <p:spPr>
          <a:xfrm>
            <a:off x="755640" y="1268280"/>
            <a:ext cx="3490920" cy="2987640"/>
          </a:xfrm>
          <a:prstGeom prst="rect">
            <a:avLst/>
          </a:prstGeom>
          <a:ln w="0">
            <a:noFill/>
          </a:ln>
        </p:spPr>
      </p:pic>
      <p:sp>
        <p:nvSpPr>
          <p:cNvPr id="135" name="Retângulo 7"/>
          <p:cNvSpPr/>
          <p:nvPr/>
        </p:nvSpPr>
        <p:spPr>
          <a:xfrm>
            <a:off x="0" y="200160"/>
            <a:ext cx="8893080" cy="792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RE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sp>
        <p:nvSpPr>
          <p:cNvPr id="137" name="Retângulo 11"/>
          <p:cNvSpPr/>
          <p:nvPr/>
        </p:nvSpPr>
        <p:spPr>
          <a:xfrm>
            <a:off x="0" y="6453360"/>
            <a:ext cx="6516720" cy="222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aixaDeTexto 10"/>
          <p:cNvSpPr/>
          <p:nvPr/>
        </p:nvSpPr>
        <p:spPr>
          <a:xfrm>
            <a:off x="324000" y="4675320"/>
            <a:ext cx="31683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Inspeto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 Representações Municip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2 Inspe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Inspetores Chef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 Inspetores Especi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CaixaDeTexto 8"/>
          <p:cNvSpPr/>
          <p:nvPr/>
        </p:nvSpPr>
        <p:spPr>
          <a:xfrm>
            <a:off x="6022800" y="1185840"/>
            <a:ext cx="28432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ENTE: ARAKEN SEROR MUTR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553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456 PROFISS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>
            <a:hlinkClick r:id="rId4"/>
          </p:cNvPr>
          <p:cNvSpPr/>
          <p:nvPr/>
        </p:nvSpPr>
        <p:spPr>
          <a:xfrm>
            <a:off x="3335400" y="115236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7">
            <a:hlinkClick r:id="rId5"/>
          </p:cNvPr>
          <p:cNvSpPr/>
          <p:nvPr/>
        </p:nvSpPr>
        <p:spPr>
          <a:xfrm>
            <a:off x="3335400" y="115236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">
            <a:hlinkClick r:id="rId6"/>
          </p:cNvPr>
          <p:cNvSpPr/>
          <p:nvPr/>
        </p:nvSpPr>
        <p:spPr>
          <a:xfrm>
            <a:off x="3349800" y="1152360"/>
            <a:ext cx="714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aixaDeTexto 8"/>
          <p:cNvSpPr/>
          <p:nvPr/>
        </p:nvSpPr>
        <p:spPr>
          <a:xfrm>
            <a:off x="0" y="2852640"/>
            <a:ext cx="1562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BARRET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sé Galdi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aixaDeTexto 8"/>
          <p:cNvSpPr/>
          <p:nvPr/>
        </p:nvSpPr>
        <p:spPr>
          <a:xfrm>
            <a:off x="3548160" y="1628640"/>
            <a:ext cx="18000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FRANC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aken Mutra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F:\APRESENTAÇÃO - ENCONTRO INSPETORES\mapa\CREA-SP.png"/>
          <p:cNvPicPr/>
          <p:nvPr/>
        </p:nvPicPr>
        <p:blipFill>
          <a:blip r:embed="rId7"/>
          <a:stretch/>
        </p:blipFill>
        <p:spPr>
          <a:xfrm>
            <a:off x="4857840" y="2503440"/>
            <a:ext cx="1792080" cy="1171800"/>
          </a:xfrm>
          <a:prstGeom prst="rect">
            <a:avLst/>
          </a:prstGeom>
          <a:ln w="0">
            <a:noFill/>
          </a:ln>
        </p:spPr>
      </p:pic>
      <p:sp>
        <p:nvSpPr>
          <p:cNvPr id="146" name="Conector reto 13"/>
          <p:cNvSpPr/>
          <p:nvPr/>
        </p:nvSpPr>
        <p:spPr>
          <a:xfrm>
            <a:off x="3611520" y="1268280"/>
            <a:ext cx="2325600" cy="1284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ector reto 21"/>
          <p:cNvSpPr/>
          <p:nvPr/>
        </p:nvSpPr>
        <p:spPr>
          <a:xfrm flipV="1">
            <a:off x="3849840" y="2790720"/>
            <a:ext cx="1927080" cy="1152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CaixaDeTexto 8"/>
          <p:cNvSpPr/>
          <p:nvPr/>
        </p:nvSpPr>
        <p:spPr>
          <a:xfrm>
            <a:off x="900000" y="3716280"/>
            <a:ext cx="180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RIBEIRÃO PRE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sé Galdi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CaixaDeTexto 10"/>
          <p:cNvSpPr/>
          <p:nvPr/>
        </p:nvSpPr>
        <p:spPr>
          <a:xfrm>
            <a:off x="5221440" y="4076640"/>
            <a:ext cx="324000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9 Agrono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 Engª Agrimens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 Engª Civ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Engª Segurança do Traba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 Engª Elét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Engª Mecânica e Metalúrgic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 Engª Quím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 Geologia e Engª de Min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564000" y="4869000"/>
            <a:ext cx="1511280" cy="865080"/>
            <a:chOff x="3564000" y="4869000"/>
            <a:chExt cx="1511280" cy="865080"/>
          </a:xfrm>
        </p:grpSpPr>
        <p:sp>
          <p:nvSpPr>
            <p:cNvPr id="151" name=""/>
            <p:cNvSpPr/>
            <p:nvPr/>
          </p:nvSpPr>
          <p:spPr>
            <a:xfrm>
              <a:off x="3564000" y="4869000"/>
              <a:ext cx="1511280" cy="865080"/>
            </a:xfrm>
            <a:custGeom>
              <a:avLst/>
              <a:gdLst>
                <a:gd name="textAreaLeft" fmla="*/ 236160 w 1511280"/>
                <a:gd name="textAreaRight" fmla="*/ 1322640 w 1511280"/>
                <a:gd name="textAreaTop" fmla="*/ 216360 h 865080"/>
                <a:gd name="textAreaBottom" fmla="*/ 6490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6640" y="5162400"/>
              <a:ext cx="11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alida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tângulo 7"/>
          <p:cNvSpPr/>
          <p:nvPr/>
        </p:nvSpPr>
        <p:spPr>
          <a:xfrm>
            <a:off x="0" y="190440"/>
            <a:ext cx="8893080" cy="792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RE-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sp>
        <p:nvSpPr>
          <p:cNvPr id="155" name="Retângulo 11"/>
          <p:cNvSpPr/>
          <p:nvPr/>
        </p:nvSpPr>
        <p:spPr>
          <a:xfrm>
            <a:off x="0" y="6446880"/>
            <a:ext cx="6516720" cy="22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CaixaDeTexto 8"/>
          <p:cNvSpPr/>
          <p:nvPr/>
        </p:nvSpPr>
        <p:spPr>
          <a:xfrm>
            <a:off x="5796000" y="1125360"/>
            <a:ext cx="29512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ENTE: MARCOS DE ALMEIDA PERNAMBUCO FI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928 EMPRE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414 PROFISS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CaixaDeTexto 10"/>
          <p:cNvSpPr/>
          <p:nvPr/>
        </p:nvSpPr>
        <p:spPr>
          <a:xfrm>
            <a:off x="290520" y="4653000"/>
            <a:ext cx="309564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 Inspeto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Representações Municip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 Inspe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 Inspetores Chef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Inspetores Especi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F:\APRESENTAÇÃO - ENCONTRO INSPETORES\mapa\CREA-SP.png"/>
          <p:cNvPicPr/>
          <p:nvPr/>
        </p:nvPicPr>
        <p:blipFill>
          <a:blip r:embed="rId3"/>
          <a:stretch/>
        </p:blipFill>
        <p:spPr>
          <a:xfrm>
            <a:off x="5111640" y="2709720"/>
            <a:ext cx="1792440" cy="1171800"/>
          </a:xfrm>
          <a:prstGeom prst="rect">
            <a:avLst/>
          </a:prstGeom>
          <a:ln w="0">
            <a:noFill/>
          </a:ln>
        </p:spPr>
      </p:pic>
      <p:sp>
        <p:nvSpPr>
          <p:cNvPr id="159" name="Conector reto 13"/>
          <p:cNvSpPr/>
          <p:nvPr/>
        </p:nvSpPr>
        <p:spPr>
          <a:xfrm>
            <a:off x="3311640" y="1270080"/>
            <a:ext cx="2952720" cy="1800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ector reto 21"/>
          <p:cNvSpPr/>
          <p:nvPr/>
        </p:nvSpPr>
        <p:spPr>
          <a:xfrm flipV="1">
            <a:off x="2664000" y="3429000"/>
            <a:ext cx="3600360" cy="936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Imagem 2" descr=""/>
          <p:cNvPicPr/>
          <p:nvPr/>
        </p:nvPicPr>
        <p:blipFill>
          <a:blip r:embed="rId4"/>
          <a:stretch/>
        </p:blipFill>
        <p:spPr>
          <a:xfrm>
            <a:off x="1116000" y="1052640"/>
            <a:ext cx="2195640" cy="3362040"/>
          </a:xfrm>
          <a:prstGeom prst="rect">
            <a:avLst/>
          </a:prstGeom>
          <a:ln w="0">
            <a:noFill/>
          </a:ln>
        </p:spPr>
      </p:pic>
      <p:sp>
        <p:nvSpPr>
          <p:cNvPr id="162" name="CaixaDeTexto 8"/>
          <p:cNvSpPr/>
          <p:nvPr/>
        </p:nvSpPr>
        <p:spPr>
          <a:xfrm>
            <a:off x="2849400" y="2924280"/>
            <a:ext cx="180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LIMEIR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well Martin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CaixaDeTexto 8"/>
          <p:cNvSpPr/>
          <p:nvPr/>
        </p:nvSpPr>
        <p:spPr>
          <a:xfrm>
            <a:off x="0" y="3716280"/>
            <a:ext cx="187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PIRACICAB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rceu Zampaul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CaixaDeTexto 8"/>
          <p:cNvSpPr/>
          <p:nvPr/>
        </p:nvSpPr>
        <p:spPr>
          <a:xfrm>
            <a:off x="592200" y="1557360"/>
            <a:ext cx="1892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PIRASSUNUNG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rceu Zampaul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CaixaDeTexto 10"/>
          <p:cNvSpPr/>
          <p:nvPr/>
        </p:nvSpPr>
        <p:spPr>
          <a:xfrm>
            <a:off x="5081760" y="4083120"/>
            <a:ext cx="352872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Agrono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 Engª Agrimens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 Engª Civ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 Engª Segurança do Traba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 Engª Elét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 Engª Mecânica e Metalúrgic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 Engª Quím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 Geologia e Engª de Min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63920" y="4846680"/>
            <a:ext cx="1511280" cy="865080"/>
            <a:chOff x="3463920" y="4846680"/>
            <a:chExt cx="1511280" cy="865080"/>
          </a:xfrm>
        </p:grpSpPr>
        <p:sp>
          <p:nvSpPr>
            <p:cNvPr id="167" name=""/>
            <p:cNvSpPr/>
            <p:nvPr/>
          </p:nvSpPr>
          <p:spPr>
            <a:xfrm>
              <a:off x="3463920" y="4846680"/>
              <a:ext cx="1511280" cy="865080"/>
            </a:xfrm>
            <a:custGeom>
              <a:avLst/>
              <a:gdLst>
                <a:gd name="textAreaLeft" fmla="*/ 236160 w 1511280"/>
                <a:gd name="textAreaRight" fmla="*/ 1322640 w 1511280"/>
                <a:gd name="textAreaTop" fmla="*/ 216360 h 865080"/>
                <a:gd name="textAreaBottom" fmla="*/ 6490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06560" y="5140080"/>
              <a:ext cx="11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alida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7"/>
          <p:cNvSpPr/>
          <p:nvPr/>
        </p:nvSpPr>
        <p:spPr>
          <a:xfrm>
            <a:off x="0" y="190440"/>
            <a:ext cx="8893080" cy="792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RE-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73960" y="6264360"/>
            <a:ext cx="2560680" cy="585720"/>
          </a:xfrm>
          <a:prstGeom prst="rect">
            <a:avLst/>
          </a:prstGeom>
          <a:ln w="0">
            <a:noFill/>
          </a:ln>
        </p:spPr>
      </p:pic>
      <p:sp>
        <p:nvSpPr>
          <p:cNvPr id="171" name="Retângulo 11"/>
          <p:cNvSpPr/>
          <p:nvPr/>
        </p:nvSpPr>
        <p:spPr>
          <a:xfrm>
            <a:off x="0" y="6446880"/>
            <a:ext cx="6516720" cy="22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aixaDeTexto 8"/>
          <p:cNvSpPr/>
          <p:nvPr/>
        </p:nvSpPr>
        <p:spPr>
          <a:xfrm>
            <a:off x="5796000" y="1125360"/>
            <a:ext cx="31320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ENTE: LUIZ BOMBONATO FI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00 EMPRES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176 PROFISSION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CaixaDeTexto 10"/>
          <p:cNvSpPr/>
          <p:nvPr/>
        </p:nvSpPr>
        <p:spPr>
          <a:xfrm>
            <a:off x="239760" y="4648320"/>
            <a:ext cx="30369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Inspeto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 Representações Municip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 Inspe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Inspetores Chef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 Inspetores Especia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1" descr="F:\APRESENTAÇÃO - ENCONTRO INSPETORES\mapa\CREA-SP.png"/>
          <p:cNvPicPr/>
          <p:nvPr/>
        </p:nvPicPr>
        <p:blipFill>
          <a:blip r:embed="rId3"/>
          <a:stretch/>
        </p:blipFill>
        <p:spPr>
          <a:xfrm>
            <a:off x="5045040" y="2649600"/>
            <a:ext cx="1792440" cy="1171440"/>
          </a:xfrm>
          <a:prstGeom prst="rect">
            <a:avLst/>
          </a:prstGeom>
          <a:ln w="0">
            <a:noFill/>
          </a:ln>
        </p:spPr>
      </p:pic>
      <p:sp>
        <p:nvSpPr>
          <p:cNvPr id="175" name="Conector reto 13"/>
          <p:cNvSpPr/>
          <p:nvPr/>
        </p:nvSpPr>
        <p:spPr>
          <a:xfrm>
            <a:off x="5235480" y="2433600"/>
            <a:ext cx="706680" cy="647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Conector reto 21"/>
          <p:cNvSpPr/>
          <p:nvPr/>
        </p:nvSpPr>
        <p:spPr>
          <a:xfrm flipV="1">
            <a:off x="3225960" y="3441600"/>
            <a:ext cx="2466720" cy="865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Imagem 3" descr=""/>
          <p:cNvPicPr/>
          <p:nvPr/>
        </p:nvPicPr>
        <p:blipFill>
          <a:blip r:embed="rId4"/>
          <a:stretch/>
        </p:blipFill>
        <p:spPr>
          <a:xfrm>
            <a:off x="1147680" y="1041480"/>
            <a:ext cx="4154400" cy="326556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8"/>
          <p:cNvSpPr/>
          <p:nvPr/>
        </p:nvSpPr>
        <p:spPr>
          <a:xfrm>
            <a:off x="1477800" y="3705120"/>
            <a:ext cx="1387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OURINH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iz Bombona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aixaDeTexto 8"/>
          <p:cNvSpPr/>
          <p:nvPr/>
        </p:nvSpPr>
        <p:spPr>
          <a:xfrm>
            <a:off x="11160" y="1600200"/>
            <a:ext cx="151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MARILIA Eugênio Carvalh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aixaDeTexto 8"/>
          <p:cNvSpPr/>
          <p:nvPr/>
        </p:nvSpPr>
        <p:spPr>
          <a:xfrm>
            <a:off x="4243320" y="1657440"/>
            <a:ext cx="1400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I-BAUR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iz Bombona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CaixaDeTexto 10"/>
          <p:cNvSpPr/>
          <p:nvPr/>
        </p:nvSpPr>
        <p:spPr>
          <a:xfrm>
            <a:off x="5048280" y="4076640"/>
            <a:ext cx="352908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Agrono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 Engª Agrimens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 Engª Civ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9 Engª Segurança do Trabal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9 Engª Elét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8 Engª Mecânica e Metalúrgic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 Engª Quím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 Geologia e Engª de Min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48080" y="4819680"/>
            <a:ext cx="1511280" cy="865080"/>
            <a:chOff x="3448080" y="4819680"/>
            <a:chExt cx="1511280" cy="865080"/>
          </a:xfrm>
        </p:grpSpPr>
        <p:sp>
          <p:nvSpPr>
            <p:cNvPr id="183" name=""/>
            <p:cNvSpPr/>
            <p:nvPr/>
          </p:nvSpPr>
          <p:spPr>
            <a:xfrm>
              <a:off x="3448080" y="4819680"/>
              <a:ext cx="1511280" cy="865080"/>
            </a:xfrm>
            <a:custGeom>
              <a:avLst/>
              <a:gdLst>
                <a:gd name="textAreaLeft" fmla="*/ 236160 w 1511280"/>
                <a:gd name="textAreaRight" fmla="*/ 1322640 w 1511280"/>
                <a:gd name="textAreaTop" fmla="*/ 216360 h 865080"/>
                <a:gd name="textAreaBottom" fmla="*/ 6490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90720" y="5113080"/>
              <a:ext cx="114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alida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38:37Z</dcterms:created>
  <dc:creator>usuario</dc:creator>
  <dc:description/>
  <dc:language>en-US</dc:language>
  <cp:lastModifiedBy>usuario</cp:lastModifiedBy>
  <dcterms:modified xsi:type="dcterms:W3CDTF">2012-04-12T14:45:56Z</dcterms:modified>
  <cp:revision>425</cp:revision>
  <dc:subject/>
  <dc:title>COPA 2014  e  OLÍMPIADAS 2016</dc:title>
</cp:coreProperties>
</file>