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5EDF-2BFE-4AF8-A010-B0AC72AC77E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3B0A-56F2-438A-B3F8-4CDC0D872A08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BD4-3728-43BD-AB62-AF3636C6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443-70ED-442B-81A3-7D82DB23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2141-A742-4A4D-AAC0-140571A3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08B-9C19-457F-A2DB-5D8DCD21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6A9-497C-438D-B73A-81E3766A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9CF-DEB1-4317-A6DC-955F2D93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AB18-0AD6-4C1B-9E89-511259E1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E42D-D7D2-4A30-A2EE-B471BC4F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36AC-C452-43CB-95F1-36418626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5B8-EE9E-4A54-994E-642AB842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1F4-5908-4B1B-A5E4-E71E4A31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D07-8F63-46F5-9D53-23A99A09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3405-9B81-4211-90E4-6EBF754E77C9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luciana.ferrer3638@creasp.org.br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15796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RESOLUÇÃO Nº 1025/09 </a:t>
            </a: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CONFEA</a:t>
            </a:r>
            <a:br>
              <a:rPr sz="4400"/>
            </a:br>
            <a:br>
              <a:rPr sz="48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Dispõe sobre a Anotação de Responsabilidade Técnica e o Acervo Técnico Profissional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4495680" y="152280"/>
            <a:ext cx="4630680" cy="655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300816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Nova ART padrão da Resolução 1025/09</a:t>
            </a: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3573360"/>
            <a:ext cx="30081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Em processo de implantação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2012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BAIXA DA ART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Somente será concluída a participação do profissional em determinada atividade técnica a partir da data da baixa da ART correspondente.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Não exime das responsabilidad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240" y="620280"/>
            <a:ext cx="889812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CANCELAMENTO DA ART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Quando: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- nenhuma das atividades técnicas descritas na ART forem executadas.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- o contrato não for executado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240" y="691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NULIDADE DA ART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Quando: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I – for verificada lacuna,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erro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ou inexatidão insanáveis de qualquer dado da ART.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II – for verificada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incompatibilidade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entre as atividades desenvolvidas e as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atribuições 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profissionais.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III – for verificado que o profissional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emprestou seu nome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a pessoas físicas ou jurídicas sem sua real participação. 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IV – for caracterizada outra forma de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exercício ilegal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da profissão.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V – for caracterizada a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apropriação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de atividade técnica desenvolvida por outro profissional habilitado.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VI – for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indeferido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o requerimento de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regularização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da obra ou serviço a ela relacionado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44524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ART DE OBRA OU SERVIÇO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deve ser registrada antes do início da atividade técnica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obras públicas pode ser registrada em até 10 dias após a liberação da O.S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é vedado o registro de ART relativa à execução de obra ou serviço concluído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SUBCONTRATAÇÃO-SUBEMPREITADA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o profissional da PJ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Calibri"/>
              </a:rPr>
              <a:t>inicialmente contratada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 deve registrar ART de gestão, direção, supervisão, ou coordenação do serviço subcontratado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o profissional da PJ subcontratada deve registrar ART relativa à atividade que lhe foi subcontratada,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Calibri"/>
              </a:rPr>
              <a:t>vinculada à ART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 de gestão, direção, supervisão, ou coordenação de seu contratante.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  </a:t>
            </a:r>
            <a:br>
              <a:rPr sz="3200"/>
            </a:b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RECOLHIMENTO DA TAXA DE ART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sponsabilidade do profissional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quando for contratado como autônomo.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quando for o proprietário do empreendimento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sponsabilidade da empresa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quando o profissional desenvolver atividades técnicas em nome da PJ com a qual mantenha vínculo.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ART DE CARGO OU FUNÇÃO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O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Calibri"/>
              </a:rPr>
              <a:t>vínculo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 para desempenho de cargo ou função técnica, tanto com pessoa jurídica de direito público ou privado,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Calibri"/>
              </a:rPr>
              <a:t>obriga 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a anotação de responsabilidade técnica no Crea-SP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Alteração do cargo, da função ou da circunscrição onde for exercida a atividade obriga ao registro de nova AR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964720" cy="51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RESOLUÇÃO 1033/11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- É vedado o registro da ART de cargo ou função extinta ou obra serviço concluído após de 31/12/11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ACERVO TÉCNICO PROFISSIONAL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É o conjunto das atividades desenvolvidas ao longo da vida do profissional compatíveis com suas atribuições e registradas no Crea por meio de anotações de responsabilidade técnica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060640"/>
            <a:ext cx="799308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REGISTRO 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- BAIXA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- CANCELAMENTO  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- ANULAÇÃO DA ART 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- REGISTRO DO ATESTADO E 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- EMISSÃO DE CAT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52" name="CaixaDeTexto 1"/>
          <p:cNvSpPr/>
          <p:nvPr/>
        </p:nvSpPr>
        <p:spPr>
          <a:xfrm>
            <a:off x="971640" y="9810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PROCEDIMENTOS PAR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CAPACIDADE TÉCNICO OPERACIONAL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Lei 8666/93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Art. 30.  § 1º A comprovação de aptidão no caso de licitações pertinentes a obras e serviços, será feita por atestados fornecidos por pessoas jurídicas de direito público ou privado, devidamente certificados pela entidade profissional competen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9840" y="6336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CAPACIDADE  TÉCNICO-PROFISSIONAL </a:t>
            </a: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DA PESSOA JURÍDICA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- representada pelo conjunto dos acervos técnicos dos profissionais integrantes de seu quadro técnico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4978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EMISSÃO  CERTIDÃO DE ACERVO TÉCNICO 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A CAT é o instrumento que certifica, para os efeitos legais, que consta dos assentamentos do Crea a ART pelas atividades consignadas no acervo técnico do profissional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30088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REGISTRO DE ATESTADO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Será efetivado por meio de sua vinculação à CAT, que especificará somente as ARTs a ele correspondente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788000" y="333360"/>
            <a:ext cx="3938400" cy="5937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3008520" cy="20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MODELO DA NOVA CA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3357360"/>
            <a:ext cx="3008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Resolução 1025/09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Confea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SUPERINTENDÊNCIA DE FISCALIZAÇÃO</a:t>
            </a:r>
            <a:br>
              <a:rPr sz="3200"/>
            </a:br>
            <a:br>
              <a:rPr sz="32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Geol. Luciana M. Ferrer</a:t>
            </a:r>
            <a:br>
              <a:rPr sz="28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DEPARTAMENTO DE REGISTRO</a:t>
            </a:r>
            <a:br>
              <a:rPr sz="3200"/>
            </a:br>
            <a:br>
              <a:rPr sz="3200"/>
            </a:br>
            <a:r>
              <a:rPr b="0" lang="pt-BR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uciana.ferrer3638@creasp.org.br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416720" cy="5348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240" y="259920"/>
            <a:ext cx="8969400" cy="62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ART Lei 6496/77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rt. 1º Todo contrato, escrito ou verbal, para a execução de obras ou prestação de quaisquer serviços profissionais referentes à Engenharia, à Arquitetura e à Agronomia fica sujeito à "Anotação de Responsabilidade Técnica" (ART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81080" y="189000"/>
            <a:ext cx="907416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66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FINALIDADES da ART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Documento que tem fé pública, válido como garantia dos serviços prestados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Imprescindível para emissão da CAT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Limita a responsabilidade entre as partes e garante os direitos autorais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Instrumento para fiscalização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89308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TIPOS DE ART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obra ou serviço (relativa à execução de obras ou prestação de serviços)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obra ou serviço de rotina (ART múltipla)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cargo ou função(relativa ao vínculo com pessoa jurídica)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PARTICIPAÇÃO TÉCNICA</a:t>
            </a:r>
            <a:br>
              <a:rPr sz="4400"/>
            </a:br>
            <a:br>
              <a:rPr sz="2500"/>
            </a:b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- ART individual (único profissional).</a:t>
            </a:r>
            <a:br>
              <a:rPr sz="2500"/>
            </a:br>
            <a:br>
              <a:rPr sz="2500"/>
            </a:b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- ART de coautoria (atividade intelectual - mesma competência).</a:t>
            </a:r>
            <a:br>
              <a:rPr sz="2500"/>
            </a:br>
            <a:br>
              <a:rPr sz="2500"/>
            </a:b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- ART de corresponsabilidade (atividade executiva - mesma competência).</a:t>
            </a:r>
            <a:br>
              <a:rPr sz="2500"/>
            </a:br>
            <a:br>
              <a:rPr sz="2500"/>
            </a:b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- ART de equipe (atividade Multidisciplinar).</a:t>
            </a:r>
            <a:br>
              <a:rPr sz="2500"/>
            </a:br>
            <a:br>
              <a:rPr sz="2500"/>
            </a:b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590400"/>
            <a:ext cx="885672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FORMA DE REGISTRO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ART inicial (Responsável Técnico)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ART complementar (vinculada a ART inicial do mesmo profissional - complementa dados)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ART de substituição (vinculada a ART inicial do mesmo profissional - substitui dados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356000" y="28440"/>
            <a:ext cx="4310280" cy="3030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4344840" y="3073320"/>
            <a:ext cx="4321440" cy="3538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3672000" cy="13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ART on-l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37432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Disponível atualmente no site do CREA-S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Calibri"/>
              </a:rPr>
              <a:t>www.creasp.org.br  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Serviços On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ART Online / Preenchimento de A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1:27:51Z</dcterms:created>
  <dc:creator>usuariosuprin</dc:creator>
  <dc:description/>
  <dc:language>en-US</dc:language>
  <cp:lastModifiedBy>usuário</cp:lastModifiedBy>
  <dcterms:modified xsi:type="dcterms:W3CDTF">2012-04-11T19:20:52Z</dcterms:modified>
  <cp:revision>157</cp:revision>
  <dc:subject/>
  <dc:title>Apresentação do PowerPoint</dc:title>
</cp:coreProperties>
</file>