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1FF-BEE4-4481-BF3A-6E0759B8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196-1FEC-40EE-9555-B958F91A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1B4-BF4C-47F0-9409-459775DA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C8E-8D71-48B7-9E31-5325642A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2195-16CB-43C2-8C69-C9CF17E7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700C-7D5E-4155-8527-3EB676CC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73A2-7E14-4DB0-92A4-D5EA55BA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7E12-B3D6-45D8-8CCF-6643E539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2B38-91E1-400D-9E29-2D5258CC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1D78-27CB-4BD1-B6DF-E7707CE8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39CE-4A75-4174-BBE4-B139EA2A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196-F921-4FF3-B55C-010E3F05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1365-3313-4BCF-970B-39048FE9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52C2-75F5-40F3-A488-D4DD8F4F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224E-E6F1-40E3-B38A-457CD8C0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2ED4-6254-45AC-8AD9-8772444B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C206-2D45-4BAD-9AEA-B45333A0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E8839-8390-461A-B66B-7C1A2A04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0C907-E5D3-42D6-96FA-0C0FE2C9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7E96-6199-456D-B69E-4A6BC83D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FD72-3B08-40DE-A558-01025363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C8975-E6BC-40FC-BF20-68BFEB88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7D5-0B1E-4122-A40A-9B334BA9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0445-4A05-4201-8D23-7C81D5AC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42B7-177D-441F-B09F-A31CD51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AF931-3E69-484B-AFAA-384C6A16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3F9F6-8343-4EA4-8C79-E3E4E148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6F17-CAFC-4085-9182-BBFE3DDD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E3D2-9B5B-4A57-B1D3-84B8E3EA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00F5-F976-4F8A-BF49-7AD8CBA5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80C5C-94EE-4EBF-8244-91FC0832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0D4F9-DB20-45AC-8DE1-6A839E41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81BF-6E92-43AD-AB3F-863E2601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D66-5D20-4292-9E7E-13F50CC4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EEB21-1990-4A00-8098-BDFD1AF1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EFA7B-85A1-43FC-A7C7-5A844819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5436F-B1CD-428D-BD7A-17EABEA4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77226-F579-46A3-BF9B-331E41D1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F93A4-DA20-40E9-8519-69B43515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B5AA9-26AD-454B-9AE9-F5678ACC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8B4AA-160E-4469-ADE2-910B47DC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549E2-C2DF-4F58-A000-53F2C57F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2993A-06ED-4E42-B6CD-3968A00F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262-F2FA-43E1-A8DC-6372EC12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711-EB35-4514-92F0-1A78A5BD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B73-9B50-442F-890B-A0CF6F97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1E3-AB98-49FD-B7F2-6A5E4419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1BB-B964-4E08-B1EC-D239E511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11EE-A8D6-4836-9323-F363BBC95C09}" type="slidenum">
              <a:rPr b="0" lang="pt-B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C660-AAF1-43F9-BA47-3233381CEA71}" type="slidenum">
              <a:rPr b="0" lang="pt-BR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1D18-36C4-4F1C-8359-E492068F081D}" type="slidenum">
              <a:rPr b="0" lang="pt-BR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A6CE-F143-419B-9168-AC03CE014B33}" type="slidenum">
              <a:rPr b="0" lang="pt-B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ODELO%20DE%20RELAT&#211;RIO/Pauta%20de%20reuni&#227;o%20de%20CAF%20UOP.doc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MODELO%20DE%20RELAT&#211;RIO/Pauta%20de%20reuni&#227;o%20de%20CAF%20UGI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supfis@creasp.org.br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Arial Black"/>
                <a:ea typeface="Aharoni"/>
              </a:rPr>
              <a:t>6.º SEMINÁRIO DE INTEGRAÇÃO DE INSPETORES E CORPO GERENCIAL DO CREA-SP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  <a:ea typeface="Aharoni"/>
              </a:rPr>
              <a:t>REUNIÃO DE  CAF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APRESENTAÇÃO DE MODELO DE PAU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Black"/>
              </a:rPr>
              <a:t>UTILIDADE DA PAUTA PARA OS INSPETORES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Conhecimento dos trabalhos desenvolvidos pela fiscalização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uxílio nas atividades de fiscalizaçã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 Black"/>
              </a:rPr>
              <a:t>MODELO DE PAUTA PARA UOP’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f49100"/>
                </a:solidFill>
                <a:uFillTx/>
                <a:latin typeface="Arial Black"/>
                <a:hlinkClick r:id="rId1"/>
              </a:rPr>
              <a:t>MODELO DE RELATÓRIO\Pauta de reunião de CAF UOP.do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 Black"/>
              </a:rPr>
              <a:t>MODELO DE PAUTA PARA UGI’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611280" y="29239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MODELO DE RELATÓRIO\Pauta de reunião de CAF UGI.do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Black"/>
              </a:rPr>
              <a:t>MODELO DE PAUTA DE UOP: MAIS DETALHAD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Black"/>
              </a:rPr>
              <a:t>MODELO DE PAUTA DE UGI: POR QUANTIFICAÇÃO EM RAZÃO DO VOLUME DE SERVIÇO</a:t>
            </a: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67240" cy="1028880"/>
          </a:xfrm>
          <a:prstGeom prst="rect">
            <a:avLst/>
          </a:prstGeom>
          <a:ln w="0">
            <a:noFill/>
          </a:ln>
        </p:spPr>
      </p:pic>
      <p:sp>
        <p:nvSpPr>
          <p:cNvPr id="212" name="Retângulo 2"/>
          <p:cNvSpPr/>
          <p:nvPr/>
        </p:nvSpPr>
        <p:spPr>
          <a:xfrm>
            <a:off x="900000" y="2338560"/>
            <a:ext cx="748836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MUITO OBRIGADO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Eng. Civ. Luiz Roberto Seg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Superintendente de Fiscalização</a:t>
            </a:r>
            <a:br>
              <a:rPr sz="2800"/>
            </a:br>
            <a:br>
              <a:rPr sz="2800"/>
            </a:br>
            <a:r>
              <a:rPr b="0" lang="pt-BR" sz="2800" spc="-1" strike="noStrike" u="sng">
                <a:solidFill>
                  <a:srgbClr val="f49100"/>
                </a:solidFill>
                <a:uFillTx/>
                <a:latin typeface="Arial Black"/>
                <a:hlinkClick r:id="rId2"/>
              </a:rPr>
              <a:t>supfis@creasp.org.br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SUPFIS - CREA-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8:11:22Z</dcterms:created>
  <dc:creator>Usuario</dc:creator>
  <dc:description/>
  <dc:language>en-US</dc:language>
  <cp:lastModifiedBy>Usuario</cp:lastModifiedBy>
  <dcterms:modified xsi:type="dcterms:W3CDTF">2012-04-16T16:26:16Z</dcterms:modified>
  <cp:revision>5</cp:revision>
  <dc:subject/>
  <dc:title>Apresentação do PowerPoint</dc:title>
</cp:coreProperties>
</file>