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9F25-18E1-49D5-AE4B-BC1113A7F2B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F6FE-4356-40C6-9D8E-EDF3B30B751B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E7E4-C682-404E-A870-D1326F4F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AC18-43CF-4340-820E-9E3A70BF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0162-0755-4FA9-98F5-394C4FE3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CFD2-FF41-4EF3-B578-21E1E6DC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CA8-B53A-4F7A-9A3A-C1A8F501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74B0-AF01-4B36-BE8D-C1666A25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EF8A-EA08-45A8-B7D4-968590C7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04A3-07C9-4F18-900F-693756C2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FAF0-1ABE-4A5A-9444-D599F10F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1542-0C59-4B1D-97AC-61AA076F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0D08-1C40-4348-811B-BDB60C1F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CD35-3F33-48CC-A5AB-86792622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5EB6-36C3-484D-8DCD-3A2CBA0E63CC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luciana.ferrer3638@creasp.org.br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15796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LEI Nº 12.378/10</a:t>
            </a:r>
            <a:br>
              <a:rPr sz="4400"/>
            </a:b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Regulamenta o exercício da Arquitetura e Urbanismo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 cria o Conselho de Arquitetura e Urbanismo do Brasil - CAU/BR e os Conselhos de Arquitetura e Urbanismo dos Estados e do Distrito Federal - CAUs; e dá outras providência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CaixaDeTexto 3"/>
          <p:cNvSpPr/>
          <p:nvPr/>
        </p:nvSpPr>
        <p:spPr>
          <a:xfrm>
            <a:off x="539640" y="692280"/>
            <a:ext cx="83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6º Seminário de Integração de Inspetores e Corpo Gerencial do CREA-S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tângulo 1"/>
          <p:cNvSpPr/>
          <p:nvPr/>
        </p:nvSpPr>
        <p:spPr>
          <a:xfrm>
            <a:off x="544680" y="620640"/>
            <a:ext cx="82087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6. ACERVO TÉCNIC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Os processos de Acervo Técnico de Arquitetos e Urbanistas, bem como aqueles que possuem mais de um título, cuja atividade realizada foi na área da Arquitetura e Urbanismo, serão remetidos ao CAU-SP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As CAT’s – Certidões de Acervo Técnico que estão em pronta entrega no Crea-SP, foram entregues pelo CREA-SP. Havendo exigências, foram remetidos os processos ao CAU-SP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Os pedidos de CAT em tramitação, protocolizados até 26/12/2011, com ou sem atendimento de exigências, foram encaminhados ao CAU-SP, uma vez que os arquivos eletrônicos  com os dados dos arquitetos já foram enviados àquele Conselh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tângulo 1"/>
          <p:cNvSpPr/>
          <p:nvPr/>
        </p:nvSpPr>
        <p:spPr>
          <a:xfrm>
            <a:off x="684360" y="836640"/>
            <a:ext cx="7775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7. PROCESSOS DE FISCALIZAÇÃ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Processos de apuração de irregularidades em tramitação, que envolvam atividades mistas (exemplo: Arquitetura e Engenharia de Segurança do Trabalho) tiveram cópia enviada ao CAU-SP no que se refere à área de Arquitetura, e encaminhado o processo original para análise da Câmara Especializada competent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tângulo 1"/>
          <p:cNvSpPr/>
          <p:nvPr/>
        </p:nvSpPr>
        <p:spPr>
          <a:xfrm>
            <a:off x="611280" y="836640"/>
            <a:ext cx="79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8.INSTITUIÇÕES DE ENSIN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Os processos de cursos e suas Instituições de Ensino exclusivas de Arquitetura e Urbanismo, foram enviados ao CAU-SP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Os processos de Instituições de Ensino que possuem cursos de Arquitetura e Urbanismo e outros pertinentes à área do Crea-SP, tiveram cópias extraídas para envio ao CAU-SP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tângulo 1"/>
          <p:cNvSpPr/>
          <p:nvPr/>
        </p:nvSpPr>
        <p:spPr>
          <a:xfrm>
            <a:off x="468360" y="620640"/>
            <a:ext cx="81882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9. COBRANÇA DE ANUIDADES E TAX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As anuidades dos Arquitetos e Urbanistas e das empresas exclusivamente de arquitetura são devidas ao CAU-SP, a partir de 2012, sendo vedada sua cobrança pelo Crea-SP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As anuidades dos profissionais que possuem os títulos de Arquitetos e Urbanistas e outro(s) da área do Crea-SP (Engenheiros, Geólogos, Tecnólogos, Técnicos, etc.), serão devidas de acordo com a área de atuação profissional. Caso exerçam atividades afetas ao CAU-SP e ao Crea-SP, pagarão anuidades aos dois Conselhos, no nível do título remanescente (superior ou médio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tângulo 1"/>
          <p:cNvSpPr/>
          <p:nvPr/>
        </p:nvSpPr>
        <p:spPr>
          <a:xfrm>
            <a:off x="395280" y="62064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10. REVISÃO DO CANCELAMENTOS DE REGISTROS DE EMPRES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Foram apurados alguns cancelamentos indevidos de registros de profissionais (que possuíam mais de um título) e empresas (com atividades também afetas à engenharia/agronomia) e as Inspetorias do CREA-SP, mediante conferência com o relatório, estão providenciando a correção cadastr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380600" cy="76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SUPERINTENDÊNCIA DE FISCALIZAÇÃO</a:t>
            </a:r>
            <a:br>
              <a:rPr sz="3200"/>
            </a:br>
            <a:br>
              <a:rPr sz="32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Geol. Luciana M. Ferrer</a:t>
            </a:r>
            <a:br>
              <a:rPr sz="28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DEPARTAMENTO DE REGISTRO</a:t>
            </a:r>
            <a:br>
              <a:rPr sz="3200"/>
            </a:br>
            <a:br>
              <a:rPr sz="3200"/>
            </a:br>
            <a:r>
              <a:rPr b="0" lang="pt-BR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uciana.ferrer3638@creasp.org.br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ARTIGO 24</a:t>
            </a:r>
            <a:br>
              <a:rPr sz="2800"/>
            </a:br>
            <a:br>
              <a:rPr sz="2800"/>
            </a:b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 Ficam criados o Conselho de Arquitetura e Urbanismo do Brasil - CAU/BR e os Conselhos de Arquitetura e Urbanismo dos Estados e do Distrito Federal - CAUs, como autarquias dotadas de personalidade jurídica de direito público, com autonomia administrativa e financeira e estrutura federativa, cujas atividades serão custeadas exclusivamente pelas próprias rendas.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ARTIGO 55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Os profissionais com título de arquitetos e urbanistas, arquitetos e engenheiro arquiteto, com registro nos atuais Conselhos Regionais de Engenharia, Arquitetura e Agronomia – CREA’s terão, automaticamente, registro nos CAUs com o título único de arquiteto e urbanista. 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Parágrafo único.  Os CREA’s enviarão aos CAUs a relação dos arquitetos e urbanistas, arquitetos e engenheiro arquiteto inscritos, no prazo de 30 (trinta) dias da instalação do CAU, bem como os prontuários, dados profissionais, registros e acervo de todas as ART’s emitidas pelos profissionais e todos os processos em tramitação.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56" name="Retângulo 2"/>
          <p:cNvSpPr/>
          <p:nvPr/>
        </p:nvSpPr>
        <p:spPr>
          <a:xfrm>
            <a:off x="358920" y="1413000"/>
            <a:ext cx="4573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  <a:ea typeface="Arial"/>
              </a:rPr>
              <a:t>PROCEDIMENTOS DE TRANSIÇÃO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  <a:ea typeface="Arial"/>
              </a:rPr>
              <a:t>CREA-SP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  <a:ea typeface="Arial"/>
              </a:rPr>
              <a:t>&amp;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  <a:ea typeface="Arial"/>
              </a:rPr>
              <a:t>CAU-SP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Imagem 3" descr=""/>
          <p:cNvPicPr/>
          <p:nvPr/>
        </p:nvPicPr>
        <p:blipFill>
          <a:blip r:embed="rId2"/>
          <a:stretch/>
        </p:blipFill>
        <p:spPr>
          <a:xfrm>
            <a:off x="5867280" y="1650960"/>
            <a:ext cx="234324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0152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59" name="Retângulo 1"/>
          <p:cNvSpPr/>
          <p:nvPr/>
        </p:nvSpPr>
        <p:spPr>
          <a:xfrm>
            <a:off x="96840" y="1197000"/>
            <a:ext cx="893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BAIXA DOS REGISTROS DE ARQUITETOS E URBANISTAS E EMPRESAS DE ARQUITETURA NO CREA-S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O CREA-SP efetuou a baixa </a:t>
            </a: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de todos os registros </a:t>
            </a: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dos profissionais e empresas afetos ao CAU, com a data de instalação daquele Conselho – 26/12/11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Notificou o CAU-SP, para a respectiva retirada dos processos e prontuários relativos aos Arquitetos e Urbanistas, não obstante os arquivos eletrônicos já terem sido enviados, conforme previsto na Lei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tângulo 1"/>
          <p:cNvSpPr/>
          <p:nvPr/>
        </p:nvSpPr>
        <p:spPr>
          <a:xfrm>
            <a:off x="271440" y="1125360"/>
            <a:ext cx="864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2. ARQUITETOS E URBANISTAS COM MAIS DE UM TÍTUL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Arquitetos, Arquitetos e Urbanistas ou Engenheiros Arquitetos que possuem registro de outros cursos de nível técnico, graduação, Engenheiro de Segurança do Trabalho ou Especialista em Engenharia de Segurança do Trabalho continuarão a ter registro destes outros títulos no CRE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Técnicos em decoração continuarão com seus registros no Sistema CONFEA/CREA. A Lei 12.378 não os incluiu em seu text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152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tângulo 1"/>
          <p:cNvSpPr/>
          <p:nvPr/>
        </p:nvSpPr>
        <p:spPr>
          <a:xfrm>
            <a:off x="395280" y="1197000"/>
            <a:ext cx="849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3.SOLICITAÇÕES DO PODER JUDICIÁRIO, MINISTÉRIO PÚBLICO E DELEGACIAS DE POLÍC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Os dados cadastrais, referentes ao período até 31/12/11, dos Arquitetos e Urbanistas ou empresas de arquitetura deverão ser informados pelo CREA-SP a estas entidades, todavia, sempre esclarecendo que a partir de 26/12/2011 a competência de registro e fiscalização daqueles profissionais passou a ser do CAU, nos termos da Lei 12.378/2010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0152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tângulo 1"/>
          <p:cNvSpPr/>
          <p:nvPr/>
        </p:nvSpPr>
        <p:spPr>
          <a:xfrm>
            <a:off x="468360" y="98100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4. EMPRESAS MISTAS DE ENGENHARIA &amp; ARQUITETUR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Processos de empresas mistas (área da arquitetura &amp; engenharia/agronomia constantes do objeto social) tiveram os documentos referentes à arquitetura desentranhados do processo, sendo aberto novo processo, para juntada destes e envio ao CAU-SP. Nos processos do CREA- SP ficou somente a documentação da área da engenhari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tângulo 1"/>
          <p:cNvSpPr/>
          <p:nvPr/>
        </p:nvSpPr>
        <p:spPr>
          <a:xfrm>
            <a:off x="611280" y="1197000"/>
            <a:ext cx="806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5. ART DE ARQUITETO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Todos os dados de profissionais Arquitetos e Urbanistas e de  empresas de arquitetura migrados para o CAU-SP permitirão o preenchimento da ART, agora designada RRT – Registro de Responsabilidade Técnica, pela Lei 12.378/10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1:27:51Z</dcterms:created>
  <dc:creator>usuariosuprin</dc:creator>
  <dc:description/>
  <dc:language>en-US</dc:language>
  <cp:lastModifiedBy>Usuario</cp:lastModifiedBy>
  <dcterms:modified xsi:type="dcterms:W3CDTF">2012-04-18T17:35:56Z</dcterms:modified>
  <cp:revision>220</cp:revision>
  <dc:subject/>
  <dc:title>Apresentação do PowerPoint</dc:title>
</cp:coreProperties>
</file>