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029C-38E2-4E1F-A98A-23EEE773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F46C-7E1C-44CF-ACCD-FD41FD1C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485B-5E2E-483F-B30F-6B38B436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B8B7-7316-453A-A01D-881EBBFA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F323-A6E2-4E85-8C3A-25FD93D1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A6D3-272E-47DE-BA15-DF29577C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C323-595C-4636-BFE2-948C246F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1967-A02F-47D4-8C2E-A2CE1883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D6DB-A58D-4DC3-87D5-9D576653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2ABC-3D18-4847-85D5-DFD2F762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2B09-35D9-4A10-9B7E-0935A9C3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59A9-8BC1-4829-9405-B391375D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6296-1D99-4081-B369-D98AD6E7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A856-B4FA-4770-B2EC-C5B3A291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1CA4-3DD7-4CC6-B176-DA383D99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8453-2F12-42A2-AFE8-85221594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6AEE-2609-4CF0-BD7E-977C278D3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DEF2-8BA8-40E2-A96C-D822D6AC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90B6-0D23-4F30-9A57-EE08AA66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19E2-FF9E-4FDE-820F-D36B5ED2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1F57-C7C6-4E1D-9944-2D33A323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C636-8CEA-48B8-A3A8-D3D1D8F4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6C06-4410-4E86-879A-178F45D8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00B6-F31B-4A79-8AD8-60DD0567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13EA5F-A154-4ED0-8ADB-7F5512246B2E}" type="slidenum"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E2CAEF-DA33-41C0-A511-1A8583384D5F}" type="slidenum"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supfis@creasp.org.br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0" y="292752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64d"/>
                </a:solidFill>
                <a:latin typeface="Arial Black"/>
              </a:rPr>
              <a:t>Resolução 1024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64d"/>
                </a:solidFill>
                <a:latin typeface="Arial Black"/>
              </a:rPr>
              <a:t>“</a:t>
            </a:r>
            <a:r>
              <a:rPr b="1" lang="pt-BR" sz="3200" spc="-1" strike="noStrike">
                <a:solidFill>
                  <a:srgbClr val="00264d"/>
                </a:solidFill>
                <a:latin typeface="Arial Black"/>
              </a:rPr>
              <a:t>LIVRO DE ORDEM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Imagem 3" descr="SAO PAULO Crea_Color"/>
          <p:cNvPicPr/>
          <p:nvPr/>
        </p:nvPicPr>
        <p:blipFill>
          <a:blip r:embed="rId1"/>
          <a:stretch/>
        </p:blipFill>
        <p:spPr>
          <a:xfrm>
            <a:off x="1403280" y="1052640"/>
            <a:ext cx="6840720" cy="1800000"/>
          </a:xfrm>
          <a:prstGeom prst="rect">
            <a:avLst/>
          </a:prstGeom>
          <a:ln w="0">
            <a:noFill/>
          </a:ln>
        </p:spPr>
      </p:pic>
      <p:sp>
        <p:nvSpPr>
          <p:cNvPr id="103" name="CaixaDeTexto 2"/>
          <p:cNvSpPr/>
          <p:nvPr/>
        </p:nvSpPr>
        <p:spPr>
          <a:xfrm>
            <a:off x="4572000" y="537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Black"/>
              </a:rPr>
              <a:t>6º Seminário de Integração de Inspetores e Corpo Gerencial do CREA-S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840" y="833040"/>
            <a:ext cx="7783920" cy="10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QUEM É O RESPONSÁVEL PELO LIVRO DE ORDE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00000" y="2491920"/>
            <a:ext cx="77868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3366"/>
                </a:solidFill>
                <a:latin typeface="Arial"/>
              </a:rPr>
              <a:t>O PROFISSIONAL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QUEM PODE REALIZAR ANOTAÇÕ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26920" y="2923920"/>
            <a:ext cx="7693200" cy="34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Os autores dos projetos;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O contratante;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O profissional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40720" y="837360"/>
            <a:ext cx="8088840" cy="100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QUANTAS VIAS POSSU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71640" y="1915920"/>
            <a:ext cx="763272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3366"/>
                </a:solidFill>
                <a:latin typeface="Arial Black"/>
              </a:rPr>
              <a:t>3 VIAS  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1" i="1" lang="pt-BR" sz="2800" spc="-1" strike="noStrike">
                <a:solidFill>
                  <a:srgbClr val="003366"/>
                </a:solidFill>
                <a:latin typeface="Arial Black"/>
              </a:rPr>
              <a:t>Primeiras vias: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 recolhidas pela fiscalização ou devolvidas junto com o pedido de baixa da AR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pt-BR" sz="2800" spc="-1" strike="noStrike">
                <a:solidFill>
                  <a:srgbClr val="003366"/>
                </a:solidFill>
                <a:latin typeface="Arial Black"/>
              </a:rPr>
              <a:t>Segundas vias: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 responsável técnico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pt-BR" sz="2800" spc="-1" strike="noStrike">
                <a:solidFill>
                  <a:srgbClr val="003366"/>
                </a:solidFill>
                <a:latin typeface="Arial Black"/>
              </a:rPr>
              <a:t>Terceiras vias: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 proprietário do empreendiment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480" y="833040"/>
            <a:ext cx="7780680" cy="10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O QUE PODE SUBSTITUIR O LIVRO DE ORDE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00000" y="2491920"/>
            <a:ext cx="7632720" cy="35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pt-BR" sz="3200" spc="-1" strike="noStrike">
                <a:solidFill>
                  <a:srgbClr val="003366"/>
                </a:solidFill>
                <a:latin typeface="Arial Black"/>
              </a:rPr>
              <a:t>Boletim Diário,  Livro de Ocorrências Diárias,  Diário de Obras,  Cadernetas de Obras,  Livro de Atas:</a:t>
            </a: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  devem ter Termos de Abertura visados pelo Crea, além de atender a Resolução 1024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AS CADERNETAS DE OBRAS SERÃO EXTINTA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26920" y="1483920"/>
            <a:ext cx="76932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AS CADERNETAS DE OBRA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QUE ATENDAM A RES. 1024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PODEM SER USADA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NORMALMENT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66"/>
                </a:solidFill>
                <a:latin typeface="Arial"/>
                <a:ea typeface="Arial"/>
              </a:rPr>
              <a:t>EM BREVE, O LIVRO SERÁ </a:t>
            </a:r>
            <a:r>
              <a:rPr b="1" lang="pt-BR" sz="4000" spc="-1" strike="noStrike">
                <a:solidFill>
                  <a:srgbClr val="003366"/>
                </a:solidFill>
                <a:latin typeface="Arial Black"/>
                <a:ea typeface="Arial"/>
              </a:rPr>
              <a:t>GERADO</a:t>
            </a:r>
            <a:r>
              <a:rPr b="1" lang="pt-BR" sz="4000" spc="-1" strike="noStrike">
                <a:solidFill>
                  <a:srgbClr val="003366"/>
                </a:solidFill>
                <a:latin typeface="Arial"/>
                <a:ea typeface="Arial"/>
              </a:rPr>
              <a:t> “</a:t>
            </a:r>
            <a:r>
              <a:rPr b="1" lang="pt-BR" sz="4000" spc="-1" strike="noStrike">
                <a:solidFill>
                  <a:srgbClr val="003366"/>
                </a:solidFill>
                <a:latin typeface="Arial"/>
                <a:ea typeface="Arial"/>
              </a:rPr>
              <a:t>ON-LINE”, MAS PREENCHIDO NO LOCAL DOS SERVIÇO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AutoShape 2"/>
          <p:cNvSpPr/>
          <p:nvPr/>
        </p:nvSpPr>
        <p:spPr>
          <a:xfrm>
            <a:off x="762120" y="907920"/>
            <a:ext cx="7924680" cy="852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POSSO PREENCHER O LIVRO DE ORDEM </a:t>
            </a:r>
            <a:r>
              <a:rPr b="1" i="1" lang="pt-BR" sz="3600" spc="-1" strike="noStrike">
                <a:solidFill>
                  <a:srgbClr val="006666"/>
                </a:solidFill>
                <a:latin typeface="Arial Black"/>
              </a:rPr>
              <a:t>“ON-LINE”</a:t>
            </a: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3366"/>
                </a:solidFill>
                <a:latin typeface="Arial"/>
                <a:ea typeface="Arial"/>
              </a:rPr>
              <a:t>DEVEMOS LEMBRAR QUE A FISCALIZAÇÃO DO CREA-SP ESTÁ FOCADA PRIORITARIAMENTE NAS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3366"/>
                </a:solidFill>
                <a:latin typeface="Arial"/>
                <a:ea typeface="Arial"/>
              </a:rPr>
              <a:t>AÇÕES ORIENTATIVA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AutoShape 2"/>
          <p:cNvSpPr/>
          <p:nvPr/>
        </p:nvSpPr>
        <p:spPr>
          <a:xfrm>
            <a:off x="762120" y="836640"/>
            <a:ext cx="7924680" cy="1068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E SE O LIVRO DE ORDEM NÃO ESTIVER NA OBRA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2120" y="2361960"/>
            <a:ext cx="8346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Mas como o livro também é uma ferramen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para combater os maus profissionais, esse fa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somado a outros indícios, poderá indicar u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sinal de a</a:t>
            </a:r>
            <a:r>
              <a:rPr b="1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cobertamen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2880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Nesse caso, ensejará </a:t>
            </a:r>
            <a:r>
              <a:rPr b="1" lang="pt-BR" sz="2800" spc="-1" strike="noStrike">
                <a:solidFill>
                  <a:srgbClr val="003366"/>
                </a:solidFill>
                <a:latin typeface="Arial Black"/>
                <a:ea typeface="Arial"/>
              </a:rPr>
              <a:t>APURAÇÃO</a:t>
            </a:r>
            <a:r>
              <a:rPr b="0" lang="pt-BR" sz="2800" spc="-1" strike="noStrike">
                <a:solidFill>
                  <a:srgbClr val="003366"/>
                </a:solidFill>
                <a:latin typeface="Arial Black"/>
                <a:ea typeface="Arial"/>
              </a:rPr>
              <a:t> 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de infração 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alínea “c” do art. 6º da Lei 5194/66 e ao art. 9º 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código de ética profissional, </a:t>
            </a:r>
            <a:r>
              <a:rPr b="1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confor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Arial"/>
                <a:ea typeface="Arial"/>
              </a:rPr>
              <a:t>art. 10 da Res. 1024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AutoShape 2"/>
          <p:cNvSpPr/>
          <p:nvPr/>
        </p:nvSpPr>
        <p:spPr>
          <a:xfrm>
            <a:off x="762120" y="836640"/>
            <a:ext cx="7924680" cy="1068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E SE O LIVRO DE ORDEM NÃO ESTIVER NA OBRA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Imagem 2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Imagem 3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22920" y="834120"/>
            <a:ext cx="85690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Arial Black"/>
              </a:rPr>
              <a:t>POR QUE FOI INSTITUÍDO O</a:t>
            </a:r>
            <a:br>
              <a:rPr sz="3200"/>
            </a:br>
            <a:r>
              <a:rPr b="1" lang="pt-BR" sz="3200" spc="-1" strike="noStrike">
                <a:solidFill>
                  <a:srgbClr val="006666"/>
                </a:solidFill>
                <a:latin typeface="Arial Black"/>
              </a:rPr>
              <a:t>LIVRO DE ORDEM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CaixaDeTexto 1"/>
          <p:cNvSpPr/>
          <p:nvPr/>
        </p:nvSpPr>
        <p:spPr>
          <a:xfrm>
            <a:off x="755640" y="2492280"/>
            <a:ext cx="806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33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0033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PARA DELIMITAR OBJETIVAMENTE AS RESPONSABILIDADES DE CADA PROFISSIONAL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0033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0033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PARA MAIOR PROTEÇÃO À SOCIEDA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0033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0033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PARA AJUDAR A COMBATER OS MAUS PROFISSIONAI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Imagem 2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Imagem 3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Imagem 2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Imagem 3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Imagem 2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Imagem 3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904320" y="5736960"/>
            <a:ext cx="7916400" cy="64080"/>
          </a:xfrm>
          <a:prstGeom prst="rect">
            <a:avLst/>
          </a:prstGeom>
          <a:noFill/>
          <a:ln w="0">
            <a:noFill/>
          </a:ln>
        </p:spPr>
        <p:txBody>
          <a:bodyPr tIns="18360" bIns="1836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pt-BR" sz="4000" spc="-1" strike="noStrike">
                <a:solidFill>
                  <a:srgbClr val="00264d"/>
                </a:solidFill>
                <a:latin typeface="Arial"/>
              </a:rPr>
              <a:t>MUITO OBRIGADO</a:t>
            </a:r>
            <a:br>
              <a:rPr sz="4000"/>
            </a:br>
            <a:br>
              <a:rPr sz="2400"/>
            </a:br>
            <a:r>
              <a:rPr b="1" lang="pt-BR" sz="1800" spc="-1" strike="noStrike">
                <a:solidFill>
                  <a:srgbClr val="00264d"/>
                </a:solidFill>
                <a:latin typeface="Arial"/>
              </a:rPr>
              <a:t>Eng. Civ. Luiz Roberto Sega</a:t>
            </a:r>
            <a:br>
              <a:rPr sz="1800"/>
            </a:br>
            <a:r>
              <a:rPr b="1" lang="pt-BR" sz="1800" spc="-1" strike="noStrike">
                <a:solidFill>
                  <a:srgbClr val="00264d"/>
                </a:solidFill>
                <a:latin typeface="Arial"/>
              </a:rPr>
              <a:t>Superintendente de Fiscalização</a:t>
            </a:r>
            <a:br>
              <a:rPr sz="300"/>
            </a:br>
            <a:br>
              <a:rPr sz="1800"/>
            </a:br>
            <a:r>
              <a:rPr b="1" lang="pt-BR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supfis@creasp.org.br</a:t>
            </a:r>
            <a:br>
              <a:rPr sz="1800"/>
            </a:br>
            <a:br>
              <a:rPr sz="2400"/>
            </a:br>
            <a:r>
              <a:rPr b="1" lang="pt-BR" sz="2000" spc="-1" strike="noStrike">
                <a:solidFill>
                  <a:srgbClr val="00264d"/>
                </a:solidFill>
                <a:latin typeface="Arial"/>
              </a:rPr>
              <a:t>SUPFIS - CREA-SP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755640" y="692280"/>
            <a:ext cx="7772400" cy="18730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RESOLUÇÃO 1024 – CONFE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“</a:t>
            </a: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LIVRO DE ORDEM”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CaixaDeTexto 4"/>
          <p:cNvSpPr/>
          <p:nvPr/>
        </p:nvSpPr>
        <p:spPr>
          <a:xfrm>
            <a:off x="755640" y="6254640"/>
            <a:ext cx="83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Black"/>
              </a:rPr>
              <a:t>6º Seminário de Integração de Inspetores e Corpo Gerencial do CREA-S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Conector reto 2"/>
          <p:cNvSpPr/>
          <p:nvPr/>
        </p:nvSpPr>
        <p:spPr>
          <a:xfrm>
            <a:off x="1042920" y="6093000"/>
            <a:ext cx="7705800" cy="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COMO FOI CRIADO O</a:t>
            </a:r>
            <a:br>
              <a:rPr sz="3600"/>
            </a:b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LIVRO DE ORDE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FOI INSTITUÍDO PELO CONFEA, ATRAVÉS DA RESOLUÇÃO 1.024/2009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VANTAGENS PAR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Arial Black"/>
              </a:rPr>
              <a:t>O PROFISSIONAL: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 REGISTRO FORMAL DAS SUAS ORIENTAÇÕES; BASE PARA MEDIDA DE SUA PARTICIPAÇÃO, INCLUSIVE PARA EXPEDIÇÃO DE CA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 Black"/>
              </a:rPr>
              <a:t>O CONTRATANTE</a:t>
            </a:r>
            <a:r>
              <a:rPr b="1" lang="pt-BR" sz="2000" spc="-1" strike="noStrike">
                <a:solidFill>
                  <a:srgbClr val="003366"/>
                </a:solidFill>
                <a:latin typeface="Arial Black"/>
              </a:rPr>
              <a:t>: 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AVALIAR MOTIVOS DE EVENTUAIS FALHAS TÉCNICAS, GASTOS IMPREVISTOS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 Black"/>
              </a:rPr>
              <a:t>A SOCIEDADE</a:t>
            </a:r>
            <a:r>
              <a:rPr b="1" lang="pt-BR" sz="2000" spc="-1" strike="noStrike">
                <a:solidFill>
                  <a:srgbClr val="003366"/>
                </a:solidFill>
                <a:latin typeface="Arial Black"/>
              </a:rPr>
              <a:t>: 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SEGURANÇA DA EFETIVA PARTICIPAÇÃO DO PROFISSIONAL E AVALIAÇÃO DAS CAUSAS DE EVENTUAIS ACIDENTES DE TRABALH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POR QUE USAR O LIVRO DE ORDE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4400" y="940320"/>
            <a:ext cx="7804800" cy="8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QUAL A FUNÇÃO DO LIVRO DE ORDE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00000" y="2421000"/>
            <a:ext cx="7786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3366"/>
                </a:solidFill>
                <a:latin typeface="Arial"/>
              </a:rPr>
              <a:t>É a </a:t>
            </a:r>
            <a:r>
              <a:rPr b="1" i="1" lang="pt-BR" sz="2800" spc="-1" strike="noStrike">
                <a:solidFill>
                  <a:srgbClr val="003366"/>
                </a:solidFill>
                <a:latin typeface="Arial"/>
              </a:rPr>
              <a:t>MEMÓRIA ESCRITA (O REGISTR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as atividades para fins da identificaçã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a autoria de trabalhos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o cumprimento de orientações técnicas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a clareza nas ordens e instruções dadas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e falhas técnicas, gastos não previstos, ...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as causas de acidentes de trabalho, 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1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1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3366"/>
                </a:solidFill>
                <a:latin typeface="Arial"/>
              </a:rPr>
              <a:t>Poderá ser importante fonte de dados estatístico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24400" y="940320"/>
            <a:ext cx="7804800" cy="8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QUAL A RELAÇÃO ENTRE O LIVRO DE ORDEM E A CAT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26560" y="2421000"/>
            <a:ext cx="7705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O correto preenchimento do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Livro de Ordem somado a ART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Constitui prova da efetiva d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participação do profissional 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fornecerá os dados necessário par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a emissão da C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8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8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38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2843280" y="5516640"/>
            <a:ext cx="203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840" y="833040"/>
            <a:ext cx="7783920" cy="10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O QUE DEVE SER ANOTADO NO LIVRO DE ORDE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71640" y="2276280"/>
            <a:ext cx="7261200" cy="36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76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6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O responsável técnico deverá registrar </a:t>
            </a:r>
            <a:r>
              <a:rPr b="1" i="1" lang="pt-BR" sz="3200" spc="-1" strike="noStrike">
                <a:solidFill>
                  <a:srgbClr val="003366"/>
                </a:solidFill>
                <a:latin typeface="Arial"/>
              </a:rPr>
              <a:t>TODAS</a:t>
            </a: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as ocorrências relevantes: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6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76840" indent="-276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3366"/>
                </a:solidFill>
                <a:latin typeface="Arial"/>
              </a:rPr>
              <a:t>Dados do empreendimento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6840" indent="-276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3366"/>
                </a:solidFill>
                <a:latin typeface="Arial"/>
              </a:rPr>
              <a:t>Datas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6840" indent="-276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3366"/>
                </a:solidFill>
                <a:latin typeface="Arial"/>
              </a:rPr>
              <a:t>Orientações dadas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6840" indent="-276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3366"/>
                </a:solidFill>
                <a:latin typeface="Arial"/>
              </a:rPr>
              <a:t>Acidentes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6840" indent="-276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3366"/>
                </a:solidFill>
                <a:latin typeface="Arial"/>
              </a:rPr>
              <a:t>Receitas agronômicas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840" y="833040"/>
            <a:ext cx="7783920" cy="10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QUEM DEVE ASSINAR O LIVRO DE ORDE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71640" y="2276280"/>
            <a:ext cx="7261200" cy="36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O PROFISSIONAL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O ORIENTADO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PROPRIETÁRIO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840" y="833040"/>
            <a:ext cx="7783920" cy="10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 Black"/>
              </a:rPr>
              <a:t>ONDE DEVE FICAR O LIVRO DE ORDE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00000" y="2491920"/>
            <a:ext cx="77868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Deverá ser mantido </a:t>
            </a:r>
            <a:r>
              <a:rPr b="1" i="1" lang="pt-BR" sz="4400" spc="-1" strike="noStrike">
                <a:solidFill>
                  <a:srgbClr val="003366"/>
                </a:solidFill>
                <a:latin typeface="Arial"/>
              </a:rPr>
              <a:t>PERMANENTEMENT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1896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no local da atividade durante o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1896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tempo de duração dos trabalho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6:18:24Z</dcterms:created>
  <dc:creator>crea</dc:creator>
  <dc:description/>
  <dc:language>en-US</dc:language>
  <cp:lastModifiedBy>Usuario</cp:lastModifiedBy>
  <dcterms:modified xsi:type="dcterms:W3CDTF">2012-04-18T17:36:27Z</dcterms:modified>
  <cp:revision>157</cp:revision>
  <dc:subject/>
  <dc:title>UGI  NORTE     GRE-5</dc:title>
</cp:coreProperties>
</file>