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C8B-8FFF-42C6-9583-188A2541E8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CDC-C3A9-42B1-8467-B2D934D82ED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F95-7EEE-4EA7-A789-15549AA6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073-87BF-49E9-B5A6-B1C2FC0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2BD-F474-495D-AFC8-E1F9BAF1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F24-8E62-438E-BB39-B64F10F4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342-AC37-497F-88CA-9E98B6BC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168-BF39-4D06-BEDC-A39D3E7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58F-0CBE-49BD-86BB-207D5EA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F00-2724-4CD0-A8E8-E3753DD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BCD-60B8-4896-A6B7-E87046E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D42-5367-4238-8398-AEBBE62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ABB-3C2E-44E2-A0F5-A9CA5D6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02C-71AA-4D7C-ADE9-0E4AB80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D30E-F056-49FB-A44D-018EEED5FD98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luciana.ferrer3638@creasp.org.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3284640"/>
            <a:ext cx="7445520" cy="34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SOLUÇÃO Nº 1025/09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FEA</a:t>
            </a:r>
            <a:br>
              <a:rPr sz="4400"/>
            </a:b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spõe sobre a Anotação de Responsabilidade Técnica e o Acervo Técnico Profissiona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5"/>
          <p:cNvSpPr/>
          <p:nvPr/>
        </p:nvSpPr>
        <p:spPr>
          <a:xfrm>
            <a:off x="539640" y="69228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º Seminário de Integração de Inspetores e Corpo Gerencial do CREA-S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630680" cy="6553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300816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Nova ART padrão da Resolução 1025/09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3008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Em processo de implantação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BAIXA DA ART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Somente será concluída a participação do profissional em determinada atividade técnica a partir da data da baixa da ART correspondente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Não exime das responsabilidad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40" y="620280"/>
            <a:ext cx="88981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NCELAMENTO DA ART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nenhuma das atividades técnicas descritas na ART forem executadas.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o contrato não for executado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40" y="691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NULIDADE DA ART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Quando: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 – for verificada lacuna,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rr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u inexatidão insanáveis de qualquer dado da ART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 – for verificad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compatibilidad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entre as atividades desenvolvidas e as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tribuições 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profissionais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II – for verificado que o profissional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mprestou seu nome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a pessoas físicas ou jurídicas sem sua real participação. 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V – for caracterizada outra forma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exercício ilegal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profissã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 – for caracterizada a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apropri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e atividade técnica desenvolvida por outro profissional habilitado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VI – for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indeferid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o requerimento de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Calibri"/>
              </a:rPr>
              <a:t>regularização</a:t>
            </a: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 da obra ou serviço a ela relacionado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452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ART DE OBRA OU SERVIÇ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deve ser registrada antes do início da atividade técnica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s públicas pode ser registrada em até 10 dias após a liberação da O.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é vedado o registro de ART relativa à execução de obra ou serviço concluído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UBCONTRATAÇÃO-SUBEMPREITADA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inicialmente contratada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ve registrar ART de gestão, direção, supervisão, ou coordenação do serviço subcontratado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profissional da PJ subcontratada deve registrar ART relativa à atividade que lhe foi subcontratada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inculada à ART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de gestão, direção, supervisão, ou coordenação de seu contratante.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RECOLHIMENTO DA TAXA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o profissional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contratado como autônomo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for o proprietário do empreendiment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sabilidade da empresa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quando o profissional desenvolver atividades técnicas em nome da PJ com a qual mantenha vínculo.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RT DE CARGO OU FUNÇÃ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O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vínculo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 para desempenho de cargo ou função técnica, tanto com pessoa jurídica de direito público ou privado,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Calibri"/>
              </a:rPr>
              <a:t>obriga 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notação de responsabilidade técnica no Crea-SP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lteração do cargo, da função ou da circunscrição onde for exercida a atividade obriga ao registro de nova AR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OLUÇÃO 1033/1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É vedado o registro da ART de cargo ou função extinta ou obra serviço concluído após de 31/12/11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ACERVO TÉCNICO PROFISSIONAL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É o conjunto das atividades desenvolvidas ao longo da vida do profissional compatíveis com suas atribuições e registradas no Crea por meio de anotações de responsabilidade técnic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REGISTRO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BAIXA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CANCELAMENTO 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ANULAÇÃO DA ART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REGISTRO DO ATESTADO E </a:t>
            </a: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 - EMISSÃO DE CAT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3" name="CaixaDeTexto 1"/>
          <p:cNvSpPr/>
          <p:nvPr/>
        </p:nvSpPr>
        <p:spPr>
          <a:xfrm>
            <a:off x="971640" y="981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ROCEDIMENTOS PA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TÉCNICO OPERACION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Lei 8666/93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rt. 30.  § 1º A comprovação de aptidão no caso de licitações pertinentes a obras e serviços, será feita por atestados fornecidos por pessoas jurídicas de direito público ou privado, devidamente certificados pela entidade profissional competen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9840" y="6336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CAPACIDADE  TÉCNICO-PROFISSIONAL </a:t>
            </a: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DA PESSOA JURÍDICA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- representada pelo conjunto dos acervos técnicos dos profissionais integrantes de seu quadro técnic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MISSÃO  CERTIDÃO DE ACERVO TÉCNICO 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A CAT é o instrumento que certifica, para os efeitos legais, que consta dos assentamentos do Crea a ART pelas atividades consignadas no acervo técnico do profissional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0088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GISTRO DE ATESTADO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alibri"/>
              </a:rPr>
              <a:t>Será efetivado por meio de sua vinculação à CAT, que especificará somente as ARTs a ele correspondent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3938400" cy="5937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3008520" cy="20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MODELO DA NOVA C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3008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Resolução 1025/09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Confe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SUPERINTENDÊNCIA DE FISCALIZAÇÃO</a:t>
            </a:r>
            <a:br>
              <a:rPr sz="3200"/>
            </a:br>
            <a:br>
              <a:rPr sz="32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Geol. Luciana M. Ferrer</a:t>
            </a:r>
            <a:br>
              <a:rPr sz="28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PARTAMENTO DE REGISTRO</a:t>
            </a:r>
            <a:br>
              <a:rPr sz="3200"/>
            </a:br>
            <a:br>
              <a:rPr sz="3200"/>
            </a:b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uciana.ferrer3638@creasp.org.br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16720" cy="534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259920"/>
            <a:ext cx="8969400" cy="62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Lei 6496/77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rt. 1º Todo contrato, escrito ou verbal, para a execução de obras ou prestação de quaisquer serviços profissionais referentes à Engenharia, à Arquitetura e à Agronomia fica sujeito à "Anotação de Responsabilidade Técnica" (ART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9074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66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FINALIDADES da AR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Documento que tem fé pública, válido como garantia dos serviços prestado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mprescindível para emissão da CAT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Limita a responsabilidade entre as partes e garante os direitos autorais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Instrumento para fiscalizaçã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TIPOS DE ART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(relativa à execução de obras ou prestação de serviços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obra ou serviço de rotina (ART múltipla)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cargo ou função(relativa ao vínculo com pessoa jurídica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PARTICIPAÇÃO TÉCNICA</a:t>
            </a:r>
            <a:br>
              <a:rPr sz="44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individual (único profissional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autoria (atividade intelectual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corresponsabilidade (atividade executiva - mesma competência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- ART de equipe (atividade Multidisciplinar).</a:t>
            </a:r>
            <a:br>
              <a:rPr sz="2500"/>
            </a:br>
            <a:br>
              <a:rPr sz="2500"/>
            </a:b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59040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FORMA DE REGISTR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inicial (Responsável Técnico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complementar (vinculada a ART inicial do mesmo profissional - complementa dados)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- ART de substituição (vinculada a ART inicial do mesmo profissional - substitui dado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6600" y="28440"/>
            <a:ext cx="2124000" cy="4320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356000" y="28440"/>
            <a:ext cx="4310280" cy="303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344840" y="3073320"/>
            <a:ext cx="4321440" cy="3538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3672000" cy="13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ART on-l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Disponível atualmente no site do CREA-S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alibri"/>
              </a:rPr>
              <a:t>www.creasp.org.br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Serviços On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RT Online / Preenchimento de 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1:27:51Z</dcterms:created>
  <dc:creator>usuariosuprin</dc:creator>
  <dc:description/>
  <dc:language>en-US</dc:language>
  <cp:lastModifiedBy>usuario</cp:lastModifiedBy>
  <dcterms:modified xsi:type="dcterms:W3CDTF">2012-04-19T16:34:18Z</dcterms:modified>
  <cp:revision>160</cp:revision>
  <dc:subject/>
  <dc:title>Apresentação do PowerPoint</dc:title>
</cp:coreProperties>
</file>