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</p:sldIdLst>
  <p:sldSz cx="9144000" cy="6858000"/>
  <p:notesSz cx="6800850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68004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4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body"/>
          </p:nvPr>
        </p:nvSpPr>
        <p:spPr>
          <a:xfrm>
            <a:off x="679320" y="4717800"/>
            <a:ext cx="544032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ftr" idx="5"/>
          </p:nvPr>
        </p:nvSpPr>
        <p:spPr>
          <a:xfrm>
            <a:off x="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 type="sldNum" idx="6"/>
          </p:nvPr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D7443-D0F2-4CFB-8304-1FC102977F79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12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6680"/>
                <a:tab algn="l" pos="8535960"/>
                <a:tab algn="l" pos="8985240"/>
                <a:tab algn="l" pos="9144000"/>
                <a:tab algn="l" pos="10058400"/>
              </a:tabLst>
            </a:pPr>
            <a:fld id="{53A731A9-58BD-412B-8B49-F9A9A5CD20A9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1"/>
          <p:cNvSpPr/>
          <p:nvPr/>
        </p:nvSpPr>
        <p:spPr>
          <a:xfrm>
            <a:off x="1131840" y="744480"/>
            <a:ext cx="4532400" cy="3724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body"/>
          </p:nvPr>
        </p:nvSpPr>
        <p:spPr>
          <a:xfrm>
            <a:off x="906120" y="4716360"/>
            <a:ext cx="497844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12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6680"/>
                <a:tab algn="l" pos="8535960"/>
                <a:tab algn="l" pos="8985240"/>
                <a:tab algn="l" pos="9144000"/>
                <a:tab algn="l" pos="10058400"/>
              </a:tabLst>
            </a:pPr>
            <a:fld id="{630B03EE-C50C-4EB8-A2C1-55ACB0624FA4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1"/>
          <p:cNvSpPr/>
          <p:nvPr/>
        </p:nvSpPr>
        <p:spPr>
          <a:xfrm>
            <a:off x="1131840" y="744480"/>
            <a:ext cx="4532400" cy="3724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906120" y="4716360"/>
            <a:ext cx="497844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12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6680"/>
                <a:tab algn="l" pos="8535960"/>
                <a:tab algn="l" pos="8985240"/>
                <a:tab algn="l" pos="9144000"/>
                <a:tab algn="l" pos="10058400"/>
              </a:tabLst>
            </a:pPr>
            <a:fld id="{D2E8CF42-345F-4A20-9E4B-F711EF3305D9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1"/>
          <p:cNvSpPr/>
          <p:nvPr/>
        </p:nvSpPr>
        <p:spPr>
          <a:xfrm>
            <a:off x="1133640" y="744480"/>
            <a:ext cx="4528800" cy="3724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906120" y="4716360"/>
            <a:ext cx="497844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12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6680"/>
                <a:tab algn="l" pos="8535960"/>
                <a:tab algn="l" pos="8985240"/>
                <a:tab algn="l" pos="9144000"/>
                <a:tab algn="l" pos="10058400"/>
              </a:tabLst>
            </a:pPr>
            <a:fld id="{524CB0F6-6706-4E97-B4AB-E7F38F00BB53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"/>
          <p:cNvSpPr/>
          <p:nvPr/>
        </p:nvSpPr>
        <p:spPr>
          <a:xfrm>
            <a:off x="1133640" y="744480"/>
            <a:ext cx="4528800" cy="3724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906120" y="4716360"/>
            <a:ext cx="497844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2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6680"/>
                <a:tab algn="l" pos="8535960"/>
                <a:tab algn="l" pos="8985240"/>
                <a:tab algn="l" pos="9144000"/>
                <a:tab algn="l" pos="10058400"/>
              </a:tabLst>
            </a:pPr>
            <a:fld id="{EB24DB07-B211-4832-B9E6-AA1D7CE57A86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1"/>
          <p:cNvSpPr/>
          <p:nvPr/>
        </p:nvSpPr>
        <p:spPr>
          <a:xfrm>
            <a:off x="1133640" y="744480"/>
            <a:ext cx="4528800" cy="3724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body"/>
          </p:nvPr>
        </p:nvSpPr>
        <p:spPr>
          <a:xfrm>
            <a:off x="906120" y="4716360"/>
            <a:ext cx="497844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12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6680"/>
                <a:tab algn="l" pos="8535960"/>
                <a:tab algn="l" pos="8985240"/>
                <a:tab algn="l" pos="9144000"/>
                <a:tab algn="l" pos="10058400"/>
              </a:tabLst>
            </a:pPr>
            <a:fld id="{31459A40-E286-47EB-A1CB-F862970C05DE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1"/>
          <p:cNvSpPr/>
          <p:nvPr/>
        </p:nvSpPr>
        <p:spPr>
          <a:xfrm>
            <a:off x="1133640" y="744480"/>
            <a:ext cx="4528800" cy="3724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906120" y="4716360"/>
            <a:ext cx="497844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12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6680"/>
                <a:tab algn="l" pos="8535960"/>
                <a:tab algn="l" pos="8985240"/>
                <a:tab algn="l" pos="9144000"/>
                <a:tab algn="l" pos="10058400"/>
              </a:tabLst>
            </a:pPr>
            <a:fld id="{37CDE8C8-7555-4BCA-B54B-791C89A6CCDC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"/>
          <p:cNvSpPr/>
          <p:nvPr/>
        </p:nvSpPr>
        <p:spPr>
          <a:xfrm>
            <a:off x="1133640" y="744480"/>
            <a:ext cx="4528800" cy="3724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body"/>
          </p:nvPr>
        </p:nvSpPr>
        <p:spPr>
          <a:xfrm>
            <a:off x="906120" y="4716360"/>
            <a:ext cx="497844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12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6680"/>
                <a:tab algn="l" pos="8535960"/>
                <a:tab algn="l" pos="8985240"/>
                <a:tab algn="l" pos="9144000"/>
                <a:tab algn="l" pos="10058400"/>
              </a:tabLst>
            </a:pPr>
            <a:fld id="{9DB6F8F9-37E6-4D84-B770-E2476A9A298C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1"/>
          <p:cNvSpPr/>
          <p:nvPr/>
        </p:nvSpPr>
        <p:spPr>
          <a:xfrm>
            <a:off x="1133640" y="744480"/>
            <a:ext cx="4528800" cy="3724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body"/>
          </p:nvPr>
        </p:nvSpPr>
        <p:spPr>
          <a:xfrm>
            <a:off x="906120" y="4716360"/>
            <a:ext cx="497844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12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6680"/>
                <a:tab algn="l" pos="8535960"/>
                <a:tab algn="l" pos="8985240"/>
                <a:tab algn="l" pos="9144000"/>
                <a:tab algn="l" pos="10058400"/>
              </a:tabLst>
            </a:pPr>
            <a:fld id="{6F2DE560-E608-419E-9C6C-6129F85E936B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06120" y="4716360"/>
            <a:ext cx="497844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12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6680"/>
                <a:tab algn="l" pos="8535960"/>
                <a:tab algn="l" pos="8985240"/>
                <a:tab algn="l" pos="9144000"/>
                <a:tab algn="l" pos="10058400"/>
              </a:tabLst>
            </a:pPr>
            <a:fld id="{B3FC08C3-1663-4796-869B-29A400DC01BE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"/>
          <p:cNvSpPr/>
          <p:nvPr/>
        </p:nvSpPr>
        <p:spPr>
          <a:xfrm>
            <a:off x="1133640" y="744480"/>
            <a:ext cx="4528800" cy="3724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06120" y="4716360"/>
            <a:ext cx="497844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12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6680"/>
                <a:tab algn="l" pos="8535960"/>
                <a:tab algn="l" pos="8985240"/>
                <a:tab algn="l" pos="9144000"/>
                <a:tab algn="l" pos="10058400"/>
              </a:tabLst>
            </a:pPr>
            <a:fld id="{BA2B120E-AA8F-407A-8282-13D8304C9F70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1"/>
          <p:cNvSpPr/>
          <p:nvPr/>
        </p:nvSpPr>
        <p:spPr>
          <a:xfrm>
            <a:off x="1133640" y="744480"/>
            <a:ext cx="4528800" cy="3724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body"/>
          </p:nvPr>
        </p:nvSpPr>
        <p:spPr>
          <a:xfrm>
            <a:off x="906120" y="4716360"/>
            <a:ext cx="497844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12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6680"/>
                <a:tab algn="l" pos="8535960"/>
                <a:tab algn="l" pos="8985240"/>
                <a:tab algn="l" pos="9144000"/>
                <a:tab algn="l" pos="10058400"/>
              </a:tabLst>
            </a:pPr>
            <a:fld id="{DF164E6C-93F8-42A2-AD7F-DEA04A986C51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06120" y="4716360"/>
            <a:ext cx="497844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12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6680"/>
                <a:tab algn="l" pos="8535960"/>
                <a:tab algn="l" pos="8985240"/>
                <a:tab algn="l" pos="9144000"/>
                <a:tab algn="l" pos="10058400"/>
              </a:tabLst>
            </a:pPr>
            <a:fld id="{4A1135AB-924F-4A1D-8D3B-EAB2B2F7C458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1"/>
          <p:cNvSpPr/>
          <p:nvPr/>
        </p:nvSpPr>
        <p:spPr>
          <a:xfrm>
            <a:off x="1131840" y="744480"/>
            <a:ext cx="4532400" cy="3724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body"/>
          </p:nvPr>
        </p:nvSpPr>
        <p:spPr>
          <a:xfrm>
            <a:off x="906120" y="4716360"/>
            <a:ext cx="497844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12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6680"/>
                <a:tab algn="l" pos="8535960"/>
                <a:tab algn="l" pos="8985240"/>
                <a:tab algn="l" pos="9144000"/>
                <a:tab algn="l" pos="10058400"/>
              </a:tabLst>
            </a:pPr>
            <a:fld id="{0EAF3B29-3B88-43D8-8F22-BDF8BA04D35E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"/>
          <p:cNvSpPr/>
          <p:nvPr/>
        </p:nvSpPr>
        <p:spPr>
          <a:xfrm>
            <a:off x="1131840" y="744480"/>
            <a:ext cx="4532400" cy="3724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06120" y="4716360"/>
            <a:ext cx="497844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22AE5-3ED4-4E18-B573-022CFF9D1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EC5CA-277A-4F55-B710-218C41230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D7FDD-1D30-4742-9825-5A379A131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D9AD0-BADC-4919-A7E9-1FDAF9297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42D00-C465-4699-AE7F-E9F579EB8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EBC8F-5DD2-4E3F-B105-896C250DB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38AE6-C99A-411C-B487-0A6FDCD26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0C579-87C6-4793-8712-6B50A9165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0D6FF-4B11-4C92-BFB8-89EAD359D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FE771-DEE5-4C2A-9272-0B3B3CAE9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6E5A0-D17C-4AB4-B249-91021865F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1D605-93B5-48E3-A1D7-378D582AE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0" y="2649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13"/>
          <p:cNvSpPr/>
          <p:nvPr/>
        </p:nvSpPr>
        <p:spPr>
          <a:xfrm>
            <a:off x="0" y="2649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6" descr=""/>
          <p:cNvPicPr/>
          <p:nvPr/>
        </p:nvPicPr>
        <p:blipFill>
          <a:blip r:embed="rId2"/>
          <a:stretch/>
        </p:blipFill>
        <p:spPr>
          <a:xfrm>
            <a:off x="2517840" y="189000"/>
            <a:ext cx="4181400" cy="1704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Line 7"/>
          <p:cNvSpPr/>
          <p:nvPr/>
        </p:nvSpPr>
        <p:spPr>
          <a:xfrm>
            <a:off x="0" y="1557360"/>
            <a:ext cx="9144000" cy="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" name="Picture 4" descr=""/>
          <p:cNvPicPr/>
          <p:nvPr/>
        </p:nvPicPr>
        <p:blipFill>
          <a:blip r:embed="rId2"/>
          <a:stretch/>
        </p:blipFill>
        <p:spPr>
          <a:xfrm>
            <a:off x="2698920" y="69840"/>
            <a:ext cx="3511440" cy="143208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1B455-3F47-47FD-8A85-D1CA300F508F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"/>
          <p:cNvPicPr/>
          <p:nvPr/>
        </p:nvPicPr>
        <p:blipFill>
          <a:blip r:embed="rId1"/>
          <a:stretch/>
        </p:blipFill>
        <p:spPr>
          <a:xfrm>
            <a:off x="1022400" y="825480"/>
            <a:ext cx="7134120" cy="446400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10"/>
          <p:cNvSpPr/>
          <p:nvPr/>
        </p:nvSpPr>
        <p:spPr>
          <a:xfrm>
            <a:off x="395280" y="5732640"/>
            <a:ext cx="8388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SUPERINTENDÊNCIA DE FISCALIZAÇÃO - SUPF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DEPARTAMENTO DE RELAÇÕES INSTITUCIONAIS -D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1"/>
          <p:cNvSpPr/>
          <p:nvPr/>
        </p:nvSpPr>
        <p:spPr>
          <a:xfrm>
            <a:off x="152280" y="1700280"/>
            <a:ext cx="8883720" cy="463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2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COMPETÊNCI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2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  <a:ea typeface="Arial"/>
              </a:rPr>
              <a:t>INSPETOR ESPECIAL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Arial"/>
                <a:ea typeface="Arial"/>
              </a:rPr>
              <a:t>(§ 2º do A</a:t>
            </a:r>
            <a:r>
              <a:rPr b="1" lang="en-GB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rt. 17)</a:t>
            </a:r>
            <a:r>
              <a:rPr b="1" lang="en-GB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‏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21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Incisos I a XI do Regulament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VII-agir com imparcialidade e transparência nas ações referentes à fiscalização das profissões abrangidas pelo Sistema CONFEA/CRE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I-comparecer às reuniões quando convocado formalment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1"/>
          <p:cNvSpPr/>
          <p:nvPr/>
        </p:nvSpPr>
        <p:spPr>
          <a:xfrm>
            <a:off x="135000" y="1628640"/>
            <a:ext cx="8901000" cy="372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OMPETÊ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INSPETOR CHEFE, INSPETOR E INSPETOR ESPE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Arial"/>
                <a:ea typeface="Arial"/>
              </a:rPr>
              <a:t>(A</a:t>
            </a:r>
            <a:r>
              <a:rPr b="1" lang="en-GB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rt. 17)</a:t>
            </a:r>
            <a:r>
              <a:rPr b="1" lang="en-GB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‏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21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Incisos I a XXIX do Regulament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VIII-comunicar ao Gerente Regional ou ao Chefe da Unidade de Gestão da Inspetoria de sua jurisdição qualquer irregularidade inerente ao exercício das profissões abrangidas pelo Sistema CONFEA/CRE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1"/>
          <p:cNvSpPr/>
          <p:nvPr/>
        </p:nvSpPr>
        <p:spPr>
          <a:xfrm>
            <a:off x="380880" y="1628640"/>
            <a:ext cx="8467920" cy="499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Lucida Sans Unicode"/>
              </a:rPr>
              <a:t>O INSPETOR E A CÂMARA ESPECIALIZA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As Câmaras Especializadas têm a atribuição legal de produzir as normas  e plano de fiscalização de suas respectivas modalidad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1"/>
          <p:cNvSpPr/>
          <p:nvPr/>
        </p:nvSpPr>
        <p:spPr>
          <a:xfrm>
            <a:off x="380880" y="1628640"/>
            <a:ext cx="8467920" cy="499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Lucida Sans Unicode"/>
              </a:rPr>
              <a:t>O INSPETOR E A CÂMARA ESPECIALIZA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O Inspetor, como auxiliar da Câmara Eapecializada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para maior eficiência da  fiscalização do CREA-SP,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em conformidade com o disposto no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art. 34, alínea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l,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da Lei nº 5.194, de 1966 (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l-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criar inspetorias e nomear inspetores especiais para maior eficiência da fiscalização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, vincula-se normativamente com a Câmara Especializada de sua modalidade profission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108000" y="1628640"/>
            <a:ext cx="8856720" cy="51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Por ser o CREA um órgão público e o Inspetor uma função pública prevista em lei, sua função equipara-se à de um Agente Público, tanto em direitos quanto em deveres e está sujeito às determinações e sanções legais aplicáveis ao funcionamento públic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CaixaDeTexto 2"/>
          <p:cNvSpPr/>
          <p:nvPr/>
        </p:nvSpPr>
        <p:spPr>
          <a:xfrm>
            <a:off x="250920" y="2016000"/>
            <a:ext cx="856908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O INSPETOR COMO FUNÇÃO PÚBL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1"/>
          <p:cNvSpPr/>
          <p:nvPr/>
        </p:nvSpPr>
        <p:spPr>
          <a:xfrm>
            <a:off x="108000" y="1628640"/>
            <a:ext cx="8856720" cy="51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CaixaDeTexto 2"/>
          <p:cNvSpPr/>
          <p:nvPr/>
        </p:nvSpPr>
        <p:spPr>
          <a:xfrm>
            <a:off x="264960" y="1773360"/>
            <a:ext cx="856944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O INSPETOR COMO FUNÇÃO PÚBL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5" descr=""/>
          <p:cNvPicPr/>
          <p:nvPr/>
        </p:nvPicPr>
        <p:blipFill>
          <a:blip r:embed="rId1"/>
          <a:stretch/>
        </p:blipFill>
        <p:spPr>
          <a:xfrm>
            <a:off x="276120" y="3068640"/>
            <a:ext cx="8591760" cy="2666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1"/>
          <p:cNvSpPr/>
          <p:nvPr/>
        </p:nvSpPr>
        <p:spPr>
          <a:xfrm>
            <a:off x="108000" y="1628640"/>
            <a:ext cx="8856720" cy="51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4" descr=""/>
          <p:cNvPicPr/>
          <p:nvPr/>
        </p:nvPicPr>
        <p:blipFill>
          <a:blip r:embed="rId1"/>
          <a:stretch/>
        </p:blipFill>
        <p:spPr>
          <a:xfrm>
            <a:off x="2340000" y="1598760"/>
            <a:ext cx="4029120" cy="5171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1"/>
          <p:cNvSpPr/>
          <p:nvPr/>
        </p:nvSpPr>
        <p:spPr>
          <a:xfrm>
            <a:off x="216000" y="2276640"/>
            <a:ext cx="8928000" cy="44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CAPÍTULO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Seção 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Da Natureza e Finalidade das Representaçõ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ART. 6. É composta por Inspetores Especiais, em conformidade com o disposto no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art. 34, alínea 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l,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da Lei nº 5.194,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de 1966, até o número de 02 (dois) Inspetores por município no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Estado de São Paulo, sendo dos Grupos da Engenharia e da Agronomia, regulamentados pela mencionada lei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CAPÍTULO 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Seção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Da Natureza e Finalidade da C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ART. 22 . A CAF é composta pelos Inspetores e por até 03 (três) Conselheiros pertencentes à mesma jurisdição da Inspetoria, todos nomeados pelo Presidente do CREASP e considerando membros da Comissão Auxiliar de Fiscalização – CAF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CaixaDeTexto 1"/>
          <p:cNvSpPr/>
          <p:nvPr/>
        </p:nvSpPr>
        <p:spPr>
          <a:xfrm>
            <a:off x="184320" y="1628640"/>
            <a:ext cx="860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RINCIPAIS ALTERAÇÕES NO REGULAMEN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10"/>
          <p:cNvSpPr/>
          <p:nvPr/>
        </p:nvSpPr>
        <p:spPr>
          <a:xfrm>
            <a:off x="250920" y="6292800"/>
            <a:ext cx="8677080" cy="3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http://www.creasp.org.br/institucional/inspetorias_inspet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3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8677080" cy="5832720"/>
          </a:xfrm>
          <a:prstGeom prst="rect">
            <a:avLst/>
          </a:prstGeom>
          <a:ln w="0">
            <a:noFill/>
          </a:ln>
        </p:spPr>
      </p:pic>
      <p:sp>
        <p:nvSpPr>
          <p:cNvPr id="162" name="Retângulo 1"/>
          <p:cNvSpPr/>
          <p:nvPr/>
        </p:nvSpPr>
        <p:spPr>
          <a:xfrm>
            <a:off x="2340000" y="4653000"/>
            <a:ext cx="1584360" cy="144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100" spc="-1" strike="noStrike">
                <a:solidFill>
                  <a:srgbClr val="000000"/>
                </a:solidFill>
                <a:latin typeface="Calibri"/>
              </a:rPr>
              <a:t>Inspetorias/ Inspetor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tângulo 2"/>
          <p:cNvSpPr/>
          <p:nvPr/>
        </p:nvSpPr>
        <p:spPr>
          <a:xfrm>
            <a:off x="2176560" y="2335320"/>
            <a:ext cx="934920" cy="144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100" spc="-1" strike="noStrike">
                <a:solidFill>
                  <a:srgbClr val="000000"/>
                </a:solidFill>
                <a:latin typeface="Calibri"/>
              </a:rPr>
              <a:t>INSTITUIÇÃ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2"/>
          <p:cNvSpPr/>
          <p:nvPr/>
        </p:nvSpPr>
        <p:spPr>
          <a:xfrm>
            <a:off x="108000" y="1844640"/>
            <a:ext cx="8928000" cy="48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  <a:ea typeface="Lucida Sans Unicode"/>
              </a:rPr>
              <a:t>SUPERINTENDÊCIA DE FISCALIZAÇÃ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  <a:ea typeface="Lucida Sans Unicode"/>
              </a:rPr>
              <a:t>SUPF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"/>
                <a:ea typeface="Lucida Sans Unicode"/>
              </a:rPr>
              <a:t>DEPARTAMENTO DE  RELAÇÕES INSTITUCIONAIS - DRI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Lucida Sans Unicode"/>
              </a:rPr>
              <a:t>inspetores@creasp.org.b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Lucida Sans Unicode"/>
              </a:rPr>
              <a:t>Gerência Nelson de Oliveira Sil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692000" y="1723680"/>
            <a:ext cx="5724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ENTIDADES DE CLAS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CaixaDeTexto 3"/>
          <p:cNvSpPr/>
          <p:nvPr/>
        </p:nvSpPr>
        <p:spPr>
          <a:xfrm>
            <a:off x="128520" y="2708280"/>
            <a:ext cx="4078440" cy="764280"/>
          </a:xfrm>
          <a:prstGeom prst="rect">
            <a:avLst/>
          </a:prstGeom>
          <a:solidFill>
            <a:srgbClr val="bfbf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REGISTRO E REVISÃO DE ENTIDADES DE CLAS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tângulo 10"/>
          <p:cNvSpPr/>
          <p:nvPr/>
        </p:nvSpPr>
        <p:spPr>
          <a:xfrm>
            <a:off x="4646520" y="5162040"/>
            <a:ext cx="4407120" cy="1099440"/>
          </a:xfrm>
          <a:prstGeom prst="rect">
            <a:avLst/>
          </a:prstGeom>
          <a:solidFill>
            <a:srgbClr val="bfbf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CONTRATOS DE PRESTAÇÃO DE SERVIÇOS E CESSÃO DE USO DE INSTALAÇÕ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CaixaDeTexto 9"/>
          <p:cNvSpPr/>
          <p:nvPr/>
        </p:nvSpPr>
        <p:spPr>
          <a:xfrm>
            <a:off x="3203640" y="3722760"/>
            <a:ext cx="2448000" cy="1099440"/>
          </a:xfrm>
          <a:prstGeom prst="rect">
            <a:avLst/>
          </a:prstGeom>
          <a:solidFill>
            <a:srgbClr val="d9d9d9"/>
          </a:solidFill>
          <a:ln w="19080">
            <a:solidFill>
              <a:srgbClr val="000000"/>
            </a:solidFill>
            <a:miter/>
          </a:ln>
          <a:effectLst>
            <a:outerShdw dist="50760" dir="5400000" blurRad="0" rotWithShape="0">
              <a:srgbClr val="b3b3b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REGISTRO DE TABELA DE HONORÁRI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4000" y="2708280"/>
            <a:ext cx="4132080" cy="122544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CONVÊNIOS ANOTAÇÃO DE RESPONSABILIDADE TÉCNICA – A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tângulo 13"/>
          <p:cNvSpPr/>
          <p:nvPr/>
        </p:nvSpPr>
        <p:spPr>
          <a:xfrm>
            <a:off x="4218120" y="4876920"/>
            <a:ext cx="4824360" cy="176976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CONTROLE DA EXECUÇÃO/PRESTAÇÃO DE CONTAS DE CONTRATOS E CONVÊNIOS COM ENTIDADES DE CLAS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tângulo 14"/>
          <p:cNvSpPr/>
          <p:nvPr/>
        </p:nvSpPr>
        <p:spPr>
          <a:xfrm>
            <a:off x="2771640" y="3860640"/>
            <a:ext cx="2646360" cy="1099440"/>
          </a:xfrm>
          <a:prstGeom prst="rect">
            <a:avLst/>
          </a:prstGeom>
          <a:solidFill>
            <a:srgbClr val="bfbfb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CONVÊNIOS INSTITUCIONAIS E DE BENEFÍCI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ítulo 2"/>
          <p:cNvSpPr/>
          <p:nvPr/>
        </p:nvSpPr>
        <p:spPr>
          <a:xfrm>
            <a:off x="1763640" y="1773360"/>
            <a:ext cx="572472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CONVÊNI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902960" y="1773360"/>
            <a:ext cx="5194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INSPETO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CaixaDeTexto 15"/>
          <p:cNvSpPr/>
          <p:nvPr/>
        </p:nvSpPr>
        <p:spPr>
          <a:xfrm>
            <a:off x="3780000" y="3687840"/>
            <a:ext cx="3313080" cy="100872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NOMEAÇ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CaixaDeTexto 16"/>
          <p:cNvSpPr/>
          <p:nvPr/>
        </p:nvSpPr>
        <p:spPr>
          <a:xfrm>
            <a:off x="1155600" y="2924280"/>
            <a:ext cx="2952720" cy="1008720"/>
          </a:xfrm>
          <a:prstGeom prst="rect">
            <a:avLst/>
          </a:prstGeom>
          <a:solidFill>
            <a:srgbClr val="bfbf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INDICAÇ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tângulo 1"/>
          <p:cNvSpPr/>
          <p:nvPr/>
        </p:nvSpPr>
        <p:spPr>
          <a:xfrm>
            <a:off x="6516720" y="4508640"/>
            <a:ext cx="2376360" cy="1313640"/>
          </a:xfrm>
          <a:prstGeom prst="rect">
            <a:avLst/>
          </a:prstGeom>
          <a:solidFill>
            <a:srgbClr val="bfbfb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SUPORTE ADMINISTRATI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1"/>
          <p:cNvSpPr/>
          <p:nvPr/>
        </p:nvSpPr>
        <p:spPr>
          <a:xfrm>
            <a:off x="179280" y="2924280"/>
            <a:ext cx="88567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ahoma"/>
              </a:rPr>
              <a:t>Representar o CREA-SP no município para o qual foi nomeado, para junto à comunidade, melhorar a eficiência das ações da fiscalização, em defesa do exercício profissional e da segurança da sociedad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CaixaDeTexto 2"/>
          <p:cNvSpPr/>
          <p:nvPr/>
        </p:nvSpPr>
        <p:spPr>
          <a:xfrm>
            <a:off x="2122560" y="1844640"/>
            <a:ext cx="49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SER INSPETOR É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1"/>
          <p:cNvSpPr/>
          <p:nvPr/>
        </p:nvSpPr>
        <p:spPr>
          <a:xfrm>
            <a:off x="412920" y="1628640"/>
            <a:ext cx="830556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INSPET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ahoma"/>
              </a:rPr>
              <a:t>(Art. 12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ahoma"/>
              </a:rPr>
              <a:t>O profissional nomeado deve estar  legalmente habilitado e em situação regular perante o CREA-SP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ahoma"/>
              </a:rPr>
              <a:t>(Art. 13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ahoma"/>
              </a:rPr>
              <a:t>O Inspetor deverá possuir domicílio no município para o qual foi indicado.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1"/>
          <p:cNvSpPr/>
          <p:nvPr/>
        </p:nvSpPr>
        <p:spPr>
          <a:xfrm>
            <a:off x="609480" y="1773360"/>
            <a:ext cx="815364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INSPET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ahoma"/>
              </a:rPr>
              <a:t>(Art. 10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Tahoma"/>
              </a:rPr>
              <a:t>“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Tahoma"/>
              </a:rPr>
              <a:t>O exercício da função de Inspetor é honorífico.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1"/>
          <p:cNvSpPr/>
          <p:nvPr/>
        </p:nvSpPr>
        <p:spPr>
          <a:xfrm>
            <a:off x="135000" y="1628640"/>
            <a:ext cx="8901000" cy="50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OMPETÊ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INSPETOR-CHE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(Art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 17)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21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Incisos I a XXIX do Regulament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-representar o Sistema CONFEA/CREA perante os profissionais, comunidade, órgãos públicos e municipais e entidades privadas, mediante nomeação do Presidente do CREA-S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VII-agir com imparcialidade e transparência nas ações referentes à fiscalização das profissões abrangidas pelo Sistema CONFEA/CRE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1"/>
          <p:cNvSpPr/>
          <p:nvPr/>
        </p:nvSpPr>
        <p:spPr>
          <a:xfrm>
            <a:off x="168120" y="1628640"/>
            <a:ext cx="8669520" cy="46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2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OMPETÊ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2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INSPET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Arial"/>
                <a:ea typeface="Arial"/>
              </a:rPr>
              <a:t>(§ 1º do A</a:t>
            </a:r>
            <a:r>
              <a:rPr b="1" lang="en-GB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rt. 17 do Regulamento)</a:t>
            </a:r>
            <a:r>
              <a:rPr b="1" lang="en-GB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‏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21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Incisos I a XVI do Regulament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V-reconhecer que, depois de indicado e nomeado, é membro efetivo da Comissão Auxiliar de Fiscalização-CAF de seu município para exercer as funções que competirem ao Inspeto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VI-emitir análise prévia e formalizar sugestão em processo encaminhado à CAF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6T15:38:28Z</dcterms:created>
  <dc:creator>usuario</dc:creator>
  <dc:description/>
  <dc:language>en-US</dc:language>
  <cp:lastModifiedBy>Usuario</cp:lastModifiedBy>
  <cp:lastPrinted>2012-03-23T14:44:36Z</cp:lastPrinted>
  <dcterms:modified xsi:type="dcterms:W3CDTF">2012-04-17T13:08:51Z</dcterms:modified>
  <cp:revision>517</cp:revision>
  <dc:subject/>
  <dc:title>PEGS</dc:title>
</cp:coreProperties>
</file>